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569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C5DD-3C05-4E01-B059-C83AFBA604AF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Kompliserar priori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Modellering: to-lag: komposisjon osv i lukka sløyfe, meir kontrollert ste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8E84-C420-45DD-89DF-5A17AFC6B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8920" y="385668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E442-C05F-4FD9-8E77-234DCA3C3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B318-FDDE-4096-B7FF-C6D988793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048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204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892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048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204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15B7-2306-4C5E-8693-0D057081C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920" y="271440"/>
            <a:ext cx="89661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1FBB-06EE-4792-A457-06F20FB1D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920" y="385668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048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2040" y="127944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92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048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2040" y="3856680"/>
            <a:ext cx="28868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3075-AE87-4B48-B4F3-850AFDD75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C0C2-76A1-4128-9EF3-BDD164A1F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C3A0-8DAC-4E5A-A3B3-306BD69DE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8920" y="271440"/>
            <a:ext cx="896616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0CE8-94C3-4664-AC7D-86E637CF7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7135-DB47-4E16-A9E5-D537A37D8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0" y="385668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3310-871A-42FA-9ACE-2DC053612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0" y="1279440"/>
            <a:ext cx="4375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8920" y="3856680"/>
            <a:ext cx="896616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4FE3-A2FF-4897-9ED9-7C085DB13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84008" r="22524" b="0"/>
          <a:stretch/>
        </p:blipFill>
        <p:spPr>
          <a:xfrm>
            <a:off x="88920" y="6392880"/>
            <a:ext cx="6946920" cy="360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34120" y="6394320"/>
            <a:ext cx="1920960" cy="3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2" marL="1049400" indent="-19224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3" marL="1523880" indent="-28404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4" marL="1911240" indent="-19656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5" marL="1911240" indent="-196560">
              <a:spcBef>
                <a:spcPts val="1250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6" marL="1911240" indent="-196560">
              <a:spcBef>
                <a:spcPts val="1250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88920" y="270000"/>
            <a:ext cx="8967600" cy="1440"/>
          </a:xfrm>
          <a:custGeom>
            <a:avLst/>
            <a:gdLst/>
            <a:ahLst/>
            <a:rect l="l" t="t" r="r" b="b"/>
            <a:pathLst>
              <a:path w="5994" h="1">
                <a:moveTo>
                  <a:pt x="0" y="0"/>
                </a:moveTo>
                <a:lnTo>
                  <a:pt x="5994" y="0"/>
                </a:lnTo>
              </a:path>
            </a:pathLst>
          </a:custGeom>
          <a:solidFill>
            <a:srgbClr val="ed8000"/>
          </a:solidFill>
          <a:ln w="9360">
            <a:solidFill>
              <a:srgbClr val="ed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8920" y="5852880"/>
            <a:ext cx="7596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569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99560" y="0"/>
            <a:ext cx="10555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78C-75E7-49CB-ADAE-A308B8A2CD70}" type="slidenum">
              <a:rPr b="0" lang="en-GB" sz="1000" spc="-1" strike="noStrike">
                <a:solidFill>
                  <a:srgbClr val="00256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8920" y="272520"/>
            <a:ext cx="8966160" cy="1435320"/>
          </a:xfrm>
          <a:prstGeom prst="rect">
            <a:avLst/>
          </a:prstGeom>
          <a:noFill/>
          <a:ln w="0">
            <a:noFill/>
          </a:ln>
        </p:spPr>
        <p:txBody>
          <a:bodyPr lIns="27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569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3429000"/>
            <a:ext cx="89661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920" y="4503600"/>
            <a:ext cx="8966160" cy="224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134120" y="6394320"/>
            <a:ext cx="1920960" cy="358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282240" y="0"/>
            <a:ext cx="7629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8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2569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  <a:p>
            <a:pPr lvl="1" marL="37800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2" marL="857160" algn="ctr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3" marL="1239840" algn="ctr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4" marL="1714680" algn="ctr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5" marL="1714680"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6" marL="1714680"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8920" y="272520"/>
            <a:ext cx="8966160" cy="1435320"/>
          </a:xfrm>
          <a:prstGeom prst="rect">
            <a:avLst/>
          </a:prstGeom>
          <a:noFill/>
          <a:ln w="0">
            <a:noFill/>
          </a:ln>
        </p:spPr>
        <p:txBody>
          <a:bodyPr lIns="27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4000" spc="-1" strike="noStrike">
                <a:solidFill>
                  <a:srgbClr val="002569"/>
                </a:solidFill>
                <a:latin typeface="Verdana"/>
              </a:rPr>
              <a:t>Koordinator MPC med fokus på føde maksimalisering</a:t>
            </a:r>
            <a:endParaRPr b="1" lang="en-US" sz="4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8920" y="1708200"/>
            <a:ext cx="8966160" cy="190800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2569"/>
                </a:solidFill>
                <a:latin typeface="Verdana"/>
              </a:rPr>
              <a:t>Del av PhD arbeid med fokus på Kårstø anlegget</a:t>
            </a: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2569"/>
                </a:solidFill>
                <a:latin typeface="Verdana"/>
              </a:rPr>
              <a:t>Elvira Aske</a:t>
            </a: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Ny SEPTIC funksjon - CalcLpOp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Hentar info frå MPC applikasjonen, set det opp på forma (*) og løyser ved hjelp av Simplex algoritm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EPTIC Calc formulering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Alg=lpopt(ncv,nmv,CVRTAG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1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,...,CVRTAG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ncv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, MVRTAG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1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,..., MVRTAG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nmv, 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OBJFCOEFF_MVR1,...,OBJFCOEFF_MVRnmv)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Objekt funksjon = OBJFCOEFF_MVR1*MVR1+ ... +OBJFCOEFF_MVRnmv*MVRnmv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High/Low limit på CVR/MVR/DVR blir respekter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Algoritmen les Evr med id MVR1LPHI eller MVR1LPLO om dei eksisterar i staden for High/Low limi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Resultatet for kvar enkelt MVR/CVR blir skreve til Evr med id MVRiRES/CVRiRES om den eksister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Calc funksjonen returnerar maks verdien av objekt funksjon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8875800" cy="2847960"/>
            <a:chOff x="0" y="0"/>
            <a:chExt cx="8875800" cy="28479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745812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0" y="836640"/>
              <a:ext cx="7308720" cy="719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56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9320" y="404640"/>
              <a:ext cx="2076480" cy="396720"/>
            </a:xfrm>
            <a:prstGeom prst="rect">
              <a:avLst/>
            </a:prstGeom>
            <a:solidFill>
              <a:srgbClr val="d1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000" spc="-1" strike="noStrike">
                  <a:solidFill>
                    <a:srgbClr val="ed2f09"/>
                  </a:solidFill>
                  <a:latin typeface="Verdana"/>
                </a:rPr>
                <a:t>Calc funksjonen</a:t>
              </a:r>
              <a:endParaRPr b="0" lang="en-US" sz="2000" spc="-1" strike="noStrike">
                <a:solidFill>
                  <a:srgbClr val="002569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8440" y="1639800"/>
            <a:ext cx="9114840" cy="5136120"/>
            <a:chOff x="28440" y="1639800"/>
            <a:chExt cx="9114840" cy="5136120"/>
          </a:xfrm>
        </p:grpSpPr>
        <p:grpSp>
          <p:nvGrpSpPr>
            <p:cNvPr id="131" name=""/>
            <p:cNvGrpSpPr/>
            <p:nvPr/>
          </p:nvGrpSpPr>
          <p:grpSpPr>
            <a:xfrm>
              <a:off x="28440" y="1639800"/>
              <a:ext cx="9114840" cy="4715280"/>
              <a:chOff x="28440" y="1639800"/>
              <a:chExt cx="9114840" cy="4715280"/>
            </a:xfrm>
          </p:grpSpPr>
          <p:pic>
            <p:nvPicPr>
              <p:cNvPr id="1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40" y="1639800"/>
                <a:ext cx="9081000" cy="471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9108000" y="2003040"/>
                <a:ext cx="0" cy="430344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17480" y="2003040"/>
                <a:ext cx="3025800" cy="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04280" y="6306840"/>
                <a:ext cx="6016320" cy="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8440" y="2003040"/>
              <a:ext cx="7110000" cy="4772880"/>
              <a:chOff x="28440" y="2003040"/>
              <a:chExt cx="7110000" cy="4772880"/>
            </a:xfrm>
          </p:grpSpPr>
          <p:sp>
            <p:nvSpPr>
              <p:cNvPr id="137" name=""/>
              <p:cNvSpPr/>
              <p:nvPr/>
            </p:nvSpPr>
            <p:spPr>
              <a:xfrm>
                <a:off x="28440" y="2003040"/>
                <a:ext cx="6016680" cy="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440" y="6306480"/>
                <a:ext cx="3025800" cy="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440" y="2003040"/>
                <a:ext cx="0" cy="430344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45120" y="2003040"/>
                <a:ext cx="0" cy="167796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54240" y="3681000"/>
                <a:ext cx="0" cy="262512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54240" y="3681000"/>
                <a:ext cx="3025800" cy="0"/>
              </a:xfrm>
              <a:prstGeom prst="line">
                <a:avLst/>
              </a:prstGeom>
              <a:ln w="3816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1440" y="6379200"/>
                <a:ext cx="1459800" cy="396720"/>
              </a:xfrm>
              <a:prstGeom prst="rect">
                <a:avLst/>
              </a:prstGeom>
              <a:solidFill>
                <a:srgbClr val="d1d1c1"/>
              </a:solidFill>
              <a:ln w="28440">
                <a:solidFill>
                  <a:srgbClr val="4ead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569"/>
                    </a:solidFill>
                    <a:latin typeface="Verdana"/>
                  </a:rPr>
                  <a:t>Prosess</a:t>
                </a:r>
                <a:endParaRPr b="0" lang="en-US" sz="20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17480" y="2003040"/>
                <a:ext cx="0" cy="167796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10400" y="3737520"/>
                <a:ext cx="3026160" cy="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15440" y="3731040"/>
                <a:ext cx="0" cy="2625120"/>
              </a:xfrm>
              <a:prstGeom prst="line">
                <a:avLst/>
              </a:prstGeom>
              <a:ln w="3816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8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57040" y="6379200"/>
                <a:ext cx="3281400" cy="396720"/>
              </a:xfrm>
              <a:prstGeom prst="rect">
                <a:avLst/>
              </a:prstGeom>
              <a:solidFill>
                <a:srgbClr val="d1d1c1"/>
              </a:solidFill>
              <a:ln w="28440">
                <a:solidFill>
                  <a:srgbClr val="5921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000" spc="-1" strike="noStrike">
                    <a:solidFill>
                      <a:srgbClr val="002569"/>
                    </a:solidFill>
                    <a:latin typeface="Verdana"/>
                  </a:rPr>
                  <a:t>Resultat frå LpOpt</a:t>
                </a:r>
                <a:endParaRPr b="0" lang="en-US" sz="2000" spc="-1" strike="noStrike">
                  <a:solidFill>
                    <a:srgbClr val="00256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Virkemåte koordinator MPC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03280" y="1268280"/>
            <a:ext cx="36147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var lokale MPC rapporterar den tilgjenglege kapasitete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oordinator MPC har ein enkel lineær modell mellom MVR og dei lokale kapasitetane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Basert på tilbakekopling, koordinator MPC kan lokalisere flaksehalsen og ved å justere føderaten, maksimaliserar strømmingsraten ved flaskehalse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4071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Uttesting av koordinator MPC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oordinator MPC er utvikla med tanke på Kårstø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3 fødar til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leire crossover mellom ulike delar av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ny ekstraksjonsdel (KEP2005) som sender vidare til ulike fraksjoneringsto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tort fokus på gjennomstrømmin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ørste test: Dynamisk simulering av delar av Kårstø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Simuleringsstudie i D-SPICE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200520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Dynamisk simulator av heile Kårstø anlegget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SEPTIC OPC klient kopla til den innebygde OPC Serveren i D-SPICE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Lokal MPC og koordinator MPC er kopla til D-SPICE OPC Server på same måte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Variablar som sendast mellom lokal MPC og koordinator MPC via OPC Servere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35280" y="3429000"/>
            <a:ext cx="5398560" cy="2736360"/>
            <a:chOff x="1835280" y="3429000"/>
            <a:chExt cx="5398560" cy="27363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835280" y="3429000"/>
              <a:ext cx="5398560" cy="27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1913760" y="3472200"/>
              <a:ext cx="91332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795840" y="3517920"/>
              <a:ext cx="9126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5744880" y="3497760"/>
              <a:ext cx="913320" cy="57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Simulator case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52480" y="1384200"/>
            <a:ext cx="7439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Simulator case (2)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8920" y="2491920"/>
            <a:ext cx="8966160" cy="3721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Inkluderar 10 kolonne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7 av disse har MPC regulering i drift per i da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DPCUII og C1 kolonne er utelate pga simuleringstid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Illustrerande fordi det inkluderar 3 typar føde ratar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øde til eit to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øde splitta mellom to to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Crossover mellom to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3847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Simulator case (3)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8920" y="2491920"/>
            <a:ext cx="8966160" cy="3721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okale MPC’ane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PC regulering på alle kolonnane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PC struktur den same som i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odellar er derimot tilpassa simulator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Eksekvering kvart minut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Tilgjengeleg kapasitet berekna for kvar kolonne og sendt til koordinato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tatusen til den lokale MPC (av/på) sendt til koordinato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3847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Simulator case (4)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8920" y="1699920"/>
            <a:ext cx="8966160" cy="451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 fontScale="99000"/>
          </a:bodyPr>
          <a:p>
            <a:pPr marL="185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oordinator MPC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CVR: 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59880" indent="-28548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10 kolonne kapasitet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59880" indent="-28548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1 massebalanse (DPCUII –pga avgrensinga i simuleringa)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VR: 5 føde ratar (MVR)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apasitetsmålet går til ERROR om den lokale MPC’en skrus av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Eksekverar kvart 3 minut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Prioriterar dei ulike fødane ved hjelp av IVprio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Handterar endring i føderate (modellert)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Endring i fødekomposisjon er ikkje målt og må ta dette på tilbakekoplin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3847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Utfordringar koordinator MPC i drif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Psykologisk – la ein regulator styre føda og operatøren har ikkje lenger ”full kontroll” på denne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an møte nye avgrensingar når ein køyrer anlegget i nye operasjons område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age modell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ange forstyrringar frå føde til siste kolonne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gjev D-SPICE simulatoren eit godt utgangspunkt for modellane?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ette MVR og CVR grenser – særleg difftrykk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Hovudpunk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Problemstillin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va er koordinator MPC?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ormål 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virkemåte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Uttrykke kapasit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ormulerin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EPTIC calc funksjo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Simulator eksemp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Vidare arbeid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Vidare arbeid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Her: fokusert på destillasjonskolonne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va med kapasitetsmål i andre einingar med MPC regulering? (kompressorar, reaktorar osv)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va med meir komplekse kolonner?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Kor stort er tapet i den økonomiske funksjonen pga forenklinga ved føde maksimalisering?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Implementering på Kårstø (!?) 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Problemstilling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Real-time optimalisering (RTO) er typisk brukt til maksimalisering av økonomisk objekt funksjo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ykje og tidkrevjande modellering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Eksekvering opptrer typisk sjeldnare enn forstyrringar som flyttar det optimale punkt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orenkling - anlegg med relativt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ave føde kostnad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ave energi kostnad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Høge produkt prisar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i="1" lang="nn-NO" sz="20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gjennomstrømming er den viktigaste variabelen for økonomi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20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objekt funksjonen kan forenklast til: 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J = føde til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Ideen bak koordinator MPC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MPC i optimalisering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Bør ha ein LP eller QP objekt funksjon (lineær MPC)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an bli brukt når det </a:t>
            </a:r>
            <a:r>
              <a:rPr b="1" i="1" lang="nn-NO" sz="1800" spc="-1" strike="noStrike">
                <a:solidFill>
                  <a:srgbClr val="002569"/>
                </a:solidFill>
                <a:latin typeface="Verdana"/>
              </a:rPr>
              <a:t>optimale punktet er plassert på avgrensing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Treng smart dekomponering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Fordelar samanlikna med RTO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Mindre modell utvikling (ingen</a:t>
            </a:r>
            <a:r>
              <a:rPr b="1" i="1" lang="nn-NO" sz="1800" spc="-1" strike="noStrike">
                <a:solidFill>
                  <a:srgbClr val="002569"/>
                </a:solidFill>
                <a:latin typeface="Verdana"/>
              </a:rPr>
              <a:t> rigorøs</a:t>
            </a: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 modell utvikling)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ontinuerleg optimalisering med </a:t>
            </a:r>
            <a:r>
              <a:rPr b="1" i="1" lang="nn-NO" sz="1800" spc="-1" strike="noStrike">
                <a:solidFill>
                  <a:srgbClr val="002569"/>
                </a:solidFill>
                <a:latin typeface="Verdana"/>
              </a:rPr>
              <a:t>tilbakekopling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Raskare korreksjonar av forstyrringar, modellfeil og transient dynamikk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Ulemper samanlikna med RTO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Ikkje noko planleggings verktøy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9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Mogleg tap på grunn av forenkling i objekt funksjone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Koordinator MPC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560" y="1279440"/>
            <a:ext cx="44067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Ofte ikkje hensiktsmessig å samle alt i ein MPC applikasjo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stor og uoversiktleg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vanskelegare modellering og vedlikehald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0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vel heller å koordinere dei lokale MPC’ane 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Operere raskare enn RTO, typisk 3-5 gongar sample tida til dei lokale MPC’ane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Utfordring: sende tilstrekkeleg informasjon mellom laga i hierarkiet utan å sende all informasjon (smart dekomponering)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08440" y="1803240"/>
            <a:ext cx="4286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Føde maksimalisering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6160" cy="493380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orenkla objekt funksjon 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J = føde til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Dette krev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oversikt over kapasiteten i kvar enkelt del av anlegg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må finne eit uttrykk for denne kapasitet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okalisering av flaskehalsar og oppretthalde maksimum gjennomstrømming ved desse punkta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Utnytte den lokale MPC applikasjonen – den har den informasjonen som trengs!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Kolonne kapasite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8560" y="1279440"/>
            <a:ext cx="44067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or mykje føde kan kolonna ta i mot? 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kan uttrykkast som eit </a:t>
            </a:r>
            <a:r>
              <a:rPr b="1" lang="nn-NO" sz="1800" spc="-1" strike="noStrike">
                <a:solidFill>
                  <a:srgbClr val="002569"/>
                </a:solidFill>
                <a:latin typeface="Verdana"/>
              </a:rPr>
              <a:t>LP problem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Hentar info frå den lokale MPC applikasjonen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steady state verdien (getssval) for CVR og MVR for noverande tilstand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CVR og MVR grenser (eller spesifisert av brukar)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Utrekna i den lokale MPC’en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LP løysar implementert i SEPTIC - CalcLpOpt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650200" y="155736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CV:produkt kvalitetar,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diff trykk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9900"/>
                </a:solidFill>
                <a:latin typeface="Times New Roman"/>
              </a:rPr>
              <a:t>MV:refluks, kokin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921f7"/>
                </a:solidFill>
                <a:latin typeface="Times New Roman"/>
              </a:rPr>
              <a:t>DV:føde rat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419280" cy="2771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693040" y="1125360"/>
            <a:ext cx="217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Kapasitet gitt av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LP formulering – matematisk 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915080" cy="279720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Simplex algoritmen er på formen</a:t>
            </a:r>
            <a:r>
              <a:rPr b="0" lang="nn-NO" sz="1800" spc="-1" strike="noStrike" baseline="30000">
                <a:solidFill>
                  <a:srgbClr val="002569"/>
                </a:solidFill>
                <a:latin typeface="Verdana"/>
              </a:rPr>
              <a:t>1</a:t>
            </a: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36880" y="1125000"/>
            <a:ext cx="4406760" cy="230364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2569"/>
                </a:solidFill>
                <a:latin typeface="Verdana"/>
              </a:rPr>
              <a:t>Definerar x som vektor av MVR og DVR:</a:t>
            </a: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662200" cy="223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6165720"/>
            <a:ext cx="705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2569"/>
                </a:solidFill>
                <a:latin typeface="Verdana"/>
              </a:rPr>
              <a:t>1. Press et al. </a:t>
            </a:r>
            <a:r>
              <a:rPr b="0" i="1" lang="nb-NO" sz="1200" spc="-1" strike="noStrike">
                <a:solidFill>
                  <a:srgbClr val="002569"/>
                </a:solidFill>
                <a:latin typeface="Verdana"/>
              </a:rPr>
              <a:t>Numerical recipes in C. </a:t>
            </a:r>
            <a:r>
              <a:rPr b="0" lang="nb-NO" sz="1200" spc="-1" strike="noStrike">
                <a:solidFill>
                  <a:srgbClr val="002569"/>
                </a:solidFill>
                <a:latin typeface="Verdana"/>
              </a:rPr>
              <a:t>Cambridge University Press, 1992</a:t>
            </a:r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27640" y="1628640"/>
            <a:ext cx="1328760" cy="1657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88000" y="3357720"/>
            <a:ext cx="39067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rmAutofit/>
          </a:bodyPr>
          <a:p>
            <a:pPr marL="187200" indent="-187200">
              <a:lnSpc>
                <a:spcPct val="10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2569"/>
                </a:solidFill>
                <a:latin typeface="Verdana"/>
              </a:rPr>
              <a:t>Algoritmen krever positiv x, redefinerar derfor til X: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Bef>
                <a:spcPts val="1125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64000" y="4005360"/>
            <a:ext cx="2953080" cy="311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9280" y="4076640"/>
            <a:ext cx="671508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rmAutofit/>
          </a:bodyPr>
          <a:p>
            <a:pPr marL="187200" indent="-187200">
              <a:lnSpc>
                <a:spcPct val="100000"/>
              </a:lnSpc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2569"/>
                </a:solidFill>
                <a:latin typeface="Verdana"/>
              </a:rPr>
              <a:t>Modellmatrisa er på formen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55480" y="4564080"/>
            <a:ext cx="61786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8920" y="27144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2569"/>
                </a:solidFill>
                <a:latin typeface="Verdana"/>
              </a:rPr>
              <a:t>LP formulering – matematisk (2)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8920" y="1279440"/>
            <a:ext cx="896616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 fontScale="99000"/>
          </a:bodyPr>
          <a:p>
            <a:pPr marL="185040" indent="-18504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LP problemet blir då: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der 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c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er koeffisientane i objekt funksjonen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-185040">
              <a:spcBef>
                <a:spcPts val="125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Døme: Gitt X=[ Refluks, TC, kolonneføde]</a:t>
            </a:r>
            <a:r>
              <a:rPr b="0" lang="nn-NO" sz="2000" spc="-1" strike="noStrike" baseline="30000">
                <a:solidFill>
                  <a:srgbClr val="002569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For å maksimalisere føda gjev de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marL="185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	</a:t>
            </a:r>
            <a:r>
              <a:rPr b="0" i="1" lang="nn-NO" sz="2000" spc="-1" strike="noStrike">
                <a:solidFill>
                  <a:srgbClr val="002569"/>
                </a:solidFill>
                <a:latin typeface="Verdana"/>
              </a:rPr>
              <a:t>c</a:t>
            </a:r>
            <a:r>
              <a:rPr b="0" i="1" lang="nn-NO" sz="2000" spc="-1" strike="noStrike" baseline="30000">
                <a:solidFill>
                  <a:srgbClr val="002569"/>
                </a:solidFill>
                <a:latin typeface="Verdana"/>
              </a:rPr>
              <a:t>T</a:t>
            </a:r>
            <a:r>
              <a:rPr b="0" lang="nn-NO" sz="2000" spc="-1" strike="noStrike">
                <a:solidFill>
                  <a:srgbClr val="002569"/>
                </a:solidFill>
                <a:latin typeface="Verdana"/>
              </a:rPr>
              <a:t> = [ 0 0 1]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6453000" cy="2209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67640" y="2781360"/>
            <a:ext cx="72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(*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4:51:28Z</dcterms:created>
  <dc:creator>Aske, Elvira Marie B.</dc:creator>
  <dc:description/>
  <dc:language>en-US</dc:language>
  <cp:lastModifiedBy>Sigurd Skogestad</cp:lastModifiedBy>
  <dcterms:modified xsi:type="dcterms:W3CDTF">2006-10-02T07:52:26Z</dcterms:modified>
  <cp:revision>63</cp:revision>
  <dc:subject/>
  <dc:title>Koordinator MPC med fokus på føde maksimalisering</dc:title>
</cp:coreProperties>
</file>