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EE27-C6EC-4438-9836-419067843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9712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6480" y="3856680"/>
            <a:ext cx="9712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0B08-6E68-4AAA-BF28-B9188B345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6480" y="385668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3120" y="385668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C6E9C-FE7D-47A3-9677-20B837A8A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80400" y="127944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64680" y="127944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6480" y="385668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80400" y="385668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64680" y="385668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9293-CE50-4B68-971B-DFC919548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6480" y="1279440"/>
            <a:ext cx="9712440" cy="49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9712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6480" y="271440"/>
            <a:ext cx="971244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6480" y="385668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6480" y="1279440"/>
            <a:ext cx="9712440" cy="49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6735-0341-4CD0-8741-CC808B256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3120" y="385668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6480" y="3856680"/>
            <a:ext cx="9712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9712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6480" y="3856680"/>
            <a:ext cx="9712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6480" y="385668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3120" y="385668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0400" y="127944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64680" y="127944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6480" y="385668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0400" y="385668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64680" y="3856680"/>
            <a:ext cx="312732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9712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10944-225C-4C39-98DD-6CF06ED6E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04715-FB3A-49C5-B300-10373F74F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A1F2B-6541-4B85-8D3E-D8126B67A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6480" y="271440"/>
            <a:ext cx="971244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22223-0322-4DC8-AA6E-6C77ACC4B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6480" y="385668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2AF8-E857-4E21-B419-8B54FDACA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3120" y="385668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E34E-FE86-4C9A-9507-107F9C606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3120" y="1279440"/>
            <a:ext cx="473940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6480" y="3856680"/>
            <a:ext cx="9712440" cy="235332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E35F4-95F8-42CA-B71B-9DF11E48E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84008" r="22524" b="0"/>
          <a:stretch/>
        </p:blipFill>
        <p:spPr>
          <a:xfrm>
            <a:off x="96840" y="6392880"/>
            <a:ext cx="7524720" cy="360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729560" y="6394320"/>
            <a:ext cx="2079720" cy="35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6480" y="1279440"/>
            <a:ext cx="9712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lnSpc>
                <a:spcPct val="150000"/>
              </a:lnSpc>
              <a:spcBef>
                <a:spcPts val="49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1" marL="666720" indent="-288720">
              <a:lnSpc>
                <a:spcPct val="150000"/>
              </a:lnSpc>
              <a:spcBef>
                <a:spcPts val="499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2" marL="1049400" indent="-192240">
              <a:lnSpc>
                <a:spcPct val="150000"/>
              </a:lnSpc>
              <a:spcBef>
                <a:spcPts val="49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3" marL="1523880" indent="-284040">
              <a:lnSpc>
                <a:spcPct val="150000"/>
              </a:lnSpc>
              <a:spcBef>
                <a:spcPts val="499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4" marL="1911240" indent="-196560">
              <a:lnSpc>
                <a:spcPct val="150000"/>
              </a:lnSpc>
              <a:spcBef>
                <a:spcPts val="49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5" marL="1911240" indent="-196560">
              <a:lnSpc>
                <a:spcPct val="150000"/>
              </a:lnSpc>
              <a:spcBef>
                <a:spcPts val="499"/>
              </a:spcBef>
              <a:buClr>
                <a:srgbClr val="00256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6" marL="1911240" indent="-196560">
              <a:lnSpc>
                <a:spcPct val="150000"/>
              </a:lnSpc>
              <a:spcBef>
                <a:spcPts val="499"/>
              </a:spcBef>
              <a:buClr>
                <a:srgbClr val="00256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270000"/>
            <a:ext cx="9713880" cy="1440"/>
          </a:xfrm>
          <a:custGeom>
            <a:avLst/>
            <a:gdLst/>
            <a:ahLst/>
            <a:rect l="l" t="t" r="r" b="b"/>
            <a:pathLst>
              <a:path w="5994" h="1">
                <a:moveTo>
                  <a:pt x="0" y="0"/>
                </a:moveTo>
                <a:lnTo>
                  <a:pt x="5994" y="0"/>
                </a:lnTo>
              </a:path>
            </a:pathLst>
          </a:custGeom>
          <a:solidFill>
            <a:srgbClr val="ed8000"/>
          </a:solidFill>
          <a:ln w="9360">
            <a:solidFill>
              <a:srgbClr val="ed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96840" y="5852880"/>
            <a:ext cx="82281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256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69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665920" y="0"/>
            <a:ext cx="11430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256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DB31-D263-4E1A-9790-F28875F3395A}" type="slidenum">
              <a:rPr b="0" lang="en-US" sz="1000" spc="-1" strike="noStrike">
                <a:solidFill>
                  <a:srgbClr val="00256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675560" y="263520"/>
            <a:ext cx="213372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6480" y="272520"/>
            <a:ext cx="9712440" cy="1435320"/>
          </a:xfrm>
          <a:prstGeom prst="rect">
            <a:avLst/>
          </a:prstGeom>
          <a:noFill/>
          <a:ln w="0">
            <a:noFill/>
          </a:ln>
        </p:spPr>
        <p:txBody>
          <a:bodyPr lIns="270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569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96840" y="3429000"/>
            <a:ext cx="971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6840" y="4503600"/>
            <a:ext cx="9712440" cy="224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729560" y="6394320"/>
            <a:ext cx="2079720" cy="358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06000" y="0"/>
            <a:ext cx="82645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800" spc="-1" strike="noStrike">
                <a:solidFill>
                  <a:srgbClr val="00256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2569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675560" y="263520"/>
            <a:ext cx="2133720" cy="1031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2569"/>
              </a:solidFill>
              <a:latin typeface="Verdana"/>
            </a:endParaRPr>
          </a:p>
          <a:p>
            <a:pPr lvl="1" marL="378000" indent="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2" marL="857160" algn="ctr">
              <a:lnSpc>
                <a:spcPct val="150000"/>
              </a:lnSpc>
              <a:spcBef>
                <a:spcPts val="49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3" marL="1239840" algn="ctr">
              <a:lnSpc>
                <a:spcPct val="150000"/>
              </a:lnSpc>
              <a:spcBef>
                <a:spcPts val="499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4" marL="1714680" algn="ctr">
              <a:lnSpc>
                <a:spcPct val="150000"/>
              </a:lnSpc>
              <a:spcBef>
                <a:spcPts val="49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5" marL="1714680">
              <a:spcBef>
                <a:spcPts val="499"/>
              </a:spcBef>
              <a:buClr>
                <a:srgbClr val="00256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  <a:p>
            <a:pPr lvl="6" marL="1714680">
              <a:spcBef>
                <a:spcPts val="499"/>
              </a:spcBef>
              <a:buClr>
                <a:srgbClr val="00256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56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6480" y="1447560"/>
            <a:ext cx="9712440" cy="2825640"/>
          </a:xfrm>
          <a:prstGeom prst="rect">
            <a:avLst/>
          </a:prstGeom>
          <a:noFill/>
          <a:ln w="0">
            <a:noFill/>
          </a:ln>
        </p:spPr>
        <p:txBody>
          <a:bodyPr lIns="270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2569"/>
                </a:solidFill>
                <a:latin typeface="Verdana"/>
              </a:rPr>
              <a:t>MPC i Statoil</a:t>
            </a:r>
            <a:br>
              <a:rPr sz="3600"/>
            </a:br>
            <a:br>
              <a:rPr sz="3600"/>
            </a:br>
            <a:r>
              <a:rPr b="1" lang="nb-NO" sz="2000" spc="-1" strike="noStrike">
                <a:solidFill>
                  <a:srgbClr val="002569"/>
                </a:solidFill>
                <a:latin typeface="Verdana"/>
              </a:rPr>
              <a:t>Stig Strand, spesialist MPC</a:t>
            </a:r>
            <a:br>
              <a:rPr sz="2000"/>
            </a:br>
            <a:br>
              <a:rPr sz="2000"/>
            </a:br>
            <a:r>
              <a:rPr b="1" lang="nb-NO" sz="1400" spc="-1" strike="noStrike">
                <a:solidFill>
                  <a:srgbClr val="002569"/>
                </a:solidFill>
                <a:latin typeface="Verdana"/>
              </a:rPr>
              <a:t>Statoil Forskningssenter 93 </a:t>
            </a:r>
            <a:r>
              <a:rPr b="1" lang="nb-NO" sz="14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1" lang="nb-NO" sz="1400" spc="-1" strike="noStrike">
                <a:solidFill>
                  <a:srgbClr val="002569"/>
                </a:solidFill>
                <a:latin typeface="Verdana"/>
              </a:rPr>
              <a:t> </a:t>
            </a:r>
            <a:br>
              <a:rPr sz="1400"/>
            </a:br>
            <a:r>
              <a:rPr b="1" lang="nb-NO" sz="1400" spc="-1" strike="noStrike">
                <a:solidFill>
                  <a:srgbClr val="002569"/>
                </a:solidFill>
                <a:latin typeface="Verdana"/>
              </a:rPr>
              <a:t>SINTEF Reguleringsteknikk 91-93 </a:t>
            </a:r>
            <a:br>
              <a:rPr sz="1400"/>
            </a:br>
            <a:r>
              <a:rPr b="1" lang="nb-NO" sz="1400" spc="-1" strike="noStrike">
                <a:solidFill>
                  <a:srgbClr val="002569"/>
                </a:solidFill>
                <a:latin typeface="Verdana"/>
              </a:rPr>
              <a:t>Dr. ing 1991: Dynamic Optimisation in State Space Predictive Control Schemes</a:t>
            </a: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6480" y="1708200"/>
            <a:ext cx="9712440" cy="190800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Classification: Statoil internal                     Status: Draf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87640" y="69840"/>
            <a:ext cx="2775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1300" spc="-1" strike="noStrike">
                <a:solidFill>
                  <a:srgbClr val="002569"/>
                </a:solidFill>
                <a:latin typeface="Times New Roman"/>
              </a:rPr>
              <a:t>Depropaniser Train 100 – 24-VE-107</a:t>
            </a: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792520" y="1323720"/>
            <a:ext cx="820080" cy="4642920"/>
            <a:chOff x="2792520" y="1323720"/>
            <a:chExt cx="820080" cy="4642920"/>
          </a:xfrm>
        </p:grpSpPr>
        <p:grpSp>
          <p:nvGrpSpPr>
            <p:cNvPr id="614" name=""/>
            <p:cNvGrpSpPr/>
            <p:nvPr/>
          </p:nvGrpSpPr>
          <p:grpSpPr>
            <a:xfrm>
              <a:off x="2792520" y="1323720"/>
              <a:ext cx="820080" cy="4642920"/>
              <a:chOff x="2792520" y="1323720"/>
              <a:chExt cx="820080" cy="464292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891520" y="1323720"/>
                <a:ext cx="622080" cy="1625400"/>
                <a:chOff x="2891520" y="1323720"/>
                <a:chExt cx="622080" cy="1625400"/>
              </a:xfrm>
            </p:grpSpPr>
            <p:sp>
              <p:nvSpPr>
                <p:cNvPr id="616" name=""/>
                <p:cNvSpPr/>
                <p:nvPr/>
              </p:nvSpPr>
              <p:spPr>
                <a:xfrm rot="16200000">
                  <a:off x="2982960" y="1232280"/>
                  <a:ext cx="438120" cy="621000"/>
                </a:xfrm>
                <a:prstGeom prst="flowChartDelay">
                  <a:avLst/>
                </a:prstGeom>
                <a:noFill/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891520" y="1531440"/>
                  <a:ext cx="622080" cy="1417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792520" y="3254040"/>
                <a:ext cx="820080" cy="2712600"/>
                <a:chOff x="2792520" y="3254040"/>
                <a:chExt cx="820080" cy="2712600"/>
              </a:xfrm>
            </p:grpSpPr>
            <p:sp>
              <p:nvSpPr>
                <p:cNvPr id="619" name=""/>
                <p:cNvSpPr/>
                <p:nvPr/>
              </p:nvSpPr>
              <p:spPr>
                <a:xfrm flipV="1" rot="5400000">
                  <a:off x="2984040" y="5338080"/>
                  <a:ext cx="438480" cy="818640"/>
                </a:xfrm>
                <a:prstGeom prst="flowChartDelay">
                  <a:avLst/>
                </a:prstGeom>
                <a:noFill/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792520" y="3254040"/>
                  <a:ext cx="817920" cy="250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 flipH="1">
                <a:off x="2792520" y="2949480"/>
                <a:ext cx="100800" cy="304200"/>
              </a:xfrm>
              <a:prstGeom prst="line">
                <a:avLst/>
              </a:prstGeom>
              <a:ln w="1908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513600" y="2949480"/>
                <a:ext cx="97200" cy="304200"/>
              </a:xfrm>
              <a:prstGeom prst="line">
                <a:avLst/>
              </a:prstGeom>
              <a:ln w="1908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908080" y="2916000"/>
                <a:ext cx="588240" cy="61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817000" y="3251160"/>
                <a:ext cx="763920" cy="77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2961000" y="2628720"/>
              <a:ext cx="551160" cy="176760"/>
              <a:chOff x="2961000" y="2628720"/>
              <a:chExt cx="551160" cy="176760"/>
            </a:xfrm>
          </p:grpSpPr>
          <p:sp>
            <p:nvSpPr>
              <p:cNvPr id="626" name=""/>
              <p:cNvSpPr/>
              <p:nvPr/>
            </p:nvSpPr>
            <p:spPr>
              <a:xfrm>
                <a:off x="2961000" y="280296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65920" y="26287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1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870280" y="4346280"/>
              <a:ext cx="669600" cy="176760"/>
              <a:chOff x="2870280" y="4346280"/>
              <a:chExt cx="669600" cy="176760"/>
            </a:xfrm>
          </p:grpSpPr>
          <p:sp>
            <p:nvSpPr>
              <p:cNvPr id="629" name=""/>
              <p:cNvSpPr/>
              <p:nvPr/>
            </p:nvSpPr>
            <p:spPr>
              <a:xfrm>
                <a:off x="2870280" y="4520520"/>
                <a:ext cx="6696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297960" y="434628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2870280" y="4101840"/>
              <a:ext cx="669600" cy="176760"/>
              <a:chOff x="2870280" y="4101840"/>
              <a:chExt cx="669600" cy="176760"/>
            </a:xfrm>
          </p:grpSpPr>
          <p:sp>
            <p:nvSpPr>
              <p:cNvPr id="632" name=""/>
              <p:cNvSpPr/>
              <p:nvPr/>
            </p:nvSpPr>
            <p:spPr>
              <a:xfrm>
                <a:off x="2870280" y="4275720"/>
                <a:ext cx="6696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297960" y="410184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858760" y="3947760"/>
              <a:ext cx="667440" cy="176760"/>
              <a:chOff x="2858760" y="3947760"/>
              <a:chExt cx="667440" cy="176760"/>
            </a:xfrm>
          </p:grpSpPr>
          <p:sp>
            <p:nvSpPr>
              <p:cNvPr id="635" name=""/>
              <p:cNvSpPr/>
              <p:nvPr/>
            </p:nvSpPr>
            <p:spPr>
              <a:xfrm>
                <a:off x="2858760" y="4121640"/>
                <a:ext cx="6674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83560" y="394776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858760" y="3778200"/>
              <a:ext cx="671760" cy="176760"/>
              <a:chOff x="2858760" y="3778200"/>
              <a:chExt cx="671760" cy="176760"/>
            </a:xfrm>
          </p:grpSpPr>
          <p:sp>
            <p:nvSpPr>
              <p:cNvPr id="638" name=""/>
              <p:cNvSpPr/>
              <p:nvPr/>
            </p:nvSpPr>
            <p:spPr>
              <a:xfrm>
                <a:off x="2858760" y="3952080"/>
                <a:ext cx="6688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284280" y="37782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7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2856960" y="3242880"/>
              <a:ext cx="672480" cy="176760"/>
              <a:chOff x="2856960" y="3242880"/>
              <a:chExt cx="672480" cy="176760"/>
            </a:xfrm>
          </p:grpSpPr>
          <p:sp>
            <p:nvSpPr>
              <p:cNvPr id="641" name=""/>
              <p:cNvSpPr/>
              <p:nvPr/>
            </p:nvSpPr>
            <p:spPr>
              <a:xfrm>
                <a:off x="2856960" y="3413880"/>
                <a:ext cx="6692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83200" y="32428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0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2963160" y="2376360"/>
              <a:ext cx="550080" cy="176760"/>
              <a:chOff x="2963160" y="2376360"/>
              <a:chExt cx="550080" cy="176760"/>
            </a:xfrm>
          </p:grpSpPr>
          <p:sp>
            <p:nvSpPr>
              <p:cNvPr id="644" name=""/>
              <p:cNvSpPr/>
              <p:nvPr/>
            </p:nvSpPr>
            <p:spPr>
              <a:xfrm>
                <a:off x="2963160" y="255024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267000" y="237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3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964600" y="2234880"/>
              <a:ext cx="550080" cy="176760"/>
              <a:chOff x="2964600" y="2234880"/>
              <a:chExt cx="550080" cy="176760"/>
            </a:xfrm>
          </p:grpSpPr>
          <p:sp>
            <p:nvSpPr>
              <p:cNvPr id="647" name=""/>
              <p:cNvSpPr/>
              <p:nvPr/>
            </p:nvSpPr>
            <p:spPr>
              <a:xfrm>
                <a:off x="2964600" y="240912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68440" y="22348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2957760" y="1861920"/>
              <a:ext cx="550440" cy="176760"/>
              <a:chOff x="2957760" y="1861920"/>
              <a:chExt cx="550440" cy="176760"/>
            </a:xfrm>
          </p:grpSpPr>
          <p:sp>
            <p:nvSpPr>
              <p:cNvPr id="650" name=""/>
              <p:cNvSpPr/>
              <p:nvPr/>
            </p:nvSpPr>
            <p:spPr>
              <a:xfrm>
                <a:off x="2957760" y="2037600"/>
                <a:ext cx="476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261960" y="18619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9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2959560" y="1515960"/>
              <a:ext cx="552600" cy="176760"/>
              <a:chOff x="2959560" y="1515960"/>
              <a:chExt cx="552600" cy="176760"/>
            </a:xfrm>
          </p:grpSpPr>
          <p:sp>
            <p:nvSpPr>
              <p:cNvPr id="653" name=""/>
              <p:cNvSpPr/>
              <p:nvPr/>
            </p:nvSpPr>
            <p:spPr>
              <a:xfrm>
                <a:off x="2959560" y="1689840"/>
                <a:ext cx="47592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265920" y="15159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48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2959560" y="2097000"/>
              <a:ext cx="552600" cy="176760"/>
              <a:chOff x="2959560" y="2097000"/>
              <a:chExt cx="552600" cy="176760"/>
            </a:xfrm>
          </p:grpSpPr>
          <p:sp>
            <p:nvSpPr>
              <p:cNvPr id="656" name=""/>
              <p:cNvSpPr/>
              <p:nvPr/>
            </p:nvSpPr>
            <p:spPr>
              <a:xfrm>
                <a:off x="2959560" y="2269440"/>
                <a:ext cx="47592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65920" y="20970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952720" y="1661760"/>
              <a:ext cx="550080" cy="176760"/>
              <a:chOff x="2952720" y="1661760"/>
              <a:chExt cx="550080" cy="176760"/>
            </a:xfrm>
          </p:grpSpPr>
          <p:sp>
            <p:nvSpPr>
              <p:cNvPr id="659" name=""/>
              <p:cNvSpPr/>
              <p:nvPr/>
            </p:nvSpPr>
            <p:spPr>
              <a:xfrm>
                <a:off x="2952720" y="183420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56560" y="16617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40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2860200" y="3533400"/>
              <a:ext cx="672480" cy="176760"/>
              <a:chOff x="2860200" y="3533400"/>
              <a:chExt cx="672480" cy="176760"/>
            </a:xfrm>
          </p:grpSpPr>
          <p:sp>
            <p:nvSpPr>
              <p:cNvPr id="662" name=""/>
              <p:cNvSpPr/>
              <p:nvPr/>
            </p:nvSpPr>
            <p:spPr>
              <a:xfrm>
                <a:off x="2860200" y="3707640"/>
                <a:ext cx="6692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286440" y="35334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8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2236680" y="4048200"/>
            <a:ext cx="312840" cy="295200"/>
            <a:chOff x="2236680" y="4048200"/>
            <a:chExt cx="312840" cy="295200"/>
          </a:xfrm>
        </p:grpSpPr>
        <p:sp>
          <p:nvSpPr>
            <p:cNvPr id="665" name=""/>
            <p:cNvSpPr/>
            <p:nvPr/>
          </p:nvSpPr>
          <p:spPr>
            <a:xfrm>
              <a:off x="2236680" y="4048200"/>
              <a:ext cx="312840" cy="295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39560" y="4049280"/>
              <a:ext cx="301680" cy="289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2043720" y="397188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44960" y="4025880"/>
            <a:ext cx="26748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TC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07520" y="414504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22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2548080" y="4194000"/>
            <a:ext cx="225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73520" y="5880240"/>
            <a:ext cx="0" cy="69840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236320" y="6562800"/>
            <a:ext cx="63684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6200000">
            <a:off x="1648440" y="5558040"/>
            <a:ext cx="1143000" cy="45576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233440" y="6338880"/>
            <a:ext cx="0" cy="23976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 flipV="1">
            <a:off x="2217600" y="4584600"/>
            <a:ext cx="6480" cy="63360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27320" y="4587840"/>
            <a:ext cx="5587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555560" y="4189320"/>
            <a:ext cx="680760" cy="180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44480" y="5410080"/>
            <a:ext cx="12463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725040" y="6135840"/>
            <a:ext cx="126540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08200" y="5729400"/>
            <a:ext cx="282600" cy="0"/>
          </a:xfrm>
          <a:prstGeom prst="line">
            <a:avLst/>
          </a:prstGeom>
          <a:ln cap="rnd" w="9360">
            <a:solidFill>
              <a:srgbClr val="0025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498680" y="5989680"/>
            <a:ext cx="102960" cy="175680"/>
            <a:chOff x="1498680" y="5989680"/>
            <a:chExt cx="102960" cy="175680"/>
          </a:xfrm>
        </p:grpSpPr>
        <p:sp>
          <p:nvSpPr>
            <p:cNvPr id="682" name=""/>
            <p:cNvSpPr/>
            <p:nvPr/>
          </p:nvSpPr>
          <p:spPr>
            <a:xfrm flipV="1">
              <a:off x="1549800" y="603756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1506960" y="5989680"/>
              <a:ext cx="81000" cy="90360"/>
              <a:chOff x="1506960" y="5989680"/>
              <a:chExt cx="81000" cy="90360"/>
            </a:xfrm>
          </p:grpSpPr>
          <p:sp>
            <p:nvSpPr>
              <p:cNvPr id="684" name=""/>
              <p:cNvSpPr/>
              <p:nvPr/>
            </p:nvSpPr>
            <p:spPr>
              <a:xfrm>
                <a:off x="1506960" y="603324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1506960" y="5989680"/>
                <a:ext cx="81000" cy="90360"/>
                <a:chOff x="1506960" y="5989680"/>
                <a:chExt cx="81000" cy="90360"/>
              </a:xfrm>
            </p:grpSpPr>
            <p:sp>
              <p:nvSpPr>
                <p:cNvPr id="686" name=""/>
                <p:cNvSpPr/>
                <p:nvPr/>
              </p:nvSpPr>
              <p:spPr>
                <a:xfrm flipH="1">
                  <a:off x="1506960" y="598968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507320" y="598968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8" name=""/>
            <p:cNvSpPr/>
            <p:nvPr/>
          </p:nvSpPr>
          <p:spPr>
            <a:xfrm>
              <a:off x="1498680" y="610164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1549440" y="5880240"/>
            <a:ext cx="0" cy="98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985680" y="5268960"/>
            <a:ext cx="103320" cy="177840"/>
            <a:chOff x="985680" y="5268960"/>
            <a:chExt cx="103320" cy="177840"/>
          </a:xfrm>
        </p:grpSpPr>
        <p:sp>
          <p:nvSpPr>
            <p:cNvPr id="691" name=""/>
            <p:cNvSpPr/>
            <p:nvPr/>
          </p:nvSpPr>
          <p:spPr>
            <a:xfrm flipV="1">
              <a:off x="1037160" y="53175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993960" y="5268960"/>
              <a:ext cx="81360" cy="91080"/>
              <a:chOff x="993960" y="5268960"/>
              <a:chExt cx="81360" cy="91080"/>
            </a:xfrm>
          </p:grpSpPr>
          <p:sp>
            <p:nvSpPr>
              <p:cNvPr id="693" name=""/>
              <p:cNvSpPr/>
              <p:nvPr/>
            </p:nvSpPr>
            <p:spPr>
              <a:xfrm>
                <a:off x="993960" y="531288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993960" y="5268960"/>
                <a:ext cx="81360" cy="91080"/>
                <a:chOff x="993960" y="5268960"/>
                <a:chExt cx="81360" cy="91080"/>
              </a:xfrm>
            </p:grpSpPr>
            <p:sp>
              <p:nvSpPr>
                <p:cNvPr id="695" name=""/>
                <p:cNvSpPr/>
                <p:nvPr/>
              </p:nvSpPr>
              <p:spPr>
                <a:xfrm flipH="1">
                  <a:off x="993960" y="5268960"/>
                  <a:ext cx="8064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993960" y="5268960"/>
                  <a:ext cx="8136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7" name=""/>
            <p:cNvSpPr/>
            <p:nvPr/>
          </p:nvSpPr>
          <p:spPr>
            <a:xfrm>
              <a:off x="985680" y="5382360"/>
              <a:ext cx="1033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1044720" y="5116680"/>
            <a:ext cx="0" cy="1504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222200" y="4964040"/>
            <a:ext cx="216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447920" y="4964040"/>
            <a:ext cx="0" cy="449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2840" y="6219720"/>
            <a:ext cx="689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700" spc="-1" strike="noStrike">
                <a:solidFill>
                  <a:srgbClr val="002569"/>
                </a:solidFill>
                <a:latin typeface="Times New Roman"/>
              </a:rPr>
              <a:t>LP condensate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1920" y="5442120"/>
            <a:ext cx="50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LP steam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555920" y="4189320"/>
            <a:ext cx="0" cy="1370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204920" y="5494320"/>
            <a:ext cx="505800" cy="371520"/>
            <a:chOff x="1204920" y="5494320"/>
            <a:chExt cx="505800" cy="371520"/>
          </a:xfrm>
        </p:grpSpPr>
        <p:grpSp>
          <p:nvGrpSpPr>
            <p:cNvPr id="705" name=""/>
            <p:cNvGrpSpPr/>
            <p:nvPr/>
          </p:nvGrpSpPr>
          <p:grpSpPr>
            <a:xfrm>
              <a:off x="1204920" y="5494320"/>
              <a:ext cx="505800" cy="371520"/>
              <a:chOff x="1204920" y="5494320"/>
              <a:chExt cx="505800" cy="37152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1396440" y="5570280"/>
                <a:ext cx="314280" cy="295560"/>
                <a:chOff x="1396440" y="5570280"/>
                <a:chExt cx="314280" cy="2955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1396440" y="557028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399320" y="557136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1204920" y="54943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1403640" y="554832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70520" y="566712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6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85800" y="4743360"/>
            <a:ext cx="505800" cy="371520"/>
            <a:chOff x="685800" y="4743360"/>
            <a:chExt cx="505800" cy="371520"/>
          </a:xfrm>
        </p:grpSpPr>
        <p:grpSp>
          <p:nvGrpSpPr>
            <p:cNvPr id="713" name=""/>
            <p:cNvGrpSpPr/>
            <p:nvPr/>
          </p:nvGrpSpPr>
          <p:grpSpPr>
            <a:xfrm>
              <a:off x="685800" y="4743360"/>
              <a:ext cx="505800" cy="371520"/>
              <a:chOff x="685800" y="4743360"/>
              <a:chExt cx="505800" cy="37152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877320" y="4819320"/>
                <a:ext cx="314280" cy="295560"/>
                <a:chOff x="877320" y="4819320"/>
                <a:chExt cx="314280" cy="29556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877320" y="481932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80200" y="482040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>
                <a:off x="685800" y="4743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886320" y="4797360"/>
              <a:ext cx="2628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51400" y="49194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2883240" y="6308640"/>
            <a:ext cx="506880" cy="371520"/>
            <a:chOff x="2883240" y="6308640"/>
            <a:chExt cx="506880" cy="371520"/>
          </a:xfrm>
        </p:grpSpPr>
        <p:grpSp>
          <p:nvGrpSpPr>
            <p:cNvPr id="721" name=""/>
            <p:cNvGrpSpPr/>
            <p:nvPr/>
          </p:nvGrpSpPr>
          <p:grpSpPr>
            <a:xfrm>
              <a:off x="2883240" y="6308640"/>
              <a:ext cx="506880" cy="371520"/>
              <a:chOff x="2883240" y="6308640"/>
              <a:chExt cx="506880" cy="37152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3075120" y="6384600"/>
                <a:ext cx="315000" cy="295560"/>
                <a:chOff x="3075120" y="6384600"/>
                <a:chExt cx="315000" cy="29556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3075120" y="6384600"/>
                  <a:ext cx="31500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078000" y="6385680"/>
                  <a:ext cx="30384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2883240" y="6308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3082320" y="63626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047400" y="64814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8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 flipH="1">
            <a:off x="2868480" y="6518160"/>
            <a:ext cx="2080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794400" y="5065560"/>
            <a:ext cx="506880" cy="371520"/>
            <a:chOff x="3794400" y="5065560"/>
            <a:chExt cx="506880" cy="371520"/>
          </a:xfrm>
        </p:grpSpPr>
        <p:grpSp>
          <p:nvGrpSpPr>
            <p:cNvPr id="730" name=""/>
            <p:cNvGrpSpPr/>
            <p:nvPr/>
          </p:nvGrpSpPr>
          <p:grpSpPr>
            <a:xfrm>
              <a:off x="3794400" y="5065560"/>
              <a:ext cx="506880" cy="371520"/>
              <a:chOff x="3794400" y="5065560"/>
              <a:chExt cx="506880" cy="37152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3986280" y="5141520"/>
                <a:ext cx="315000" cy="295560"/>
                <a:chOff x="3986280" y="5141520"/>
                <a:chExt cx="315000" cy="2955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3986280" y="5141520"/>
                  <a:ext cx="31500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989160" y="5142600"/>
                  <a:ext cx="30384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4" name=""/>
              <p:cNvSpPr/>
              <p:nvPr/>
            </p:nvSpPr>
            <p:spPr>
              <a:xfrm>
                <a:off x="3794400" y="50655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3994560" y="511956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58560" y="52416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9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 flipH="1">
            <a:off x="3615840" y="5276880"/>
            <a:ext cx="3668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19480" y="5965920"/>
            <a:ext cx="0" cy="2347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984920" y="6048360"/>
            <a:ext cx="102960" cy="176040"/>
            <a:chOff x="4984920" y="6048360"/>
            <a:chExt cx="102960" cy="176040"/>
          </a:xfrm>
        </p:grpSpPr>
        <p:sp>
          <p:nvSpPr>
            <p:cNvPr id="740" name=""/>
            <p:cNvSpPr/>
            <p:nvPr/>
          </p:nvSpPr>
          <p:spPr>
            <a:xfrm flipV="1">
              <a:off x="5036040" y="609624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4993200" y="6048360"/>
              <a:ext cx="81000" cy="90360"/>
              <a:chOff x="4993200" y="6048360"/>
              <a:chExt cx="81000" cy="90360"/>
            </a:xfrm>
          </p:grpSpPr>
          <p:sp>
            <p:nvSpPr>
              <p:cNvPr id="742" name=""/>
              <p:cNvSpPr/>
              <p:nvPr/>
            </p:nvSpPr>
            <p:spPr>
              <a:xfrm>
                <a:off x="4993200" y="609192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743" name=""/>
              <p:cNvGrpSpPr/>
              <p:nvPr/>
            </p:nvGrpSpPr>
            <p:grpSpPr>
              <a:xfrm>
                <a:off x="4993200" y="6048360"/>
                <a:ext cx="81000" cy="90360"/>
                <a:chOff x="4993200" y="6048360"/>
                <a:chExt cx="81000" cy="90360"/>
              </a:xfrm>
            </p:grpSpPr>
            <p:sp>
              <p:nvSpPr>
                <p:cNvPr id="744" name=""/>
                <p:cNvSpPr/>
                <p:nvPr/>
              </p:nvSpPr>
              <p:spPr>
                <a:xfrm flipH="1">
                  <a:off x="4993200" y="604836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993560" y="604836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6" name=""/>
            <p:cNvSpPr/>
            <p:nvPr/>
          </p:nvSpPr>
          <p:spPr>
            <a:xfrm>
              <a:off x="4984920" y="616068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300560" y="5284800"/>
            <a:ext cx="7272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027760" y="5284800"/>
            <a:ext cx="0" cy="7588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 flipV="1">
            <a:off x="3188880" y="918720"/>
            <a:ext cx="1800" cy="4129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4951440" y="1209600"/>
            <a:ext cx="620280" cy="577800"/>
            <a:chOff x="4951440" y="1209600"/>
            <a:chExt cx="620280" cy="577800"/>
          </a:xfrm>
        </p:grpSpPr>
        <p:sp>
          <p:nvSpPr>
            <p:cNvPr id="751" name=""/>
            <p:cNvSpPr/>
            <p:nvPr/>
          </p:nvSpPr>
          <p:spPr>
            <a:xfrm>
              <a:off x="4951440" y="1209600"/>
              <a:ext cx="620280" cy="577800"/>
            </a:xfrm>
            <a:prstGeom prst="ellipse">
              <a:avLst/>
            </a:prstGeom>
            <a:noFill/>
            <a:ln w="1908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981320" y="1350720"/>
              <a:ext cx="5767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 algn="ctr"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24-HA-103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A/B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6404040" y="1157400"/>
            <a:ext cx="1261800" cy="533160"/>
            <a:chOff x="6404040" y="1157400"/>
            <a:chExt cx="1261800" cy="533160"/>
          </a:xfrm>
        </p:grpSpPr>
        <p:sp>
          <p:nvSpPr>
            <p:cNvPr id="754" name=""/>
            <p:cNvSpPr/>
            <p:nvPr/>
          </p:nvSpPr>
          <p:spPr>
            <a:xfrm>
              <a:off x="6404040" y="1157400"/>
              <a:ext cx="1261800" cy="533160"/>
            </a:xfrm>
            <a:prstGeom prst="roundRect">
              <a:avLst>
                <a:gd name="adj" fmla="val 50000"/>
              </a:avLst>
            </a:prstGeom>
            <a:noFill/>
            <a:ln w="255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640200" y="1301400"/>
              <a:ext cx="7002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900" spc="-1" strike="noStrike">
                  <a:solidFill>
                    <a:srgbClr val="002569"/>
                  </a:solidFill>
                  <a:latin typeface="Times New Roman"/>
                </a:rPr>
                <a:t>24-VA-102</a:t>
              </a:r>
              <a:endParaRPr b="0" lang="en-US" sz="9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 flipV="1">
            <a:off x="6792840" y="3114720"/>
            <a:ext cx="465120" cy="144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6319800" y="3024360"/>
            <a:ext cx="636120" cy="370080"/>
            <a:chOff x="6319800" y="3024360"/>
            <a:chExt cx="636120" cy="370080"/>
          </a:xfrm>
        </p:grpSpPr>
        <p:grpSp>
          <p:nvGrpSpPr>
            <p:cNvPr id="758" name=""/>
            <p:cNvGrpSpPr/>
            <p:nvPr/>
          </p:nvGrpSpPr>
          <p:grpSpPr>
            <a:xfrm>
              <a:off x="6492960" y="3024360"/>
              <a:ext cx="297000" cy="226800"/>
              <a:chOff x="6492960" y="3024360"/>
              <a:chExt cx="297000" cy="226800"/>
            </a:xfrm>
          </p:grpSpPr>
          <p:sp>
            <p:nvSpPr>
              <p:cNvPr id="759" name=""/>
              <p:cNvSpPr/>
              <p:nvPr/>
            </p:nvSpPr>
            <p:spPr>
              <a:xfrm flipH="1">
                <a:off x="6492600" y="3024360"/>
                <a:ext cx="178200" cy="5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6552360" y="3024360"/>
                <a:ext cx="237600" cy="22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6319800" y="3217680"/>
              <a:ext cx="636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24-PA-102A/B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 flipH="1">
            <a:off x="4716360" y="3056040"/>
            <a:ext cx="177480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4716360" y="1604880"/>
            <a:ext cx="0" cy="145728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3494160" y="1604880"/>
            <a:ext cx="123336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4876920" y="2395440"/>
            <a:ext cx="314280" cy="297000"/>
            <a:chOff x="4876920" y="2395440"/>
            <a:chExt cx="314280" cy="297000"/>
          </a:xfrm>
        </p:grpSpPr>
        <p:sp>
          <p:nvSpPr>
            <p:cNvPr id="766" name=""/>
            <p:cNvSpPr/>
            <p:nvPr/>
          </p:nvSpPr>
          <p:spPr>
            <a:xfrm>
              <a:off x="4876920" y="2395440"/>
              <a:ext cx="314280" cy="297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79800" y="2396520"/>
              <a:ext cx="303120" cy="290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4683600" y="231948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83400" y="2373480"/>
            <a:ext cx="2628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FC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47400" y="249408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08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976640" y="2908440"/>
            <a:ext cx="103320" cy="178920"/>
            <a:chOff x="4976640" y="2908440"/>
            <a:chExt cx="103320" cy="178920"/>
          </a:xfrm>
        </p:grpSpPr>
        <p:sp>
          <p:nvSpPr>
            <p:cNvPr id="772" name=""/>
            <p:cNvSpPr/>
            <p:nvPr/>
          </p:nvSpPr>
          <p:spPr>
            <a:xfrm flipV="1">
              <a:off x="5028120" y="2957400"/>
              <a:ext cx="0" cy="9216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4984920" y="2908440"/>
              <a:ext cx="81360" cy="91800"/>
              <a:chOff x="4984920" y="2908440"/>
              <a:chExt cx="81360" cy="91800"/>
            </a:xfrm>
          </p:grpSpPr>
          <p:sp>
            <p:nvSpPr>
              <p:cNvPr id="774" name=""/>
              <p:cNvSpPr/>
              <p:nvPr/>
            </p:nvSpPr>
            <p:spPr>
              <a:xfrm>
                <a:off x="4984920" y="295272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775" name=""/>
              <p:cNvGrpSpPr/>
              <p:nvPr/>
            </p:nvGrpSpPr>
            <p:grpSpPr>
              <a:xfrm>
                <a:off x="4984920" y="2908440"/>
                <a:ext cx="81360" cy="91800"/>
                <a:chOff x="4984920" y="2908440"/>
                <a:chExt cx="81360" cy="91800"/>
              </a:xfrm>
            </p:grpSpPr>
            <p:sp>
              <p:nvSpPr>
                <p:cNvPr id="776" name=""/>
                <p:cNvSpPr/>
                <p:nvPr/>
              </p:nvSpPr>
              <p:spPr>
                <a:xfrm flipH="1">
                  <a:off x="4984920" y="2908440"/>
                  <a:ext cx="8064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84920" y="2908440"/>
                  <a:ext cx="8136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8" name=""/>
            <p:cNvSpPr/>
            <p:nvPr/>
          </p:nvSpPr>
          <p:spPr>
            <a:xfrm>
              <a:off x="4976640" y="3022560"/>
              <a:ext cx="103320" cy="6480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 flipV="1">
            <a:off x="5032440" y="2693880"/>
            <a:ext cx="0" cy="2145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356080" y="2526840"/>
            <a:ext cx="0" cy="5288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769000" y="1185840"/>
            <a:ext cx="505800" cy="371520"/>
            <a:chOff x="5769000" y="1185840"/>
            <a:chExt cx="505800" cy="371520"/>
          </a:xfrm>
        </p:grpSpPr>
        <p:grpSp>
          <p:nvGrpSpPr>
            <p:cNvPr id="782" name=""/>
            <p:cNvGrpSpPr/>
            <p:nvPr/>
          </p:nvGrpSpPr>
          <p:grpSpPr>
            <a:xfrm>
              <a:off x="5769000" y="1185840"/>
              <a:ext cx="505800" cy="371520"/>
              <a:chOff x="5769000" y="1185840"/>
              <a:chExt cx="505800" cy="371520"/>
            </a:xfrm>
          </p:grpSpPr>
          <p:grpSp>
            <p:nvGrpSpPr>
              <p:cNvPr id="783" name=""/>
              <p:cNvGrpSpPr/>
              <p:nvPr/>
            </p:nvGrpSpPr>
            <p:grpSpPr>
              <a:xfrm>
                <a:off x="5960520" y="1261800"/>
                <a:ext cx="314280" cy="295560"/>
                <a:chOff x="5960520" y="1261800"/>
                <a:chExt cx="314280" cy="29556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960520" y="126180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963400" y="126288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6" name=""/>
              <p:cNvSpPr/>
              <p:nvPr/>
            </p:nvSpPr>
            <p:spPr>
              <a:xfrm>
                <a:off x="5769000" y="11858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5967360" y="12398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932800" y="13586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6162840" y="3452760"/>
            <a:ext cx="35305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7372440" y="3301920"/>
            <a:ext cx="102960" cy="176040"/>
            <a:chOff x="7372440" y="3301920"/>
            <a:chExt cx="102960" cy="176040"/>
          </a:xfrm>
        </p:grpSpPr>
        <p:sp>
          <p:nvSpPr>
            <p:cNvPr id="791" name=""/>
            <p:cNvSpPr/>
            <p:nvPr/>
          </p:nvSpPr>
          <p:spPr>
            <a:xfrm flipV="1">
              <a:off x="7423560" y="334980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7380720" y="3301920"/>
              <a:ext cx="81000" cy="90360"/>
              <a:chOff x="7380720" y="3301920"/>
              <a:chExt cx="81000" cy="90360"/>
            </a:xfrm>
          </p:grpSpPr>
          <p:sp>
            <p:nvSpPr>
              <p:cNvPr id="793" name=""/>
              <p:cNvSpPr/>
              <p:nvPr/>
            </p:nvSpPr>
            <p:spPr>
              <a:xfrm>
                <a:off x="7380720" y="334548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794" name=""/>
              <p:cNvGrpSpPr/>
              <p:nvPr/>
            </p:nvGrpSpPr>
            <p:grpSpPr>
              <a:xfrm>
                <a:off x="7380720" y="3301920"/>
                <a:ext cx="81000" cy="90360"/>
                <a:chOff x="7380720" y="3301920"/>
                <a:chExt cx="81000" cy="90360"/>
              </a:xfrm>
            </p:grpSpPr>
            <p:sp>
              <p:nvSpPr>
                <p:cNvPr id="795" name=""/>
                <p:cNvSpPr/>
                <p:nvPr/>
              </p:nvSpPr>
              <p:spPr>
                <a:xfrm flipH="1">
                  <a:off x="7380720" y="330192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381080" y="330192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7" name=""/>
            <p:cNvSpPr/>
            <p:nvPr/>
          </p:nvSpPr>
          <p:spPr>
            <a:xfrm>
              <a:off x="7372440" y="341424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7656480" y="1206360"/>
            <a:ext cx="505800" cy="371520"/>
            <a:chOff x="7656480" y="1206360"/>
            <a:chExt cx="505800" cy="371520"/>
          </a:xfrm>
        </p:grpSpPr>
        <p:grpSp>
          <p:nvGrpSpPr>
            <p:cNvPr id="799" name=""/>
            <p:cNvGrpSpPr/>
            <p:nvPr/>
          </p:nvGrpSpPr>
          <p:grpSpPr>
            <a:xfrm>
              <a:off x="7656480" y="1206360"/>
              <a:ext cx="505800" cy="371520"/>
              <a:chOff x="7656480" y="1206360"/>
              <a:chExt cx="505800" cy="37152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7848000" y="1282320"/>
                <a:ext cx="314280" cy="295560"/>
                <a:chOff x="7848000" y="1282320"/>
                <a:chExt cx="314280" cy="29556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7848000" y="128232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850880" y="128340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"/>
              <p:cNvSpPr/>
              <p:nvPr/>
            </p:nvSpPr>
            <p:spPr>
              <a:xfrm>
                <a:off x="7656480" y="120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7856640" y="126036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20280" y="13809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7677000" y="1424160"/>
            <a:ext cx="171720" cy="1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018640" y="1579680"/>
            <a:ext cx="0" cy="8110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248600" y="1695600"/>
            <a:ext cx="0" cy="142236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170760" y="3076560"/>
            <a:ext cx="0" cy="3967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91200" y="2523960"/>
            <a:ext cx="16992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7382160" y="2906640"/>
            <a:ext cx="506880" cy="372240"/>
            <a:chOff x="7382160" y="2906640"/>
            <a:chExt cx="506880" cy="372240"/>
          </a:xfrm>
        </p:grpSpPr>
        <p:grpSp>
          <p:nvGrpSpPr>
            <p:cNvPr id="812" name=""/>
            <p:cNvGrpSpPr/>
            <p:nvPr/>
          </p:nvGrpSpPr>
          <p:grpSpPr>
            <a:xfrm>
              <a:off x="7382160" y="2906640"/>
              <a:ext cx="506880" cy="372240"/>
              <a:chOff x="7382160" y="2906640"/>
              <a:chExt cx="506880" cy="372240"/>
            </a:xfrm>
          </p:grpSpPr>
          <p:grpSp>
            <p:nvGrpSpPr>
              <p:cNvPr id="813" name=""/>
              <p:cNvGrpSpPr/>
              <p:nvPr/>
            </p:nvGrpSpPr>
            <p:grpSpPr>
              <a:xfrm>
                <a:off x="7574040" y="2982600"/>
                <a:ext cx="315000" cy="296280"/>
                <a:chOff x="7574040" y="2982600"/>
                <a:chExt cx="315000" cy="29628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7574040" y="2982600"/>
                  <a:ext cx="315000" cy="29628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576920" y="2983680"/>
                  <a:ext cx="303840" cy="2901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" name=""/>
              <p:cNvSpPr/>
              <p:nvPr/>
            </p:nvSpPr>
            <p:spPr>
              <a:xfrm>
                <a:off x="7382160" y="2906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7581240" y="29606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548120" y="30816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38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7751880" y="3282840"/>
            <a:ext cx="0" cy="173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276960" y="1401840"/>
            <a:ext cx="125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627960" y="911160"/>
            <a:ext cx="0" cy="24948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7419960" y="2394000"/>
            <a:ext cx="0" cy="9064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429680" y="2394000"/>
            <a:ext cx="58572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118120" y="919080"/>
            <a:ext cx="0" cy="32868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118120" y="1755720"/>
            <a:ext cx="0" cy="40644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118120" y="2162160"/>
            <a:ext cx="157464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6692760" y="1704960"/>
            <a:ext cx="0" cy="45720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191040" y="917640"/>
            <a:ext cx="343836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2460600" y="816120"/>
            <a:ext cx="505800" cy="370800"/>
            <a:chOff x="2460600" y="816120"/>
            <a:chExt cx="505800" cy="370800"/>
          </a:xfrm>
        </p:grpSpPr>
        <p:grpSp>
          <p:nvGrpSpPr>
            <p:cNvPr id="830" name=""/>
            <p:cNvGrpSpPr/>
            <p:nvPr/>
          </p:nvGrpSpPr>
          <p:grpSpPr>
            <a:xfrm>
              <a:off x="2460600" y="816120"/>
              <a:ext cx="505800" cy="370800"/>
              <a:chOff x="2460600" y="816120"/>
              <a:chExt cx="505800" cy="370800"/>
            </a:xfrm>
          </p:grpSpPr>
          <p:grpSp>
            <p:nvGrpSpPr>
              <p:cNvPr id="831" name=""/>
              <p:cNvGrpSpPr/>
              <p:nvPr/>
            </p:nvGrpSpPr>
            <p:grpSpPr>
              <a:xfrm>
                <a:off x="2652120" y="891720"/>
                <a:ext cx="314280" cy="295200"/>
                <a:chOff x="2652120" y="891720"/>
                <a:chExt cx="314280" cy="29520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2652120" y="891720"/>
                  <a:ext cx="314280" cy="29520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655000" y="892800"/>
                  <a:ext cx="303120" cy="28908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4" name=""/>
              <p:cNvSpPr/>
              <p:nvPr/>
            </p:nvSpPr>
            <p:spPr>
              <a:xfrm>
                <a:off x="2460600" y="8161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2660400" y="86652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624400" y="9903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2967120" y="1039680"/>
            <a:ext cx="2174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3808440" y="341280"/>
            <a:ext cx="505800" cy="371520"/>
            <a:chOff x="3808440" y="341280"/>
            <a:chExt cx="505800" cy="371520"/>
          </a:xfrm>
        </p:grpSpPr>
        <p:grpSp>
          <p:nvGrpSpPr>
            <p:cNvPr id="839" name=""/>
            <p:cNvGrpSpPr/>
            <p:nvPr/>
          </p:nvGrpSpPr>
          <p:grpSpPr>
            <a:xfrm>
              <a:off x="3808440" y="341280"/>
              <a:ext cx="505800" cy="371520"/>
              <a:chOff x="3808440" y="341280"/>
              <a:chExt cx="505800" cy="371520"/>
            </a:xfrm>
          </p:grpSpPr>
          <p:grpSp>
            <p:nvGrpSpPr>
              <p:cNvPr id="840" name=""/>
              <p:cNvGrpSpPr/>
              <p:nvPr/>
            </p:nvGrpSpPr>
            <p:grpSpPr>
              <a:xfrm>
                <a:off x="3999960" y="417240"/>
                <a:ext cx="314280" cy="295560"/>
                <a:chOff x="3999960" y="417240"/>
                <a:chExt cx="314280" cy="29556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3999960" y="41724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002840" y="41832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3" name=""/>
              <p:cNvSpPr/>
              <p:nvPr/>
            </p:nvSpPr>
            <p:spPr>
              <a:xfrm>
                <a:off x="3808440" y="3412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4007520" y="395280"/>
              <a:ext cx="2628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72240" y="51588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4164120" y="711360"/>
            <a:ext cx="0" cy="2077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246720" y="776160"/>
            <a:ext cx="101520" cy="177840"/>
            <a:chOff x="6246720" y="776160"/>
            <a:chExt cx="101520" cy="177840"/>
          </a:xfrm>
        </p:grpSpPr>
        <p:sp>
          <p:nvSpPr>
            <p:cNvPr id="848" name=""/>
            <p:cNvSpPr/>
            <p:nvPr/>
          </p:nvSpPr>
          <p:spPr>
            <a:xfrm flipV="1">
              <a:off x="6297120" y="8247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6255000" y="776160"/>
              <a:ext cx="79920" cy="91080"/>
              <a:chOff x="6255000" y="776160"/>
              <a:chExt cx="79920" cy="91080"/>
            </a:xfrm>
          </p:grpSpPr>
          <p:sp>
            <p:nvSpPr>
              <p:cNvPr id="850" name=""/>
              <p:cNvSpPr/>
              <p:nvPr/>
            </p:nvSpPr>
            <p:spPr>
              <a:xfrm>
                <a:off x="6255000" y="8200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851" name=""/>
              <p:cNvGrpSpPr/>
              <p:nvPr/>
            </p:nvGrpSpPr>
            <p:grpSpPr>
              <a:xfrm>
                <a:off x="6255000" y="776160"/>
                <a:ext cx="79920" cy="91080"/>
                <a:chOff x="6255000" y="776160"/>
                <a:chExt cx="79920" cy="91080"/>
              </a:xfrm>
            </p:grpSpPr>
            <p:sp>
              <p:nvSpPr>
                <p:cNvPr id="852" name=""/>
                <p:cNvSpPr/>
                <p:nvPr/>
              </p:nvSpPr>
              <p:spPr>
                <a:xfrm flipH="1">
                  <a:off x="6255000" y="776160"/>
                  <a:ext cx="7920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6255000" y="776160"/>
                  <a:ext cx="7992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4" name=""/>
            <p:cNvSpPr/>
            <p:nvPr/>
          </p:nvSpPr>
          <p:spPr>
            <a:xfrm>
              <a:off x="6246720" y="889560"/>
              <a:ext cx="1015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5941080" y="306360"/>
            <a:ext cx="505080" cy="370800"/>
            <a:chOff x="5941080" y="306360"/>
            <a:chExt cx="505080" cy="370800"/>
          </a:xfrm>
        </p:grpSpPr>
        <p:grpSp>
          <p:nvGrpSpPr>
            <p:cNvPr id="856" name=""/>
            <p:cNvGrpSpPr/>
            <p:nvPr/>
          </p:nvGrpSpPr>
          <p:grpSpPr>
            <a:xfrm>
              <a:off x="5941080" y="306360"/>
              <a:ext cx="505080" cy="370800"/>
              <a:chOff x="5941080" y="306360"/>
              <a:chExt cx="505080" cy="370800"/>
            </a:xfrm>
          </p:grpSpPr>
          <p:grpSp>
            <p:nvGrpSpPr>
              <p:cNvPr id="857" name=""/>
              <p:cNvGrpSpPr/>
              <p:nvPr/>
            </p:nvGrpSpPr>
            <p:grpSpPr>
              <a:xfrm>
                <a:off x="6131880" y="381960"/>
                <a:ext cx="314280" cy="295200"/>
                <a:chOff x="6131880" y="381960"/>
                <a:chExt cx="314280" cy="29520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6131880" y="381960"/>
                  <a:ext cx="314280" cy="29520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134760" y="383040"/>
                  <a:ext cx="303120" cy="28908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0" name=""/>
              <p:cNvSpPr/>
              <p:nvPr/>
            </p:nvSpPr>
            <p:spPr>
              <a:xfrm>
                <a:off x="5941080" y="30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6108480" y="384120"/>
              <a:ext cx="3178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D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12080" y="4824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6302520" y="668160"/>
            <a:ext cx="0" cy="1209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5968800" y="504720"/>
            <a:ext cx="1616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69160" y="504720"/>
            <a:ext cx="0" cy="422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445080" y="512640"/>
            <a:ext cx="1270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572160" y="512640"/>
            <a:ext cx="0" cy="406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5699160" y="2016000"/>
            <a:ext cx="101520" cy="179280"/>
            <a:chOff x="5699160" y="2016000"/>
            <a:chExt cx="101520" cy="179280"/>
          </a:xfrm>
        </p:grpSpPr>
        <p:sp>
          <p:nvSpPr>
            <p:cNvPr id="869" name=""/>
            <p:cNvSpPr/>
            <p:nvPr/>
          </p:nvSpPr>
          <p:spPr>
            <a:xfrm flipV="1">
              <a:off x="5749560" y="2064600"/>
              <a:ext cx="0" cy="925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5707440" y="2016000"/>
              <a:ext cx="79920" cy="91800"/>
              <a:chOff x="5707440" y="2016000"/>
              <a:chExt cx="79920" cy="91800"/>
            </a:xfrm>
          </p:grpSpPr>
          <p:sp>
            <p:nvSpPr>
              <p:cNvPr id="871" name=""/>
              <p:cNvSpPr/>
              <p:nvPr/>
            </p:nvSpPr>
            <p:spPr>
              <a:xfrm>
                <a:off x="5707440" y="20602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872" name=""/>
              <p:cNvGrpSpPr/>
              <p:nvPr/>
            </p:nvGrpSpPr>
            <p:grpSpPr>
              <a:xfrm>
                <a:off x="5707440" y="2016000"/>
                <a:ext cx="79920" cy="91800"/>
                <a:chOff x="5707440" y="2016000"/>
                <a:chExt cx="79920" cy="91800"/>
              </a:xfrm>
            </p:grpSpPr>
            <p:sp>
              <p:nvSpPr>
                <p:cNvPr id="873" name=""/>
                <p:cNvSpPr/>
                <p:nvPr/>
              </p:nvSpPr>
              <p:spPr>
                <a:xfrm flipH="1">
                  <a:off x="5707440" y="2016000"/>
                  <a:ext cx="7920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707440" y="2016000"/>
                  <a:ext cx="7992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5" name=""/>
            <p:cNvSpPr/>
            <p:nvPr/>
          </p:nvSpPr>
          <p:spPr>
            <a:xfrm>
              <a:off x="5699160" y="2130480"/>
              <a:ext cx="101520" cy="6480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 flipV="1">
            <a:off x="5746680" y="550800"/>
            <a:ext cx="0" cy="14637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316400" y="555480"/>
            <a:ext cx="1430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7269120" y="789120"/>
            <a:ext cx="0" cy="3715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269120" y="789120"/>
            <a:ext cx="105264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7485120" y="642960"/>
            <a:ext cx="101520" cy="177840"/>
            <a:chOff x="7485120" y="642960"/>
            <a:chExt cx="101520" cy="177840"/>
          </a:xfrm>
        </p:grpSpPr>
        <p:sp>
          <p:nvSpPr>
            <p:cNvPr id="881" name=""/>
            <p:cNvSpPr/>
            <p:nvPr/>
          </p:nvSpPr>
          <p:spPr>
            <a:xfrm flipV="1">
              <a:off x="7535520" y="6915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7493400" y="642960"/>
              <a:ext cx="79920" cy="91080"/>
              <a:chOff x="7493400" y="642960"/>
              <a:chExt cx="79920" cy="91080"/>
            </a:xfrm>
          </p:grpSpPr>
          <p:sp>
            <p:nvSpPr>
              <p:cNvPr id="883" name=""/>
              <p:cNvSpPr/>
              <p:nvPr/>
            </p:nvSpPr>
            <p:spPr>
              <a:xfrm>
                <a:off x="7493400" y="6868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884" name=""/>
              <p:cNvGrpSpPr/>
              <p:nvPr/>
            </p:nvGrpSpPr>
            <p:grpSpPr>
              <a:xfrm>
                <a:off x="7493400" y="642960"/>
                <a:ext cx="79920" cy="91080"/>
                <a:chOff x="7493400" y="642960"/>
                <a:chExt cx="79920" cy="91080"/>
              </a:xfrm>
            </p:grpSpPr>
            <p:sp>
              <p:nvSpPr>
                <p:cNvPr id="885" name=""/>
                <p:cNvSpPr/>
                <p:nvPr/>
              </p:nvSpPr>
              <p:spPr>
                <a:xfrm flipH="1">
                  <a:off x="7493400" y="642960"/>
                  <a:ext cx="7920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493400" y="642960"/>
                  <a:ext cx="7992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7" name=""/>
            <p:cNvSpPr/>
            <p:nvPr/>
          </p:nvSpPr>
          <p:spPr>
            <a:xfrm>
              <a:off x="7485120" y="756360"/>
              <a:ext cx="1015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7178040" y="210960"/>
            <a:ext cx="504720" cy="371520"/>
            <a:chOff x="7178040" y="210960"/>
            <a:chExt cx="504720" cy="371520"/>
          </a:xfrm>
        </p:grpSpPr>
        <p:grpSp>
          <p:nvGrpSpPr>
            <p:cNvPr id="889" name=""/>
            <p:cNvGrpSpPr/>
            <p:nvPr/>
          </p:nvGrpSpPr>
          <p:grpSpPr>
            <a:xfrm>
              <a:off x="7178040" y="210960"/>
              <a:ext cx="504720" cy="371520"/>
              <a:chOff x="7178040" y="210960"/>
              <a:chExt cx="504720" cy="371520"/>
            </a:xfrm>
          </p:grpSpPr>
          <p:grpSp>
            <p:nvGrpSpPr>
              <p:cNvPr id="890" name=""/>
              <p:cNvGrpSpPr/>
              <p:nvPr/>
            </p:nvGrpSpPr>
            <p:grpSpPr>
              <a:xfrm>
                <a:off x="7368840" y="286920"/>
                <a:ext cx="313920" cy="295560"/>
                <a:chOff x="7368840" y="286920"/>
                <a:chExt cx="313920" cy="29556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7368840" y="28692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371720" y="28800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3" name=""/>
              <p:cNvSpPr/>
              <p:nvPr/>
            </p:nvSpPr>
            <p:spPr>
              <a:xfrm>
                <a:off x="7178040" y="2109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>
              <a:off x="7378560" y="264960"/>
              <a:ext cx="2750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H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40400" y="3855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5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 flipH="1" flipV="1">
            <a:off x="7534080" y="574560"/>
            <a:ext cx="4680" cy="68400"/>
          </a:xfrm>
          <a:prstGeom prst="line">
            <a:avLst/>
          </a:prstGeom>
          <a:ln w="9360">
            <a:solidFill>
              <a:srgbClr val="d1d1c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5361120" y="1058400"/>
            <a:ext cx="0" cy="17316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5359320" y="1773360"/>
            <a:ext cx="0" cy="13968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129280" y="1857240"/>
            <a:ext cx="48708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Kjølevann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809440" y="4848120"/>
            <a:ext cx="68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900" spc="-1" strike="noStrike">
                <a:solidFill>
                  <a:srgbClr val="002569"/>
                </a:solidFill>
                <a:latin typeface="Times New Roman"/>
              </a:rPr>
              <a:t>24-VE-107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2198880" y="1711440"/>
            <a:ext cx="505440" cy="372240"/>
            <a:chOff x="2198880" y="1711440"/>
            <a:chExt cx="505440" cy="372240"/>
          </a:xfrm>
        </p:grpSpPr>
        <p:grpSp>
          <p:nvGrpSpPr>
            <p:cNvPr id="902" name=""/>
            <p:cNvGrpSpPr/>
            <p:nvPr/>
          </p:nvGrpSpPr>
          <p:grpSpPr>
            <a:xfrm>
              <a:off x="2198880" y="1711440"/>
              <a:ext cx="505440" cy="372240"/>
              <a:chOff x="2198880" y="1711440"/>
              <a:chExt cx="505440" cy="372240"/>
            </a:xfrm>
          </p:grpSpPr>
          <p:grpSp>
            <p:nvGrpSpPr>
              <p:cNvPr id="903" name=""/>
              <p:cNvGrpSpPr/>
              <p:nvPr/>
            </p:nvGrpSpPr>
            <p:grpSpPr>
              <a:xfrm>
                <a:off x="2390400" y="1787400"/>
                <a:ext cx="313920" cy="296280"/>
                <a:chOff x="2390400" y="1787400"/>
                <a:chExt cx="313920" cy="29628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2390400" y="1787400"/>
                  <a:ext cx="313920" cy="29628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2393280" y="1788480"/>
                  <a:ext cx="302760" cy="2901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6" name=""/>
              <p:cNvSpPr/>
              <p:nvPr/>
            </p:nvSpPr>
            <p:spPr>
              <a:xfrm>
                <a:off x="2198880" y="17114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>
              <a:off x="2396160" y="176220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61960" y="18878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 flipH="1">
            <a:off x="2719440" y="1927080"/>
            <a:ext cx="162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2200320" y="2238480"/>
            <a:ext cx="505800" cy="369360"/>
            <a:chOff x="2200320" y="2238480"/>
            <a:chExt cx="505800" cy="369360"/>
          </a:xfrm>
        </p:grpSpPr>
        <p:grpSp>
          <p:nvGrpSpPr>
            <p:cNvPr id="911" name=""/>
            <p:cNvGrpSpPr/>
            <p:nvPr/>
          </p:nvGrpSpPr>
          <p:grpSpPr>
            <a:xfrm>
              <a:off x="2200320" y="2238480"/>
              <a:ext cx="505800" cy="369360"/>
              <a:chOff x="2200320" y="2238480"/>
              <a:chExt cx="505800" cy="36936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2391840" y="2313720"/>
                <a:ext cx="314280" cy="294120"/>
                <a:chOff x="2391840" y="2313720"/>
                <a:chExt cx="314280" cy="2941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2391840" y="231372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2394720" y="231480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5" name=""/>
              <p:cNvSpPr/>
              <p:nvPr/>
            </p:nvSpPr>
            <p:spPr>
              <a:xfrm>
                <a:off x="2200320" y="22384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>
              <a:off x="2397960" y="229212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64120" y="24134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7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 flipH="1">
            <a:off x="2714400" y="2468520"/>
            <a:ext cx="1616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2044800" y="3589200"/>
            <a:ext cx="505440" cy="371520"/>
            <a:chOff x="2044800" y="3589200"/>
            <a:chExt cx="505440" cy="371520"/>
          </a:xfrm>
        </p:grpSpPr>
        <p:grpSp>
          <p:nvGrpSpPr>
            <p:cNvPr id="920" name=""/>
            <p:cNvGrpSpPr/>
            <p:nvPr/>
          </p:nvGrpSpPr>
          <p:grpSpPr>
            <a:xfrm>
              <a:off x="2044800" y="3589200"/>
              <a:ext cx="505440" cy="371520"/>
              <a:chOff x="2044800" y="3589200"/>
              <a:chExt cx="505440" cy="37152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2236320" y="3665160"/>
                <a:ext cx="313920" cy="295560"/>
                <a:chOff x="2236320" y="3665160"/>
                <a:chExt cx="313920" cy="29556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2236320" y="366516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2239200" y="366624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4" name=""/>
              <p:cNvSpPr/>
              <p:nvPr/>
            </p:nvSpPr>
            <p:spPr>
              <a:xfrm>
                <a:off x="2044800" y="35892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2243160" y="364320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207880" y="37638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2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927" name=""/>
          <p:cNvSpPr/>
          <p:nvPr/>
        </p:nvSpPr>
        <p:spPr>
          <a:xfrm flipH="1">
            <a:off x="2567160" y="3807000"/>
            <a:ext cx="225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2462400" y="404640"/>
            <a:ext cx="505440" cy="371520"/>
            <a:chOff x="2462400" y="404640"/>
            <a:chExt cx="505440" cy="371520"/>
          </a:xfrm>
        </p:grpSpPr>
        <p:grpSp>
          <p:nvGrpSpPr>
            <p:cNvPr id="929" name=""/>
            <p:cNvGrpSpPr/>
            <p:nvPr/>
          </p:nvGrpSpPr>
          <p:grpSpPr>
            <a:xfrm>
              <a:off x="2462400" y="404640"/>
              <a:ext cx="505440" cy="371520"/>
              <a:chOff x="2462400" y="404640"/>
              <a:chExt cx="505440" cy="371520"/>
            </a:xfrm>
          </p:grpSpPr>
          <p:grpSp>
            <p:nvGrpSpPr>
              <p:cNvPr id="930" name=""/>
              <p:cNvGrpSpPr/>
              <p:nvPr/>
            </p:nvGrpSpPr>
            <p:grpSpPr>
              <a:xfrm>
                <a:off x="2653920" y="480600"/>
                <a:ext cx="313920" cy="295560"/>
                <a:chOff x="2653920" y="480600"/>
                <a:chExt cx="313920" cy="29556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2653920" y="48060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2656800" y="48168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3" name=""/>
              <p:cNvSpPr/>
              <p:nvPr/>
            </p:nvSpPr>
            <p:spPr>
              <a:xfrm>
                <a:off x="2462400" y="404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2660400" y="458640"/>
              <a:ext cx="2386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625480" y="5792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4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2968560" y="608040"/>
            <a:ext cx="287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55840" y="608040"/>
            <a:ext cx="0" cy="3110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3981600" y="3438360"/>
            <a:ext cx="314280" cy="295560"/>
            <a:chOff x="3981600" y="3438360"/>
            <a:chExt cx="314280" cy="295560"/>
          </a:xfrm>
        </p:grpSpPr>
        <p:sp>
          <p:nvSpPr>
            <p:cNvPr id="939" name=""/>
            <p:cNvSpPr/>
            <p:nvPr/>
          </p:nvSpPr>
          <p:spPr>
            <a:xfrm>
              <a:off x="3981600" y="3438360"/>
              <a:ext cx="314280" cy="2955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984480" y="3439440"/>
              <a:ext cx="303120" cy="2894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3791520" y="336240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988080" y="3416400"/>
            <a:ext cx="26748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PD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954240" y="353520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09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45040" y="3732120"/>
            <a:ext cx="0" cy="9493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4127400" y="1203480"/>
            <a:ext cx="0" cy="22348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190680" y="1203480"/>
            <a:ext cx="936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3605040" y="4672080"/>
            <a:ext cx="540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502080" y="2197080"/>
            <a:ext cx="1017360" cy="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508640" y="2197080"/>
            <a:ext cx="0" cy="157788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10080" y="3782880"/>
            <a:ext cx="3852720" cy="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8362800" y="3456000"/>
            <a:ext cx="0" cy="326880"/>
          </a:xfrm>
          <a:prstGeom prst="line">
            <a:avLst/>
          </a:prstGeom>
          <a:ln w="19080">
            <a:solidFill>
              <a:srgbClr val="0025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4684680" y="3164040"/>
            <a:ext cx="505800" cy="369360"/>
            <a:chOff x="4684680" y="3164040"/>
            <a:chExt cx="505800" cy="369360"/>
          </a:xfrm>
        </p:grpSpPr>
        <p:grpSp>
          <p:nvGrpSpPr>
            <p:cNvPr id="953" name=""/>
            <p:cNvGrpSpPr/>
            <p:nvPr/>
          </p:nvGrpSpPr>
          <p:grpSpPr>
            <a:xfrm>
              <a:off x="4684680" y="3164040"/>
              <a:ext cx="505800" cy="369360"/>
              <a:chOff x="4684680" y="3164040"/>
              <a:chExt cx="505800" cy="369360"/>
            </a:xfrm>
          </p:grpSpPr>
          <p:grpSp>
            <p:nvGrpSpPr>
              <p:cNvPr id="954" name=""/>
              <p:cNvGrpSpPr/>
              <p:nvPr/>
            </p:nvGrpSpPr>
            <p:grpSpPr>
              <a:xfrm>
                <a:off x="4876200" y="3239280"/>
                <a:ext cx="314280" cy="294120"/>
                <a:chOff x="4876200" y="3239280"/>
                <a:chExt cx="314280" cy="2941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4876200" y="323928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879080" y="324036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7" name=""/>
              <p:cNvSpPr/>
              <p:nvPr/>
            </p:nvSpPr>
            <p:spPr>
              <a:xfrm>
                <a:off x="4684680" y="31640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4883760" y="3219120"/>
              <a:ext cx="2628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F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848480" y="33390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9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4978440" y="3641760"/>
            <a:ext cx="103320" cy="177840"/>
            <a:chOff x="4978440" y="3641760"/>
            <a:chExt cx="103320" cy="177840"/>
          </a:xfrm>
        </p:grpSpPr>
        <p:sp>
          <p:nvSpPr>
            <p:cNvPr id="961" name=""/>
            <p:cNvSpPr/>
            <p:nvPr/>
          </p:nvSpPr>
          <p:spPr>
            <a:xfrm flipV="1">
              <a:off x="5029920" y="36903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4986720" y="3641760"/>
              <a:ext cx="81360" cy="91080"/>
              <a:chOff x="4986720" y="3641760"/>
              <a:chExt cx="81360" cy="91080"/>
            </a:xfrm>
          </p:grpSpPr>
          <p:sp>
            <p:nvSpPr>
              <p:cNvPr id="963" name=""/>
              <p:cNvSpPr/>
              <p:nvPr/>
            </p:nvSpPr>
            <p:spPr>
              <a:xfrm>
                <a:off x="4986720" y="368568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964" name=""/>
              <p:cNvGrpSpPr/>
              <p:nvPr/>
            </p:nvGrpSpPr>
            <p:grpSpPr>
              <a:xfrm>
                <a:off x="4986720" y="3641760"/>
                <a:ext cx="81360" cy="91080"/>
                <a:chOff x="4986720" y="3641760"/>
                <a:chExt cx="81360" cy="91080"/>
              </a:xfrm>
            </p:grpSpPr>
            <p:sp>
              <p:nvSpPr>
                <p:cNvPr id="965" name=""/>
                <p:cNvSpPr/>
                <p:nvPr/>
              </p:nvSpPr>
              <p:spPr>
                <a:xfrm flipH="1">
                  <a:off x="4986720" y="3641760"/>
                  <a:ext cx="8064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4986720" y="3641760"/>
                  <a:ext cx="8136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7" name=""/>
            <p:cNvSpPr/>
            <p:nvPr/>
          </p:nvSpPr>
          <p:spPr>
            <a:xfrm>
              <a:off x="4978440" y="3755160"/>
              <a:ext cx="1033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 flipV="1">
            <a:off x="5033880" y="3512880"/>
            <a:ext cx="0" cy="1285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4695840" y="3406680"/>
            <a:ext cx="0" cy="379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11680" y="3405240"/>
            <a:ext cx="169920" cy="1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5392800" y="3166920"/>
            <a:ext cx="505800" cy="369720"/>
            <a:chOff x="5392800" y="3166920"/>
            <a:chExt cx="505800" cy="369720"/>
          </a:xfrm>
        </p:grpSpPr>
        <p:grpSp>
          <p:nvGrpSpPr>
            <p:cNvPr id="972" name=""/>
            <p:cNvGrpSpPr/>
            <p:nvPr/>
          </p:nvGrpSpPr>
          <p:grpSpPr>
            <a:xfrm>
              <a:off x="5392800" y="3166920"/>
              <a:ext cx="505800" cy="369720"/>
              <a:chOff x="5392800" y="3166920"/>
              <a:chExt cx="505800" cy="36972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5584320" y="3242520"/>
                <a:ext cx="314280" cy="294120"/>
                <a:chOff x="5584320" y="3242520"/>
                <a:chExt cx="314280" cy="29412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5584320" y="324252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587200" y="324360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6" name=""/>
              <p:cNvSpPr/>
              <p:nvPr/>
            </p:nvSpPr>
            <p:spPr>
              <a:xfrm>
                <a:off x="5392800" y="31669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977" name=""/>
            <p:cNvSpPr/>
            <p:nvPr/>
          </p:nvSpPr>
          <p:spPr>
            <a:xfrm>
              <a:off x="5591160" y="322056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556600" y="33408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3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5743440" y="3543480"/>
            <a:ext cx="0" cy="23940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9068400" y="3201840"/>
            <a:ext cx="459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Propane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876800" y="500040"/>
            <a:ext cx="351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Flare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99000" y="3319560"/>
            <a:ext cx="10461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Bottoms from deetaniser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8448840" y="2887560"/>
            <a:ext cx="505440" cy="372600"/>
            <a:chOff x="8448840" y="2887560"/>
            <a:chExt cx="505440" cy="372600"/>
          </a:xfrm>
        </p:grpSpPr>
        <p:grpSp>
          <p:nvGrpSpPr>
            <p:cNvPr id="984" name=""/>
            <p:cNvGrpSpPr/>
            <p:nvPr/>
          </p:nvGrpSpPr>
          <p:grpSpPr>
            <a:xfrm>
              <a:off x="8448840" y="2887560"/>
              <a:ext cx="505440" cy="372600"/>
              <a:chOff x="8448840" y="2887560"/>
              <a:chExt cx="505440" cy="37260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8640360" y="2963520"/>
                <a:ext cx="313920" cy="296640"/>
                <a:chOff x="8640360" y="2963520"/>
                <a:chExt cx="313920" cy="29664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8640360" y="2963520"/>
                  <a:ext cx="313920" cy="29664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8643240" y="2964600"/>
                  <a:ext cx="302760" cy="29052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"/>
              <p:cNvSpPr/>
              <p:nvPr/>
            </p:nvSpPr>
            <p:spPr>
              <a:xfrm>
                <a:off x="8448840" y="28875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989" name=""/>
            <p:cNvSpPr/>
            <p:nvPr/>
          </p:nvSpPr>
          <p:spPr>
            <a:xfrm>
              <a:off x="8646840" y="2941560"/>
              <a:ext cx="2386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F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611920" y="306432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3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8818560" y="3263760"/>
            <a:ext cx="0" cy="173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440240" y="4179960"/>
            <a:ext cx="527040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marL="423720" indent="-423720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GB" sz="1500" spc="-1" strike="noStrike">
                <a:solidFill>
                  <a:srgbClr val="339966"/>
                </a:solidFill>
                <a:latin typeface="Times New Roman"/>
              </a:rPr>
              <a:t>Manipulated variables (MV)</a:t>
            </a:r>
            <a:r>
              <a:rPr b="1" lang="nb-NO" sz="15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=</a:t>
            </a:r>
            <a:r>
              <a:rPr b="1" lang="nb-NO" sz="1500" spc="-1" strike="noStrike">
                <a:solidFill>
                  <a:srgbClr val="ed8000"/>
                </a:solidFill>
                <a:latin typeface="Times New Roman"/>
                <a:ea typeface="Times New Roman"/>
              </a:rPr>
              <a:t> </a:t>
            </a:r>
            <a:r>
              <a:rPr b="0" lang="nb-NO" sz="15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Set points to DCS controllers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6480" y="2503440"/>
            <a:ext cx="2780640" cy="852120"/>
            <a:chOff x="6480" y="2503440"/>
            <a:chExt cx="2780640" cy="852120"/>
          </a:xfrm>
        </p:grpSpPr>
        <p:sp>
          <p:nvSpPr>
            <p:cNvPr id="994" name=""/>
            <p:cNvSpPr/>
            <p:nvPr/>
          </p:nvSpPr>
          <p:spPr>
            <a:xfrm>
              <a:off x="180000" y="3326400"/>
              <a:ext cx="2607120" cy="0"/>
            </a:xfrm>
            <a:prstGeom prst="line">
              <a:avLst/>
            </a:prstGeom>
            <a:ln w="28440">
              <a:solidFill>
                <a:srgbClr val="00256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6480" y="2507400"/>
              <a:ext cx="553320" cy="386280"/>
              <a:chOff x="6480" y="2507400"/>
              <a:chExt cx="553320" cy="386280"/>
            </a:xfrm>
          </p:grpSpPr>
          <p:grpSp>
            <p:nvGrpSpPr>
              <p:cNvPr id="996" name=""/>
              <p:cNvGrpSpPr/>
              <p:nvPr/>
            </p:nvGrpSpPr>
            <p:grpSpPr>
              <a:xfrm>
                <a:off x="216360" y="2586240"/>
                <a:ext cx="343440" cy="307440"/>
                <a:chOff x="216360" y="2586240"/>
                <a:chExt cx="343440" cy="30744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216360" y="2586240"/>
                  <a:ext cx="343440" cy="30744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219600" y="2587320"/>
                  <a:ext cx="331200" cy="3009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9" name=""/>
              <p:cNvSpPr/>
              <p:nvPr/>
            </p:nvSpPr>
            <p:spPr>
              <a:xfrm>
                <a:off x="6480" y="25074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>
              <a:off x="263160" y="26042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26440" y="271008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5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002" name=""/>
            <p:cNvGrpSpPr/>
            <p:nvPr/>
          </p:nvGrpSpPr>
          <p:grpSpPr>
            <a:xfrm>
              <a:off x="899280" y="3191760"/>
              <a:ext cx="91080" cy="163800"/>
              <a:chOff x="899280" y="3191760"/>
              <a:chExt cx="91080" cy="163800"/>
            </a:xfrm>
          </p:grpSpPr>
          <p:sp>
            <p:nvSpPr>
              <p:cNvPr id="1003" name=""/>
              <p:cNvSpPr/>
              <p:nvPr/>
            </p:nvSpPr>
            <p:spPr>
              <a:xfrm flipV="1">
                <a:off x="944640" y="3236400"/>
                <a:ext cx="0" cy="8424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004" name=""/>
              <p:cNvGrpSpPr/>
              <p:nvPr/>
            </p:nvGrpSpPr>
            <p:grpSpPr>
              <a:xfrm>
                <a:off x="906480" y="3191760"/>
                <a:ext cx="71640" cy="83880"/>
                <a:chOff x="906480" y="3191760"/>
                <a:chExt cx="71640" cy="8388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906480" y="3232440"/>
                  <a:ext cx="70920" cy="0"/>
                </a:xfrm>
                <a:prstGeom prst="line">
                  <a:avLst/>
                </a:prstGeom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6" name=""/>
                <p:cNvGrpSpPr/>
                <p:nvPr/>
              </p:nvGrpSpPr>
              <p:grpSpPr>
                <a:xfrm>
                  <a:off x="906480" y="3191760"/>
                  <a:ext cx="71640" cy="83880"/>
                  <a:chOff x="906480" y="3191760"/>
                  <a:chExt cx="71640" cy="8388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 flipH="1">
                    <a:off x="906480" y="3191760"/>
                    <a:ext cx="712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25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25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906840" y="3191760"/>
                    <a:ext cx="712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25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256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09" name=""/>
              <p:cNvSpPr/>
              <p:nvPr/>
            </p:nvSpPr>
            <p:spPr>
              <a:xfrm>
                <a:off x="899280" y="3296160"/>
                <a:ext cx="91080" cy="59400"/>
              </a:xfrm>
              <a:custGeom>
                <a:avLst/>
                <a:gdLst/>
                <a:ahLst/>
                <a:rect l="l" t="t" r="r" b="b"/>
                <a:pathLst>
                  <a:path w="144" h="48">
                    <a:moveTo>
                      <a:pt x="0" y="0"/>
                    </a:moveTo>
                    <a:lnTo>
                      <a:pt x="144" y="48"/>
                    </a:lnTo>
                    <a:lnTo>
                      <a:pt x="144" y="0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2569"/>
              </a:solidFill>
              <a:ln w="9360">
                <a:solidFill>
                  <a:srgbClr val="00256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945000" y="2908800"/>
              <a:ext cx="4320" cy="279720"/>
            </a:xfrm>
            <a:prstGeom prst="line">
              <a:avLst/>
            </a:prstGeom>
            <a:ln w="12600">
              <a:solidFill>
                <a:srgbClr val="00256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569160" y="2503440"/>
              <a:ext cx="527040" cy="389160"/>
              <a:chOff x="569160" y="2503440"/>
              <a:chExt cx="527040" cy="389160"/>
            </a:xfrm>
          </p:grpSpPr>
          <p:grpSp>
            <p:nvGrpSpPr>
              <p:cNvPr id="1012" name=""/>
              <p:cNvGrpSpPr/>
              <p:nvPr/>
            </p:nvGrpSpPr>
            <p:grpSpPr>
              <a:xfrm>
                <a:off x="768960" y="2583000"/>
                <a:ext cx="327240" cy="309600"/>
                <a:chOff x="768960" y="2583000"/>
                <a:chExt cx="327240" cy="30960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768960" y="2583000"/>
                  <a:ext cx="327240" cy="30960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71840" y="2584080"/>
                  <a:ext cx="315720" cy="30312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5" name=""/>
              <p:cNvSpPr/>
              <p:nvPr/>
            </p:nvSpPr>
            <p:spPr>
              <a:xfrm>
                <a:off x="569160" y="25034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807120" y="259092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82280" y="26967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6360" y="2879640"/>
              <a:ext cx="0" cy="439200"/>
            </a:xfrm>
            <a:prstGeom prst="line">
              <a:avLst/>
            </a:prstGeom>
            <a:ln w="9360">
              <a:solidFill>
                <a:srgbClr val="00256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920520" y="2894400"/>
              <a:ext cx="95184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1" lang="nb-NO" sz="900" spc="-1" strike="noStrike">
                  <a:solidFill>
                    <a:srgbClr val="d8e533"/>
                  </a:solidFill>
                  <a:latin typeface="Times New Roman"/>
                </a:rPr>
                <a:t>24LC1001.VYA</a:t>
              </a:r>
              <a:endParaRPr b="0" lang="en-US" sz="9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4435560" y="4481640"/>
            <a:ext cx="41702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marL="423720" indent="-423720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500" spc="-1" strike="noStrike">
                <a:solidFill>
                  <a:srgbClr val="d8e533"/>
                </a:solidFill>
                <a:latin typeface="Times New Roman"/>
              </a:rPr>
              <a:t>Disturbance variables (DV) = Feedforward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219480" y="6200640"/>
            <a:ext cx="55627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8780400" y="5121000"/>
            <a:ext cx="390600" cy="1701360"/>
            <a:chOff x="8780400" y="5121000"/>
            <a:chExt cx="390600" cy="1701360"/>
          </a:xfrm>
        </p:grpSpPr>
        <p:sp>
          <p:nvSpPr>
            <p:cNvPr id="1023" name=""/>
            <p:cNvSpPr/>
            <p:nvPr/>
          </p:nvSpPr>
          <p:spPr>
            <a:xfrm rot="16200000">
              <a:off x="8920800" y="4980600"/>
              <a:ext cx="107640" cy="388440"/>
            </a:xfrm>
            <a:prstGeom prst="flowChartDelay">
              <a:avLst/>
            </a:prstGeom>
            <a:noFill/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 rot="5400000">
              <a:off x="8921520" y="6573600"/>
              <a:ext cx="107640" cy="388800"/>
            </a:xfrm>
            <a:prstGeom prst="flowChartDelay">
              <a:avLst/>
            </a:prstGeom>
            <a:noFill/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780400" y="5174280"/>
              <a:ext cx="390600" cy="1599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 flipV="1">
            <a:off x="8980560" y="4654080"/>
            <a:ext cx="0" cy="4669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9032760" y="4529160"/>
            <a:ext cx="335160" cy="333360"/>
            <a:chOff x="9032760" y="4529160"/>
            <a:chExt cx="335160" cy="333360"/>
          </a:xfrm>
        </p:grpSpPr>
        <p:sp>
          <p:nvSpPr>
            <p:cNvPr id="1028" name=""/>
            <p:cNvSpPr/>
            <p:nvPr/>
          </p:nvSpPr>
          <p:spPr>
            <a:xfrm>
              <a:off x="9032760" y="4529160"/>
              <a:ext cx="335160" cy="3333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9035640" y="4530240"/>
              <a:ext cx="323280" cy="3265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8839440" y="4476600"/>
            <a:ext cx="258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9052560" y="4543560"/>
            <a:ext cx="293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AR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9010440" y="4657680"/>
            <a:ext cx="346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1005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9356400" y="4500720"/>
            <a:ext cx="4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ff0066"/>
                </a:solidFill>
                <a:latin typeface="Times New Roman"/>
              </a:rPr>
              <a:t>C = C3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E = nC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F = C5+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436880" y="5611680"/>
            <a:ext cx="13204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900" spc="-1" strike="noStrike">
                <a:solidFill>
                  <a:srgbClr val="002569"/>
                </a:solidFill>
                <a:latin typeface="Times New Roman"/>
              </a:rPr>
              <a:t>Debutaniser 24-VE-108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565520" y="1108080"/>
            <a:ext cx="5526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230720" y="987480"/>
            <a:ext cx="334800" cy="333360"/>
            <a:chOff x="4230720" y="987480"/>
            <a:chExt cx="334800" cy="333360"/>
          </a:xfrm>
        </p:grpSpPr>
        <p:sp>
          <p:nvSpPr>
            <p:cNvPr id="1037" name=""/>
            <p:cNvSpPr/>
            <p:nvPr/>
          </p:nvSpPr>
          <p:spPr>
            <a:xfrm>
              <a:off x="4230720" y="987480"/>
              <a:ext cx="334800" cy="3333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33600" y="988560"/>
              <a:ext cx="322920" cy="3265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4037040" y="934920"/>
            <a:ext cx="258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249800" y="1001880"/>
            <a:ext cx="293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AR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207320" y="1116000"/>
            <a:ext cx="346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1008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554000" y="958680"/>
            <a:ext cx="457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B = C2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C = C3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ff0066"/>
                </a:solidFill>
                <a:latin typeface="Times New Roman"/>
              </a:rPr>
              <a:t>D = iC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427640" y="3897360"/>
            <a:ext cx="527040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marL="423720" indent="-423720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GB" sz="1500" spc="-1" strike="noStrike">
                <a:solidFill>
                  <a:srgbClr val="ff0066"/>
                </a:solidFill>
                <a:latin typeface="Times New Roman"/>
              </a:rPr>
              <a:t>Controlled variables (CV)</a:t>
            </a:r>
            <a:r>
              <a:rPr b="1" lang="nb-NO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= </a:t>
            </a:r>
            <a:r>
              <a:rPr b="0" lang="nb-NO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oduct qualities, column deltaP ++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614480" y="3759120"/>
            <a:ext cx="1767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Normally 0 flow, used for start-ups to remove inerts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7D658-2BB5-4C6E-AB84-FE2EFE2C9F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25720" y="108000"/>
            <a:ext cx="43822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2200" spc="-1" strike="noStrike">
                <a:solidFill>
                  <a:srgbClr val="002569"/>
                </a:solidFill>
                <a:latin typeface="Times New Roman"/>
              </a:rPr>
              <a:t>Depropaniser Train100 step testing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96920" y="536400"/>
            <a:ext cx="96152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3 days – normal operation during night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256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Analyser responses are delayed – temperature measurements respond 20 min earlier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33480" y="1521000"/>
            <a:ext cx="9866160" cy="533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F9698-1815-4FC5-8B7A-3E8A952588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241200" y="108000"/>
            <a:ext cx="68101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2200" spc="-1" strike="noStrike">
                <a:solidFill>
                  <a:srgbClr val="002569"/>
                </a:solidFill>
                <a:latin typeface="Times New Roman"/>
              </a:rPr>
              <a:t>Depropaniser Train100 step testing – inferential models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96920" y="536400"/>
            <a:ext cx="96152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Combined process measurements </a:t>
            </a:r>
            <a:r>
              <a:rPr b="0" lang="nb-NO" sz="19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predicts product qualities well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906120" cy="598968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286200" y="2602080"/>
            <a:ext cx="24530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300" spc="-1" strike="noStrike">
                <a:solidFill>
                  <a:srgbClr val="002569"/>
                </a:solidFill>
                <a:latin typeface="Times New Roman"/>
              </a:rPr>
              <a:t>Calculated by 24TI1011 (tray 39)</a:t>
            </a:r>
            <a:r>
              <a:rPr b="0" lang="nb-NO" sz="2200" spc="-1" strike="noStrike">
                <a:solidFill>
                  <a:srgbClr val="00256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8520" y="5383080"/>
            <a:ext cx="59461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300" spc="-1" strike="noStrike">
                <a:solidFill>
                  <a:srgbClr val="002569"/>
                </a:solidFill>
                <a:latin typeface="Times New Roman"/>
              </a:rPr>
              <a:t>Calculated by 24TC1022 (t5), 24TI1018 (bottom), 24TI1012 (t17) and 24TI1011 (t39)</a:t>
            </a:r>
            <a:r>
              <a:rPr b="0" lang="nb-NO" sz="2200" spc="-1" strike="noStrike">
                <a:solidFill>
                  <a:srgbClr val="00256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C9745-ADE0-4C9E-9907-741BE6406E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236160" y="108000"/>
            <a:ext cx="5878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2200" spc="-1" strike="noStrike">
                <a:solidFill>
                  <a:srgbClr val="002569"/>
                </a:solidFill>
                <a:latin typeface="Times New Roman"/>
              </a:rPr>
              <a:t>Depropaniser Train100 step testing – CV choice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6920" y="536400"/>
            <a:ext cx="9615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Product quality predictors, with slow corrections from analyser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WingDings" charset="2"/>
              <a:buChar char="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Can control even if the analyser is out of service, automatic analyser fault detection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WingDings" charset="2"/>
              <a:buChar char="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Removes a 20 min feedback delay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0" y="1476360"/>
            <a:ext cx="9906120" cy="541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5D5A-DFFD-4A1C-8EF6-9AABA41C95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250560" y="108000"/>
            <a:ext cx="78631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2200" spc="-1" strike="noStrike">
                <a:solidFill>
                  <a:srgbClr val="002569"/>
                </a:solidFill>
                <a:latin typeface="Times New Roman"/>
              </a:rPr>
              <a:t>Depropaniser Train100 step testing – Dynamic responses/models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96920" y="423720"/>
            <a:ext cx="961524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The dynamic models (red) are step responses, made from step-test data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Models from 24FC1008VWA show the 3 CV responses to a reflux set point increase of 1 kg/h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Models from 24TC1022VWA show the CV responses to a temperature set point increase of 1 degree C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Models from 24LC1001VYA (DV) show the CV responses to an output increase of 1%.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0" y="1663560"/>
            <a:ext cx="9906120" cy="522936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3186720" y="3386160"/>
            <a:ext cx="17748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300" spc="-1" strike="noStrike">
                <a:solidFill>
                  <a:srgbClr val="002569"/>
                </a:solidFill>
                <a:latin typeface="Times New Roman"/>
              </a:rPr>
              <a:t>3 t 20 min etter spranget</a:t>
            </a: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245120" y="3666960"/>
            <a:ext cx="212760" cy="482760"/>
          </a:xfrm>
          <a:prstGeom prst="line">
            <a:avLst/>
          </a:prstGeom>
          <a:ln w="9360">
            <a:solidFill>
              <a:srgbClr val="0025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C925-7743-4A01-B5F7-C763F98BAB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250560" y="108000"/>
            <a:ext cx="78631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2200" spc="-1" strike="noStrike">
                <a:solidFill>
                  <a:srgbClr val="002569"/>
                </a:solidFill>
                <a:latin typeface="Times New Roman"/>
              </a:rPr>
              <a:t>Depropaniser Train100 step testing – Dynamic responses/models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96920" y="423720"/>
            <a:ext cx="961524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Match between measured CV’s (pink) and modelled step responses (blue) fairly good, green is model error.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Assumed linear responses, i.e. a reflux change of 1 kg/h gives the same product quality response whether the impurity is 0.1% or 2%. This is not correct, and the application will use logarithmic product quality transformations to compensate for the nonlinearities. 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0" y="1547640"/>
            <a:ext cx="9906120" cy="5310360"/>
            <a:chOff x="0" y="1547640"/>
            <a:chExt cx="9906120" cy="5310360"/>
          </a:xfrm>
        </p:grpSpPr>
        <p:pic>
          <p:nvPicPr>
            <p:cNvPr id="1064" name="" descr=""/>
            <p:cNvPicPr/>
            <p:nvPr/>
          </p:nvPicPr>
          <p:blipFill>
            <a:blip r:embed="rId1"/>
            <a:stretch/>
          </p:blipFill>
          <p:spPr>
            <a:xfrm>
              <a:off x="0" y="1547640"/>
              <a:ext cx="9906120" cy="26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" descr=""/>
            <p:cNvPicPr/>
            <p:nvPr/>
          </p:nvPicPr>
          <p:blipFill>
            <a:blip r:embed="rId2"/>
            <a:stretch/>
          </p:blipFill>
          <p:spPr>
            <a:xfrm>
              <a:off x="0" y="2860560"/>
              <a:ext cx="9906120" cy="268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" descr=""/>
            <p:cNvPicPr/>
            <p:nvPr/>
          </p:nvPicPr>
          <p:blipFill>
            <a:blip r:embed="rId3"/>
            <a:stretch/>
          </p:blipFill>
          <p:spPr>
            <a:xfrm>
              <a:off x="0" y="4173480"/>
              <a:ext cx="9906120" cy="268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7" name=""/>
          <p:cNvSpPr/>
          <p:nvPr/>
        </p:nvSpPr>
        <p:spPr>
          <a:xfrm>
            <a:off x="0" y="5697360"/>
            <a:ext cx="990612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08E2-FB65-4348-B0DA-3C26DE7094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35800" y="108000"/>
            <a:ext cx="6386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2200" spc="-1" strike="noStrike">
                <a:solidFill>
                  <a:srgbClr val="002569"/>
                </a:solidFill>
                <a:latin typeface="Times New Roman"/>
              </a:rPr>
              <a:t>Depropaniser Train100 MPC – controller activation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6920" y="423720"/>
            <a:ext cx="9615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Starts with 1 MV and 1 CV – CV set point changes, controller tuning, model verification and corrections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Shifts to another MV/CV pair, same procedure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Interactions verified – controls 2x2 system (2 MV + 2 CV)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Expects 3 – 5 days tuning with set point changes to achieve satisfactory performance </a:t>
            </a:r>
            <a:endParaRPr b="0" lang="en-US" sz="1700" spc="-1" strike="noStrike">
              <a:solidFill>
                <a:srgbClr val="002569"/>
              </a:solidFill>
              <a:latin typeface="Times New Roman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0" y="1547640"/>
            <a:ext cx="9906120" cy="531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0ACE7-CEE4-4BE2-A6FA-1E9E81D8D7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39400" y="108000"/>
            <a:ext cx="64137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2200" spc="-1" strike="noStrike">
                <a:solidFill>
                  <a:srgbClr val="002569"/>
                </a:solidFill>
                <a:latin typeface="Times New Roman"/>
              </a:rPr>
              <a:t>Depropaniser Train100 MPC – further development</a:t>
            </a:r>
            <a:endParaRPr b="0" lang="en-US" sz="22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96920" y="617400"/>
            <a:ext cx="961524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spcBef>
                <a:spcPts val="1188"/>
              </a:spcBef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Commissions product quality control January 2004, i.e. MPC manipulates reflux and tray 5 temperature SP to control top and bottoms product quality.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Product quality predictors will be evalutaed and recalibrated if necessary.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If boil-up constraints: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­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500" spc="-1" strike="noStrike">
                <a:solidFill>
                  <a:srgbClr val="339966"/>
                </a:solidFill>
                <a:latin typeface="Times New Roman"/>
              </a:rPr>
              <a:t>MV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: steam pressure SP 24PC1010.VWA, </a:t>
            </a:r>
            <a:r>
              <a:rPr b="0" lang="nb-NO" sz="1500" spc="-1" strike="noStrike">
                <a:solidFill>
                  <a:srgbClr val="ff0066"/>
                </a:solidFill>
                <a:latin typeface="Times New Roman"/>
              </a:rPr>
              <a:t>CV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: boiler level SP 24LC1026.VWA with high/low limits.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If limited LP steam (plant-wide):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­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Specify max acceptable impurity in both ends (CV SP) (10-15% reduced steam consumption)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­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Marginal: </a:t>
            </a:r>
            <a:r>
              <a:rPr b="0" lang="nb-NO" sz="1500" spc="-1" strike="noStrike">
                <a:solidFill>
                  <a:srgbClr val="339966"/>
                </a:solidFill>
                <a:latin typeface="Times New Roman"/>
              </a:rPr>
              <a:t>MV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: column pressure (24PC1020.VWA), </a:t>
            </a:r>
            <a:r>
              <a:rPr b="0" lang="nb-NO" sz="1500" spc="-1" strike="noStrike">
                <a:solidFill>
                  <a:srgbClr val="ff0066"/>
                </a:solidFill>
                <a:latin typeface="Times New Roman"/>
              </a:rPr>
              <a:t>CV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: pressure controller output (24PC1020.VYA) with high/low limits. Low MV ideal value that decreases pressure against output limitation (1-3% reduced steam consumption) 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If Train 100 capacity test gives column flooding: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­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500" spc="-1" strike="noStrike">
                <a:solidFill>
                  <a:srgbClr val="ff0066"/>
                </a:solidFill>
                <a:latin typeface="Times New Roman"/>
              </a:rPr>
              <a:t>CV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: column differential pressure, with high limit.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­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Specify max acceptable impurity in both ends (10-15% increased capacity compared to normal product purity)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  <a:p>
            <a:pPr lvl="1" marL="423720">
              <a:lnSpc>
                <a:spcPct val="100000"/>
              </a:lnSpc>
              <a:buClr>
                <a:srgbClr val="ff9900"/>
              </a:buClr>
              <a:buFont typeface="Times New Roman"/>
              <a:buChar char="­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nb-NO" sz="1500" spc="-1" strike="noStrike">
                <a:solidFill>
                  <a:srgbClr val="000099"/>
                </a:solidFill>
                <a:latin typeface="Times New Roman"/>
              </a:rPr>
              <a:t>Adjust feed flow (by adjusting Train 100 feed) against differential pressure high limit (see below)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2005/2006:</a:t>
            </a:r>
            <a:r>
              <a:rPr b="0" lang="nb-NO" sz="17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Capacity control for Train 100 to push feed continuously against one or more processing constraints.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ff9900"/>
              </a:buClr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900" spc="-1" strike="noStrike">
                <a:solidFill>
                  <a:srgbClr val="000099"/>
                </a:solidFill>
                <a:latin typeface="Times New Roman"/>
              </a:rPr>
              <a:t>Resources for continuous MPC maintenance important </a:t>
            </a:r>
            <a:endParaRPr b="0" lang="en-US" sz="19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73449-E9BD-4D05-B579-74BEE724DB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287640" y="69840"/>
            <a:ext cx="2775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1300" spc="-1" strike="noStrike">
                <a:solidFill>
                  <a:srgbClr val="002569"/>
                </a:solidFill>
                <a:latin typeface="Times New Roman"/>
              </a:rPr>
              <a:t>Depropaniser Train 100 – 24-VE-107</a:t>
            </a: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2792520" y="1323720"/>
            <a:ext cx="820080" cy="4642920"/>
            <a:chOff x="2792520" y="1323720"/>
            <a:chExt cx="820080" cy="4642920"/>
          </a:xfrm>
        </p:grpSpPr>
        <p:grpSp>
          <p:nvGrpSpPr>
            <p:cNvPr id="1075" name=""/>
            <p:cNvGrpSpPr/>
            <p:nvPr/>
          </p:nvGrpSpPr>
          <p:grpSpPr>
            <a:xfrm>
              <a:off x="2792520" y="1323720"/>
              <a:ext cx="820080" cy="4642920"/>
              <a:chOff x="2792520" y="1323720"/>
              <a:chExt cx="820080" cy="464292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2891520" y="1323720"/>
                <a:ext cx="622080" cy="1625400"/>
                <a:chOff x="2891520" y="1323720"/>
                <a:chExt cx="622080" cy="1625400"/>
              </a:xfrm>
            </p:grpSpPr>
            <p:sp>
              <p:nvSpPr>
                <p:cNvPr id="1077" name=""/>
                <p:cNvSpPr/>
                <p:nvPr/>
              </p:nvSpPr>
              <p:spPr>
                <a:xfrm rot="16200000">
                  <a:off x="2982960" y="1232280"/>
                  <a:ext cx="438120" cy="621000"/>
                </a:xfrm>
                <a:prstGeom prst="flowChartDelay">
                  <a:avLst/>
                </a:prstGeom>
                <a:noFill/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2891520" y="1531440"/>
                  <a:ext cx="622080" cy="1417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2792520" y="3254040"/>
                <a:ext cx="820080" cy="2712600"/>
                <a:chOff x="2792520" y="3254040"/>
                <a:chExt cx="820080" cy="2712600"/>
              </a:xfrm>
            </p:grpSpPr>
            <p:sp>
              <p:nvSpPr>
                <p:cNvPr id="1080" name=""/>
                <p:cNvSpPr/>
                <p:nvPr/>
              </p:nvSpPr>
              <p:spPr>
                <a:xfrm flipV="1" rot="5400000">
                  <a:off x="2984040" y="5338080"/>
                  <a:ext cx="438480" cy="818640"/>
                </a:xfrm>
                <a:prstGeom prst="flowChartDelay">
                  <a:avLst/>
                </a:prstGeom>
                <a:noFill/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2792520" y="3254040"/>
                  <a:ext cx="817920" cy="250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2" name=""/>
              <p:cNvSpPr/>
              <p:nvPr/>
            </p:nvSpPr>
            <p:spPr>
              <a:xfrm flipH="1">
                <a:off x="2792520" y="2949480"/>
                <a:ext cx="100800" cy="304200"/>
              </a:xfrm>
              <a:prstGeom prst="line">
                <a:avLst/>
              </a:prstGeom>
              <a:ln w="1908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513600" y="2949480"/>
                <a:ext cx="97200" cy="304200"/>
              </a:xfrm>
              <a:prstGeom prst="line">
                <a:avLst/>
              </a:prstGeom>
              <a:ln w="1908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908080" y="2916000"/>
                <a:ext cx="588240" cy="61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000" y="3251160"/>
                <a:ext cx="763920" cy="77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2961000" y="2628720"/>
              <a:ext cx="551160" cy="176760"/>
              <a:chOff x="2961000" y="2628720"/>
              <a:chExt cx="551160" cy="176760"/>
            </a:xfrm>
          </p:grpSpPr>
          <p:sp>
            <p:nvSpPr>
              <p:cNvPr id="1087" name=""/>
              <p:cNvSpPr/>
              <p:nvPr/>
            </p:nvSpPr>
            <p:spPr>
              <a:xfrm>
                <a:off x="2961000" y="280296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265920" y="26287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1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2870280" y="4346280"/>
              <a:ext cx="669600" cy="176760"/>
              <a:chOff x="2870280" y="4346280"/>
              <a:chExt cx="669600" cy="176760"/>
            </a:xfrm>
          </p:grpSpPr>
          <p:sp>
            <p:nvSpPr>
              <p:cNvPr id="1090" name=""/>
              <p:cNvSpPr/>
              <p:nvPr/>
            </p:nvSpPr>
            <p:spPr>
              <a:xfrm>
                <a:off x="2870280" y="4520520"/>
                <a:ext cx="6696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97960" y="434628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2870280" y="4101840"/>
              <a:ext cx="669600" cy="176760"/>
              <a:chOff x="2870280" y="4101840"/>
              <a:chExt cx="669600" cy="176760"/>
            </a:xfrm>
          </p:grpSpPr>
          <p:sp>
            <p:nvSpPr>
              <p:cNvPr id="1093" name=""/>
              <p:cNvSpPr/>
              <p:nvPr/>
            </p:nvSpPr>
            <p:spPr>
              <a:xfrm>
                <a:off x="2870280" y="4275720"/>
                <a:ext cx="6696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297960" y="410184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2858760" y="3947760"/>
              <a:ext cx="667440" cy="176760"/>
              <a:chOff x="2858760" y="3947760"/>
              <a:chExt cx="667440" cy="176760"/>
            </a:xfrm>
          </p:grpSpPr>
          <p:sp>
            <p:nvSpPr>
              <p:cNvPr id="1096" name=""/>
              <p:cNvSpPr/>
              <p:nvPr/>
            </p:nvSpPr>
            <p:spPr>
              <a:xfrm>
                <a:off x="2858760" y="4121640"/>
                <a:ext cx="6674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283560" y="394776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2858760" y="3778200"/>
              <a:ext cx="671760" cy="176760"/>
              <a:chOff x="2858760" y="3778200"/>
              <a:chExt cx="671760" cy="176760"/>
            </a:xfrm>
          </p:grpSpPr>
          <p:sp>
            <p:nvSpPr>
              <p:cNvPr id="1099" name=""/>
              <p:cNvSpPr/>
              <p:nvPr/>
            </p:nvSpPr>
            <p:spPr>
              <a:xfrm>
                <a:off x="2858760" y="3952080"/>
                <a:ext cx="6688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284280" y="37782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7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2856960" y="3242880"/>
              <a:ext cx="672480" cy="176760"/>
              <a:chOff x="2856960" y="3242880"/>
              <a:chExt cx="672480" cy="176760"/>
            </a:xfrm>
          </p:grpSpPr>
          <p:sp>
            <p:nvSpPr>
              <p:cNvPr id="1102" name=""/>
              <p:cNvSpPr/>
              <p:nvPr/>
            </p:nvSpPr>
            <p:spPr>
              <a:xfrm>
                <a:off x="2856960" y="3413880"/>
                <a:ext cx="6692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283200" y="32428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0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2963160" y="2376360"/>
              <a:ext cx="550080" cy="176760"/>
              <a:chOff x="2963160" y="2376360"/>
              <a:chExt cx="550080" cy="176760"/>
            </a:xfrm>
          </p:grpSpPr>
          <p:sp>
            <p:nvSpPr>
              <p:cNvPr id="1105" name=""/>
              <p:cNvSpPr/>
              <p:nvPr/>
            </p:nvSpPr>
            <p:spPr>
              <a:xfrm>
                <a:off x="2963160" y="255024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267000" y="237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3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2964600" y="2234880"/>
              <a:ext cx="550080" cy="176760"/>
              <a:chOff x="2964600" y="2234880"/>
              <a:chExt cx="550080" cy="176760"/>
            </a:xfrm>
          </p:grpSpPr>
          <p:sp>
            <p:nvSpPr>
              <p:cNvPr id="1108" name=""/>
              <p:cNvSpPr/>
              <p:nvPr/>
            </p:nvSpPr>
            <p:spPr>
              <a:xfrm>
                <a:off x="2964600" y="240912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268440" y="22348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2957760" y="1861920"/>
              <a:ext cx="550440" cy="176760"/>
              <a:chOff x="2957760" y="1861920"/>
              <a:chExt cx="550440" cy="176760"/>
            </a:xfrm>
          </p:grpSpPr>
          <p:sp>
            <p:nvSpPr>
              <p:cNvPr id="1111" name=""/>
              <p:cNvSpPr/>
              <p:nvPr/>
            </p:nvSpPr>
            <p:spPr>
              <a:xfrm>
                <a:off x="2957760" y="2037600"/>
                <a:ext cx="476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261960" y="18619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9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2959560" y="1515960"/>
              <a:ext cx="552600" cy="176760"/>
              <a:chOff x="2959560" y="1515960"/>
              <a:chExt cx="552600" cy="176760"/>
            </a:xfrm>
          </p:grpSpPr>
          <p:sp>
            <p:nvSpPr>
              <p:cNvPr id="1114" name=""/>
              <p:cNvSpPr/>
              <p:nvPr/>
            </p:nvSpPr>
            <p:spPr>
              <a:xfrm>
                <a:off x="2959560" y="1689840"/>
                <a:ext cx="47592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265920" y="15159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48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2959560" y="2097000"/>
              <a:ext cx="552600" cy="176760"/>
              <a:chOff x="2959560" y="2097000"/>
              <a:chExt cx="552600" cy="176760"/>
            </a:xfrm>
          </p:grpSpPr>
          <p:sp>
            <p:nvSpPr>
              <p:cNvPr id="1117" name=""/>
              <p:cNvSpPr/>
              <p:nvPr/>
            </p:nvSpPr>
            <p:spPr>
              <a:xfrm>
                <a:off x="2959560" y="2269440"/>
                <a:ext cx="47592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265920" y="20970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2952720" y="1661760"/>
              <a:ext cx="550080" cy="176760"/>
              <a:chOff x="2952720" y="1661760"/>
              <a:chExt cx="550080" cy="176760"/>
            </a:xfrm>
          </p:grpSpPr>
          <p:sp>
            <p:nvSpPr>
              <p:cNvPr id="1120" name=""/>
              <p:cNvSpPr/>
              <p:nvPr/>
            </p:nvSpPr>
            <p:spPr>
              <a:xfrm>
                <a:off x="2952720" y="183420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256560" y="16617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40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2860200" y="3533400"/>
              <a:ext cx="672480" cy="176760"/>
              <a:chOff x="2860200" y="3533400"/>
              <a:chExt cx="672480" cy="176760"/>
            </a:xfrm>
          </p:grpSpPr>
          <p:sp>
            <p:nvSpPr>
              <p:cNvPr id="1123" name=""/>
              <p:cNvSpPr/>
              <p:nvPr/>
            </p:nvSpPr>
            <p:spPr>
              <a:xfrm>
                <a:off x="2860200" y="3707640"/>
                <a:ext cx="6692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286440" y="35334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8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"/>
          <p:cNvGrpSpPr/>
          <p:nvPr/>
        </p:nvGrpSpPr>
        <p:grpSpPr>
          <a:xfrm>
            <a:off x="2236680" y="4048200"/>
            <a:ext cx="312840" cy="295200"/>
            <a:chOff x="2236680" y="4048200"/>
            <a:chExt cx="312840" cy="295200"/>
          </a:xfrm>
        </p:grpSpPr>
        <p:sp>
          <p:nvSpPr>
            <p:cNvPr id="1126" name=""/>
            <p:cNvSpPr/>
            <p:nvPr/>
          </p:nvSpPr>
          <p:spPr>
            <a:xfrm>
              <a:off x="2236680" y="4048200"/>
              <a:ext cx="312840" cy="295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239560" y="4049280"/>
              <a:ext cx="301680" cy="289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2043720" y="397188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44960" y="4025880"/>
            <a:ext cx="26748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TC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199600" y="414504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22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2548080" y="4194000"/>
            <a:ext cx="225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873520" y="5880240"/>
            <a:ext cx="0" cy="69840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2236320" y="6562800"/>
            <a:ext cx="63684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16200000">
            <a:off x="1648440" y="5558040"/>
            <a:ext cx="1143000" cy="45576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233440" y="6338880"/>
            <a:ext cx="0" cy="23976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 flipV="1">
            <a:off x="2217600" y="4584600"/>
            <a:ext cx="6480" cy="63360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27320" y="4587840"/>
            <a:ext cx="5587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1555560" y="4189320"/>
            <a:ext cx="680760" cy="180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44480" y="5410080"/>
            <a:ext cx="12463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725040" y="6135840"/>
            <a:ext cx="126540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708200" y="5729400"/>
            <a:ext cx="282600" cy="0"/>
          </a:xfrm>
          <a:prstGeom prst="line">
            <a:avLst/>
          </a:prstGeom>
          <a:ln cap="rnd" w="9360">
            <a:solidFill>
              <a:srgbClr val="0025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1498680" y="5989680"/>
            <a:ext cx="102960" cy="175680"/>
            <a:chOff x="1498680" y="5989680"/>
            <a:chExt cx="102960" cy="175680"/>
          </a:xfrm>
        </p:grpSpPr>
        <p:sp>
          <p:nvSpPr>
            <p:cNvPr id="1143" name=""/>
            <p:cNvSpPr/>
            <p:nvPr/>
          </p:nvSpPr>
          <p:spPr>
            <a:xfrm flipV="1">
              <a:off x="1549800" y="603756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144" name=""/>
            <p:cNvGrpSpPr/>
            <p:nvPr/>
          </p:nvGrpSpPr>
          <p:grpSpPr>
            <a:xfrm>
              <a:off x="1506960" y="5989680"/>
              <a:ext cx="81000" cy="90360"/>
              <a:chOff x="1506960" y="5989680"/>
              <a:chExt cx="81000" cy="90360"/>
            </a:xfrm>
          </p:grpSpPr>
          <p:sp>
            <p:nvSpPr>
              <p:cNvPr id="1145" name=""/>
              <p:cNvSpPr/>
              <p:nvPr/>
            </p:nvSpPr>
            <p:spPr>
              <a:xfrm>
                <a:off x="1506960" y="603324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1506960" y="5989680"/>
                <a:ext cx="81000" cy="90360"/>
                <a:chOff x="1506960" y="5989680"/>
                <a:chExt cx="81000" cy="90360"/>
              </a:xfrm>
            </p:grpSpPr>
            <p:sp>
              <p:nvSpPr>
                <p:cNvPr id="1147" name=""/>
                <p:cNvSpPr/>
                <p:nvPr/>
              </p:nvSpPr>
              <p:spPr>
                <a:xfrm flipH="1">
                  <a:off x="1506960" y="598968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1507320" y="598968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1498680" y="610164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1549440" y="5880240"/>
            <a:ext cx="0" cy="98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985680" y="5268960"/>
            <a:ext cx="103320" cy="177840"/>
            <a:chOff x="985680" y="5268960"/>
            <a:chExt cx="103320" cy="177840"/>
          </a:xfrm>
        </p:grpSpPr>
        <p:sp>
          <p:nvSpPr>
            <p:cNvPr id="1152" name=""/>
            <p:cNvSpPr/>
            <p:nvPr/>
          </p:nvSpPr>
          <p:spPr>
            <a:xfrm flipV="1">
              <a:off x="1037160" y="53175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993960" y="5268960"/>
              <a:ext cx="81360" cy="91080"/>
              <a:chOff x="993960" y="5268960"/>
              <a:chExt cx="81360" cy="91080"/>
            </a:xfrm>
          </p:grpSpPr>
          <p:sp>
            <p:nvSpPr>
              <p:cNvPr id="1154" name=""/>
              <p:cNvSpPr/>
              <p:nvPr/>
            </p:nvSpPr>
            <p:spPr>
              <a:xfrm>
                <a:off x="993960" y="531288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155" name=""/>
              <p:cNvGrpSpPr/>
              <p:nvPr/>
            </p:nvGrpSpPr>
            <p:grpSpPr>
              <a:xfrm>
                <a:off x="993960" y="5268960"/>
                <a:ext cx="81360" cy="91080"/>
                <a:chOff x="993960" y="5268960"/>
                <a:chExt cx="81360" cy="91080"/>
              </a:xfrm>
            </p:grpSpPr>
            <p:sp>
              <p:nvSpPr>
                <p:cNvPr id="1156" name=""/>
                <p:cNvSpPr/>
                <p:nvPr/>
              </p:nvSpPr>
              <p:spPr>
                <a:xfrm flipH="1">
                  <a:off x="993960" y="5268960"/>
                  <a:ext cx="8064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993960" y="5268960"/>
                  <a:ext cx="8136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8" name=""/>
            <p:cNvSpPr/>
            <p:nvPr/>
          </p:nvSpPr>
          <p:spPr>
            <a:xfrm>
              <a:off x="985680" y="5382360"/>
              <a:ext cx="1033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1044720" y="5116680"/>
            <a:ext cx="0" cy="1504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222200" y="4964040"/>
            <a:ext cx="216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447920" y="4964040"/>
            <a:ext cx="0" cy="449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82840" y="6219720"/>
            <a:ext cx="674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700" spc="-1" strike="noStrike">
                <a:solidFill>
                  <a:srgbClr val="002569"/>
                </a:solidFill>
                <a:latin typeface="Times New Roman"/>
              </a:rPr>
              <a:t>LP Kondensat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02280" y="5442120"/>
            <a:ext cx="511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LP Damp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555920" y="4189320"/>
            <a:ext cx="0" cy="1370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1397160" y="5570640"/>
            <a:ext cx="314280" cy="295200"/>
            <a:chOff x="1397160" y="5570640"/>
            <a:chExt cx="314280" cy="295200"/>
          </a:xfrm>
        </p:grpSpPr>
        <p:sp>
          <p:nvSpPr>
            <p:cNvPr id="1166" name=""/>
            <p:cNvSpPr/>
            <p:nvPr/>
          </p:nvSpPr>
          <p:spPr>
            <a:xfrm>
              <a:off x="1397160" y="5570640"/>
              <a:ext cx="314280" cy="2952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400040" y="5571720"/>
              <a:ext cx="303120" cy="2890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168" name=""/>
          <p:cNvSpPr/>
          <p:nvPr/>
        </p:nvSpPr>
        <p:spPr>
          <a:xfrm>
            <a:off x="1205640" y="549432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03640" y="5548320"/>
            <a:ext cx="26748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LC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370880" y="566748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26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878040" y="4819680"/>
            <a:ext cx="314280" cy="295200"/>
            <a:chOff x="878040" y="4819680"/>
            <a:chExt cx="314280" cy="295200"/>
          </a:xfrm>
        </p:grpSpPr>
        <p:sp>
          <p:nvSpPr>
            <p:cNvPr id="1172" name=""/>
            <p:cNvSpPr/>
            <p:nvPr/>
          </p:nvSpPr>
          <p:spPr>
            <a:xfrm>
              <a:off x="878040" y="4819680"/>
              <a:ext cx="314280" cy="295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80920" y="4820760"/>
              <a:ext cx="303120" cy="289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686520" y="474336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87040" y="4797360"/>
            <a:ext cx="2628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PC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51760" y="491976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10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2883240" y="6308640"/>
            <a:ext cx="506880" cy="371520"/>
            <a:chOff x="2883240" y="6308640"/>
            <a:chExt cx="506880" cy="371520"/>
          </a:xfrm>
        </p:grpSpPr>
        <p:grpSp>
          <p:nvGrpSpPr>
            <p:cNvPr id="1178" name=""/>
            <p:cNvGrpSpPr/>
            <p:nvPr/>
          </p:nvGrpSpPr>
          <p:grpSpPr>
            <a:xfrm>
              <a:off x="2883240" y="6308640"/>
              <a:ext cx="506880" cy="371520"/>
              <a:chOff x="2883240" y="6308640"/>
              <a:chExt cx="506880" cy="371520"/>
            </a:xfrm>
          </p:grpSpPr>
          <p:grpSp>
            <p:nvGrpSpPr>
              <p:cNvPr id="1179" name=""/>
              <p:cNvGrpSpPr/>
              <p:nvPr/>
            </p:nvGrpSpPr>
            <p:grpSpPr>
              <a:xfrm>
                <a:off x="3075120" y="6384600"/>
                <a:ext cx="315000" cy="295560"/>
                <a:chOff x="3075120" y="6384600"/>
                <a:chExt cx="315000" cy="29556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3075120" y="6384600"/>
                  <a:ext cx="31500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3078000" y="6385680"/>
                  <a:ext cx="30384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2" name=""/>
              <p:cNvSpPr/>
              <p:nvPr/>
            </p:nvSpPr>
            <p:spPr>
              <a:xfrm>
                <a:off x="2883240" y="6308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>
              <a:off x="3082320" y="63626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047400" y="64814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8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 flipH="1">
            <a:off x="2868480" y="6518160"/>
            <a:ext cx="2080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3794400" y="5065560"/>
            <a:ext cx="506880" cy="371520"/>
            <a:chOff x="3794400" y="5065560"/>
            <a:chExt cx="506880" cy="371520"/>
          </a:xfrm>
        </p:grpSpPr>
        <p:grpSp>
          <p:nvGrpSpPr>
            <p:cNvPr id="1187" name=""/>
            <p:cNvGrpSpPr/>
            <p:nvPr/>
          </p:nvGrpSpPr>
          <p:grpSpPr>
            <a:xfrm>
              <a:off x="3794400" y="5065560"/>
              <a:ext cx="506880" cy="371520"/>
              <a:chOff x="3794400" y="5065560"/>
              <a:chExt cx="506880" cy="371520"/>
            </a:xfrm>
          </p:grpSpPr>
          <p:grpSp>
            <p:nvGrpSpPr>
              <p:cNvPr id="1188" name=""/>
              <p:cNvGrpSpPr/>
              <p:nvPr/>
            </p:nvGrpSpPr>
            <p:grpSpPr>
              <a:xfrm>
                <a:off x="3986280" y="5141520"/>
                <a:ext cx="315000" cy="295560"/>
                <a:chOff x="3986280" y="5141520"/>
                <a:chExt cx="315000" cy="29556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3986280" y="5141520"/>
                  <a:ext cx="31500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3989160" y="5142600"/>
                  <a:ext cx="30384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1" name=""/>
              <p:cNvSpPr/>
              <p:nvPr/>
            </p:nvSpPr>
            <p:spPr>
              <a:xfrm>
                <a:off x="3794400" y="50655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3994560" y="511956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958560" y="52416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9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194" name=""/>
          <p:cNvSpPr/>
          <p:nvPr/>
        </p:nvSpPr>
        <p:spPr>
          <a:xfrm flipH="1">
            <a:off x="3615840" y="5276880"/>
            <a:ext cx="3668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219480" y="5965920"/>
            <a:ext cx="0" cy="2347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4984920" y="6048360"/>
            <a:ext cx="102960" cy="176040"/>
            <a:chOff x="4984920" y="6048360"/>
            <a:chExt cx="102960" cy="176040"/>
          </a:xfrm>
        </p:grpSpPr>
        <p:sp>
          <p:nvSpPr>
            <p:cNvPr id="1197" name=""/>
            <p:cNvSpPr/>
            <p:nvPr/>
          </p:nvSpPr>
          <p:spPr>
            <a:xfrm flipV="1">
              <a:off x="5036040" y="609624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198" name=""/>
            <p:cNvGrpSpPr/>
            <p:nvPr/>
          </p:nvGrpSpPr>
          <p:grpSpPr>
            <a:xfrm>
              <a:off x="4993200" y="6048360"/>
              <a:ext cx="81000" cy="90360"/>
              <a:chOff x="4993200" y="6048360"/>
              <a:chExt cx="81000" cy="90360"/>
            </a:xfrm>
          </p:grpSpPr>
          <p:sp>
            <p:nvSpPr>
              <p:cNvPr id="1199" name=""/>
              <p:cNvSpPr/>
              <p:nvPr/>
            </p:nvSpPr>
            <p:spPr>
              <a:xfrm>
                <a:off x="4993200" y="609192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200" name=""/>
              <p:cNvGrpSpPr/>
              <p:nvPr/>
            </p:nvGrpSpPr>
            <p:grpSpPr>
              <a:xfrm>
                <a:off x="4993200" y="6048360"/>
                <a:ext cx="81000" cy="90360"/>
                <a:chOff x="4993200" y="6048360"/>
                <a:chExt cx="81000" cy="90360"/>
              </a:xfrm>
            </p:grpSpPr>
            <p:sp>
              <p:nvSpPr>
                <p:cNvPr id="1201" name=""/>
                <p:cNvSpPr/>
                <p:nvPr/>
              </p:nvSpPr>
              <p:spPr>
                <a:xfrm flipH="1">
                  <a:off x="4993200" y="604836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4993560" y="604836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3" name=""/>
            <p:cNvSpPr/>
            <p:nvPr/>
          </p:nvSpPr>
          <p:spPr>
            <a:xfrm>
              <a:off x="4984920" y="616068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04" name=""/>
          <p:cNvSpPr/>
          <p:nvPr/>
        </p:nvSpPr>
        <p:spPr>
          <a:xfrm>
            <a:off x="4300560" y="5284800"/>
            <a:ext cx="7272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7760" y="5284800"/>
            <a:ext cx="0" cy="7588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3188880" y="918720"/>
            <a:ext cx="1800" cy="4129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4951440" y="1209600"/>
            <a:ext cx="620280" cy="577800"/>
            <a:chOff x="4951440" y="1209600"/>
            <a:chExt cx="620280" cy="577800"/>
          </a:xfrm>
        </p:grpSpPr>
        <p:sp>
          <p:nvSpPr>
            <p:cNvPr id="1208" name=""/>
            <p:cNvSpPr/>
            <p:nvPr/>
          </p:nvSpPr>
          <p:spPr>
            <a:xfrm>
              <a:off x="4951440" y="1209600"/>
              <a:ext cx="620280" cy="577800"/>
            </a:xfrm>
            <a:prstGeom prst="ellipse">
              <a:avLst/>
            </a:prstGeom>
            <a:noFill/>
            <a:ln w="1908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81320" y="1350720"/>
              <a:ext cx="5767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 algn="ctr"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24-HA-103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A/B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6404040" y="1157400"/>
            <a:ext cx="1261800" cy="533160"/>
            <a:chOff x="6404040" y="1157400"/>
            <a:chExt cx="1261800" cy="533160"/>
          </a:xfrm>
        </p:grpSpPr>
        <p:sp>
          <p:nvSpPr>
            <p:cNvPr id="1211" name=""/>
            <p:cNvSpPr/>
            <p:nvPr/>
          </p:nvSpPr>
          <p:spPr>
            <a:xfrm>
              <a:off x="6404040" y="1157400"/>
              <a:ext cx="1261800" cy="533160"/>
            </a:xfrm>
            <a:prstGeom prst="roundRect">
              <a:avLst>
                <a:gd name="adj" fmla="val 50000"/>
              </a:avLst>
            </a:prstGeom>
            <a:noFill/>
            <a:ln w="255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640200" y="1301400"/>
              <a:ext cx="7002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900" spc="-1" strike="noStrike">
                  <a:solidFill>
                    <a:srgbClr val="002569"/>
                  </a:solidFill>
                  <a:latin typeface="Times New Roman"/>
                </a:rPr>
                <a:t>24-VA-102</a:t>
              </a:r>
              <a:endParaRPr b="0" lang="en-US" sz="9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 flipV="1">
            <a:off x="6792840" y="3114720"/>
            <a:ext cx="465120" cy="144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6319800" y="3024360"/>
            <a:ext cx="636120" cy="370080"/>
            <a:chOff x="6319800" y="3024360"/>
            <a:chExt cx="636120" cy="370080"/>
          </a:xfrm>
        </p:grpSpPr>
        <p:grpSp>
          <p:nvGrpSpPr>
            <p:cNvPr id="1215" name=""/>
            <p:cNvGrpSpPr/>
            <p:nvPr/>
          </p:nvGrpSpPr>
          <p:grpSpPr>
            <a:xfrm>
              <a:off x="6492960" y="3024360"/>
              <a:ext cx="297000" cy="226800"/>
              <a:chOff x="6492960" y="3024360"/>
              <a:chExt cx="297000" cy="226800"/>
            </a:xfrm>
          </p:grpSpPr>
          <p:sp>
            <p:nvSpPr>
              <p:cNvPr id="1216" name=""/>
              <p:cNvSpPr/>
              <p:nvPr/>
            </p:nvSpPr>
            <p:spPr>
              <a:xfrm flipH="1">
                <a:off x="6492600" y="3024360"/>
                <a:ext cx="178200" cy="5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6552360" y="3024360"/>
                <a:ext cx="237600" cy="22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>
              <a:off x="6319800" y="3217680"/>
              <a:ext cx="636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24-PA-102A/B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/>
          <p:nvPr/>
        </p:nvSpPr>
        <p:spPr>
          <a:xfrm flipH="1">
            <a:off x="4716360" y="3056040"/>
            <a:ext cx="177480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4716360" y="1604880"/>
            <a:ext cx="0" cy="145728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3494160" y="1604880"/>
            <a:ext cx="123336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4876920" y="2395440"/>
            <a:ext cx="314280" cy="297000"/>
            <a:chOff x="4876920" y="2395440"/>
            <a:chExt cx="314280" cy="297000"/>
          </a:xfrm>
        </p:grpSpPr>
        <p:sp>
          <p:nvSpPr>
            <p:cNvPr id="1223" name=""/>
            <p:cNvSpPr/>
            <p:nvPr/>
          </p:nvSpPr>
          <p:spPr>
            <a:xfrm>
              <a:off x="4876920" y="2395440"/>
              <a:ext cx="314280" cy="297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879800" y="2396520"/>
              <a:ext cx="303120" cy="290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4683600" y="231948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883400" y="2373480"/>
            <a:ext cx="2628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FC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847400" y="249408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08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4976640" y="2908440"/>
            <a:ext cx="103320" cy="178920"/>
            <a:chOff x="4976640" y="2908440"/>
            <a:chExt cx="103320" cy="178920"/>
          </a:xfrm>
        </p:grpSpPr>
        <p:sp>
          <p:nvSpPr>
            <p:cNvPr id="1229" name=""/>
            <p:cNvSpPr/>
            <p:nvPr/>
          </p:nvSpPr>
          <p:spPr>
            <a:xfrm flipV="1">
              <a:off x="5028120" y="2957400"/>
              <a:ext cx="0" cy="9216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4984920" y="2908440"/>
              <a:ext cx="81360" cy="91800"/>
              <a:chOff x="4984920" y="2908440"/>
              <a:chExt cx="81360" cy="91800"/>
            </a:xfrm>
          </p:grpSpPr>
          <p:sp>
            <p:nvSpPr>
              <p:cNvPr id="1231" name=""/>
              <p:cNvSpPr/>
              <p:nvPr/>
            </p:nvSpPr>
            <p:spPr>
              <a:xfrm>
                <a:off x="4984920" y="295272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232" name=""/>
              <p:cNvGrpSpPr/>
              <p:nvPr/>
            </p:nvGrpSpPr>
            <p:grpSpPr>
              <a:xfrm>
                <a:off x="4984920" y="2908440"/>
                <a:ext cx="81360" cy="91800"/>
                <a:chOff x="4984920" y="2908440"/>
                <a:chExt cx="81360" cy="91800"/>
              </a:xfrm>
            </p:grpSpPr>
            <p:sp>
              <p:nvSpPr>
                <p:cNvPr id="1233" name=""/>
                <p:cNvSpPr/>
                <p:nvPr/>
              </p:nvSpPr>
              <p:spPr>
                <a:xfrm flipH="1">
                  <a:off x="4984920" y="2908440"/>
                  <a:ext cx="8064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984920" y="2908440"/>
                  <a:ext cx="8136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5" name=""/>
            <p:cNvSpPr/>
            <p:nvPr/>
          </p:nvSpPr>
          <p:spPr>
            <a:xfrm>
              <a:off x="4976640" y="3022560"/>
              <a:ext cx="103320" cy="6480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 flipV="1">
            <a:off x="5032440" y="2693880"/>
            <a:ext cx="0" cy="2145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5356080" y="2526840"/>
            <a:ext cx="0" cy="5288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5769000" y="1185840"/>
            <a:ext cx="505800" cy="371520"/>
            <a:chOff x="5769000" y="1185840"/>
            <a:chExt cx="505800" cy="371520"/>
          </a:xfrm>
        </p:grpSpPr>
        <p:grpSp>
          <p:nvGrpSpPr>
            <p:cNvPr id="1239" name=""/>
            <p:cNvGrpSpPr/>
            <p:nvPr/>
          </p:nvGrpSpPr>
          <p:grpSpPr>
            <a:xfrm>
              <a:off x="5769000" y="1185840"/>
              <a:ext cx="505800" cy="371520"/>
              <a:chOff x="5769000" y="1185840"/>
              <a:chExt cx="505800" cy="37152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5960520" y="1261800"/>
                <a:ext cx="314280" cy="295560"/>
                <a:chOff x="5960520" y="1261800"/>
                <a:chExt cx="314280" cy="29556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5960520" y="126180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5963400" y="126288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3" name=""/>
              <p:cNvSpPr/>
              <p:nvPr/>
            </p:nvSpPr>
            <p:spPr>
              <a:xfrm>
                <a:off x="5769000" y="11858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5967360" y="12398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932800" y="13586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6162840" y="3452760"/>
            <a:ext cx="35305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7372440" y="3301920"/>
            <a:ext cx="102960" cy="176040"/>
            <a:chOff x="7372440" y="3301920"/>
            <a:chExt cx="102960" cy="176040"/>
          </a:xfrm>
        </p:grpSpPr>
        <p:sp>
          <p:nvSpPr>
            <p:cNvPr id="1248" name=""/>
            <p:cNvSpPr/>
            <p:nvPr/>
          </p:nvSpPr>
          <p:spPr>
            <a:xfrm flipV="1">
              <a:off x="7423560" y="334980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249" name=""/>
            <p:cNvGrpSpPr/>
            <p:nvPr/>
          </p:nvGrpSpPr>
          <p:grpSpPr>
            <a:xfrm>
              <a:off x="7380720" y="3301920"/>
              <a:ext cx="81000" cy="90360"/>
              <a:chOff x="7380720" y="3301920"/>
              <a:chExt cx="81000" cy="90360"/>
            </a:xfrm>
          </p:grpSpPr>
          <p:sp>
            <p:nvSpPr>
              <p:cNvPr id="1250" name=""/>
              <p:cNvSpPr/>
              <p:nvPr/>
            </p:nvSpPr>
            <p:spPr>
              <a:xfrm>
                <a:off x="7380720" y="334548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251" name=""/>
              <p:cNvGrpSpPr/>
              <p:nvPr/>
            </p:nvGrpSpPr>
            <p:grpSpPr>
              <a:xfrm>
                <a:off x="7380720" y="3301920"/>
                <a:ext cx="81000" cy="90360"/>
                <a:chOff x="7380720" y="3301920"/>
                <a:chExt cx="81000" cy="90360"/>
              </a:xfrm>
            </p:grpSpPr>
            <p:sp>
              <p:nvSpPr>
                <p:cNvPr id="1252" name=""/>
                <p:cNvSpPr/>
                <p:nvPr/>
              </p:nvSpPr>
              <p:spPr>
                <a:xfrm flipH="1">
                  <a:off x="7380720" y="330192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7381080" y="330192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4" name=""/>
            <p:cNvSpPr/>
            <p:nvPr/>
          </p:nvSpPr>
          <p:spPr>
            <a:xfrm>
              <a:off x="7372440" y="341424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7656480" y="1206360"/>
            <a:ext cx="505800" cy="371520"/>
            <a:chOff x="7656480" y="1206360"/>
            <a:chExt cx="505800" cy="371520"/>
          </a:xfrm>
        </p:grpSpPr>
        <p:grpSp>
          <p:nvGrpSpPr>
            <p:cNvPr id="1256" name=""/>
            <p:cNvGrpSpPr/>
            <p:nvPr/>
          </p:nvGrpSpPr>
          <p:grpSpPr>
            <a:xfrm>
              <a:off x="7656480" y="1206360"/>
              <a:ext cx="505800" cy="371520"/>
              <a:chOff x="7656480" y="1206360"/>
              <a:chExt cx="505800" cy="371520"/>
            </a:xfrm>
          </p:grpSpPr>
          <p:grpSp>
            <p:nvGrpSpPr>
              <p:cNvPr id="1257" name=""/>
              <p:cNvGrpSpPr/>
              <p:nvPr/>
            </p:nvGrpSpPr>
            <p:grpSpPr>
              <a:xfrm>
                <a:off x="7848000" y="1282320"/>
                <a:ext cx="314280" cy="295560"/>
                <a:chOff x="7848000" y="1282320"/>
                <a:chExt cx="314280" cy="29556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7848000" y="128232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7850880" y="128340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0" name=""/>
              <p:cNvSpPr/>
              <p:nvPr/>
            </p:nvSpPr>
            <p:spPr>
              <a:xfrm>
                <a:off x="7656480" y="120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7856640" y="126036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820280" y="13809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7677000" y="1424160"/>
            <a:ext cx="171720" cy="1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018640" y="1579680"/>
            <a:ext cx="0" cy="8110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248600" y="1695600"/>
            <a:ext cx="0" cy="142236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170760" y="3076560"/>
            <a:ext cx="0" cy="3967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191200" y="2523960"/>
            <a:ext cx="16992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382160" y="2906640"/>
            <a:ext cx="506880" cy="372240"/>
            <a:chOff x="7382160" y="2906640"/>
            <a:chExt cx="506880" cy="372240"/>
          </a:xfrm>
        </p:grpSpPr>
        <p:grpSp>
          <p:nvGrpSpPr>
            <p:cNvPr id="1269" name=""/>
            <p:cNvGrpSpPr/>
            <p:nvPr/>
          </p:nvGrpSpPr>
          <p:grpSpPr>
            <a:xfrm>
              <a:off x="7382160" y="2906640"/>
              <a:ext cx="506880" cy="372240"/>
              <a:chOff x="7382160" y="2906640"/>
              <a:chExt cx="506880" cy="372240"/>
            </a:xfrm>
          </p:grpSpPr>
          <p:grpSp>
            <p:nvGrpSpPr>
              <p:cNvPr id="1270" name=""/>
              <p:cNvGrpSpPr/>
              <p:nvPr/>
            </p:nvGrpSpPr>
            <p:grpSpPr>
              <a:xfrm>
                <a:off x="7574040" y="2982600"/>
                <a:ext cx="315000" cy="296280"/>
                <a:chOff x="7574040" y="2982600"/>
                <a:chExt cx="315000" cy="296280"/>
              </a:xfrm>
            </p:grpSpPr>
            <p:sp>
              <p:nvSpPr>
                <p:cNvPr id="1271" name=""/>
                <p:cNvSpPr/>
                <p:nvPr/>
              </p:nvSpPr>
              <p:spPr>
                <a:xfrm>
                  <a:off x="7574040" y="2982600"/>
                  <a:ext cx="315000" cy="29628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7576920" y="2983680"/>
                  <a:ext cx="303840" cy="2901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7382160" y="2906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274" name=""/>
            <p:cNvSpPr/>
            <p:nvPr/>
          </p:nvSpPr>
          <p:spPr>
            <a:xfrm>
              <a:off x="7581240" y="29606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548120" y="30816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38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7751880" y="3282840"/>
            <a:ext cx="0" cy="173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76960" y="1401840"/>
            <a:ext cx="125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627960" y="911160"/>
            <a:ext cx="0" cy="24948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7419960" y="2394000"/>
            <a:ext cx="0" cy="9064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429680" y="2394000"/>
            <a:ext cx="58572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118120" y="919080"/>
            <a:ext cx="0" cy="32868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118120" y="1755720"/>
            <a:ext cx="0" cy="40644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118120" y="2162160"/>
            <a:ext cx="157464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6692760" y="1704960"/>
            <a:ext cx="0" cy="45720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191040" y="917640"/>
            <a:ext cx="343836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460600" y="816120"/>
            <a:ext cx="505800" cy="370800"/>
            <a:chOff x="2460600" y="816120"/>
            <a:chExt cx="505800" cy="370800"/>
          </a:xfrm>
        </p:grpSpPr>
        <p:grpSp>
          <p:nvGrpSpPr>
            <p:cNvPr id="1287" name=""/>
            <p:cNvGrpSpPr/>
            <p:nvPr/>
          </p:nvGrpSpPr>
          <p:grpSpPr>
            <a:xfrm>
              <a:off x="2460600" y="816120"/>
              <a:ext cx="505800" cy="370800"/>
              <a:chOff x="2460600" y="816120"/>
              <a:chExt cx="505800" cy="370800"/>
            </a:xfrm>
          </p:grpSpPr>
          <p:grpSp>
            <p:nvGrpSpPr>
              <p:cNvPr id="1288" name=""/>
              <p:cNvGrpSpPr/>
              <p:nvPr/>
            </p:nvGrpSpPr>
            <p:grpSpPr>
              <a:xfrm>
                <a:off x="2652120" y="891720"/>
                <a:ext cx="314280" cy="295200"/>
                <a:chOff x="2652120" y="891720"/>
                <a:chExt cx="314280" cy="29520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2652120" y="891720"/>
                  <a:ext cx="314280" cy="29520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655000" y="892800"/>
                  <a:ext cx="303120" cy="28908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" name=""/>
              <p:cNvSpPr/>
              <p:nvPr/>
            </p:nvSpPr>
            <p:spPr>
              <a:xfrm>
                <a:off x="2460600" y="8161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292" name=""/>
            <p:cNvSpPr/>
            <p:nvPr/>
          </p:nvSpPr>
          <p:spPr>
            <a:xfrm>
              <a:off x="2660400" y="86652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624400" y="9903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2967120" y="1039680"/>
            <a:ext cx="2174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4000680" y="417600"/>
            <a:ext cx="334800" cy="333360"/>
            <a:chOff x="4000680" y="417600"/>
            <a:chExt cx="334800" cy="333360"/>
          </a:xfrm>
        </p:grpSpPr>
        <p:sp>
          <p:nvSpPr>
            <p:cNvPr id="1296" name=""/>
            <p:cNvSpPr/>
            <p:nvPr/>
          </p:nvSpPr>
          <p:spPr>
            <a:xfrm>
              <a:off x="4000680" y="417600"/>
              <a:ext cx="334800" cy="333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003560" y="418680"/>
              <a:ext cx="322920" cy="326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3808080" y="34128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038840" y="426960"/>
            <a:ext cx="2628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PC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993480" y="54612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20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64120" y="762120"/>
            <a:ext cx="0" cy="1569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6246720" y="776160"/>
            <a:ext cx="101520" cy="177840"/>
            <a:chOff x="6246720" y="776160"/>
            <a:chExt cx="101520" cy="177840"/>
          </a:xfrm>
        </p:grpSpPr>
        <p:sp>
          <p:nvSpPr>
            <p:cNvPr id="1303" name=""/>
            <p:cNvSpPr/>
            <p:nvPr/>
          </p:nvSpPr>
          <p:spPr>
            <a:xfrm flipV="1">
              <a:off x="6297120" y="8247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6255000" y="776160"/>
              <a:ext cx="79920" cy="91080"/>
              <a:chOff x="6255000" y="776160"/>
              <a:chExt cx="79920" cy="91080"/>
            </a:xfrm>
          </p:grpSpPr>
          <p:sp>
            <p:nvSpPr>
              <p:cNvPr id="1305" name=""/>
              <p:cNvSpPr/>
              <p:nvPr/>
            </p:nvSpPr>
            <p:spPr>
              <a:xfrm>
                <a:off x="6255000" y="8200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306" name=""/>
              <p:cNvGrpSpPr/>
              <p:nvPr/>
            </p:nvGrpSpPr>
            <p:grpSpPr>
              <a:xfrm>
                <a:off x="6255000" y="776160"/>
                <a:ext cx="79920" cy="91080"/>
                <a:chOff x="6255000" y="776160"/>
                <a:chExt cx="79920" cy="91080"/>
              </a:xfrm>
            </p:grpSpPr>
            <p:sp>
              <p:nvSpPr>
                <p:cNvPr id="1307" name=""/>
                <p:cNvSpPr/>
                <p:nvPr/>
              </p:nvSpPr>
              <p:spPr>
                <a:xfrm flipH="1">
                  <a:off x="6255000" y="776160"/>
                  <a:ext cx="7920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255000" y="776160"/>
                  <a:ext cx="7992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9" name=""/>
            <p:cNvSpPr/>
            <p:nvPr/>
          </p:nvSpPr>
          <p:spPr>
            <a:xfrm>
              <a:off x="6246720" y="889560"/>
              <a:ext cx="1015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5941080" y="306360"/>
            <a:ext cx="505080" cy="370800"/>
            <a:chOff x="5941080" y="306360"/>
            <a:chExt cx="505080" cy="370800"/>
          </a:xfrm>
        </p:grpSpPr>
        <p:grpSp>
          <p:nvGrpSpPr>
            <p:cNvPr id="1311" name=""/>
            <p:cNvGrpSpPr/>
            <p:nvPr/>
          </p:nvGrpSpPr>
          <p:grpSpPr>
            <a:xfrm>
              <a:off x="5941080" y="306360"/>
              <a:ext cx="505080" cy="370800"/>
              <a:chOff x="5941080" y="306360"/>
              <a:chExt cx="505080" cy="370800"/>
            </a:xfrm>
          </p:grpSpPr>
          <p:grpSp>
            <p:nvGrpSpPr>
              <p:cNvPr id="1312" name=""/>
              <p:cNvGrpSpPr/>
              <p:nvPr/>
            </p:nvGrpSpPr>
            <p:grpSpPr>
              <a:xfrm>
                <a:off x="6131880" y="381960"/>
                <a:ext cx="314280" cy="295200"/>
                <a:chOff x="6131880" y="381960"/>
                <a:chExt cx="314280" cy="29520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6131880" y="381960"/>
                  <a:ext cx="314280" cy="29520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134760" y="383040"/>
                  <a:ext cx="303120" cy="28908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5" name=""/>
              <p:cNvSpPr/>
              <p:nvPr/>
            </p:nvSpPr>
            <p:spPr>
              <a:xfrm>
                <a:off x="5941080" y="30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6108480" y="384120"/>
              <a:ext cx="3178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D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112080" y="4824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6302520" y="668160"/>
            <a:ext cx="0" cy="1209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5968800" y="504720"/>
            <a:ext cx="1616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969160" y="504720"/>
            <a:ext cx="0" cy="422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445080" y="512640"/>
            <a:ext cx="1270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572160" y="512640"/>
            <a:ext cx="0" cy="406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5699160" y="2016000"/>
            <a:ext cx="101520" cy="179280"/>
            <a:chOff x="5699160" y="2016000"/>
            <a:chExt cx="101520" cy="179280"/>
          </a:xfrm>
        </p:grpSpPr>
        <p:sp>
          <p:nvSpPr>
            <p:cNvPr id="1324" name=""/>
            <p:cNvSpPr/>
            <p:nvPr/>
          </p:nvSpPr>
          <p:spPr>
            <a:xfrm flipV="1">
              <a:off x="5749560" y="2064600"/>
              <a:ext cx="0" cy="925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5707440" y="2016000"/>
              <a:ext cx="79920" cy="91800"/>
              <a:chOff x="5707440" y="2016000"/>
              <a:chExt cx="79920" cy="91800"/>
            </a:xfrm>
          </p:grpSpPr>
          <p:sp>
            <p:nvSpPr>
              <p:cNvPr id="1326" name=""/>
              <p:cNvSpPr/>
              <p:nvPr/>
            </p:nvSpPr>
            <p:spPr>
              <a:xfrm>
                <a:off x="5707440" y="20602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5707440" y="2016000"/>
                <a:ext cx="79920" cy="91800"/>
                <a:chOff x="5707440" y="2016000"/>
                <a:chExt cx="79920" cy="91800"/>
              </a:xfrm>
            </p:grpSpPr>
            <p:sp>
              <p:nvSpPr>
                <p:cNvPr id="1328" name=""/>
                <p:cNvSpPr/>
                <p:nvPr/>
              </p:nvSpPr>
              <p:spPr>
                <a:xfrm flipH="1">
                  <a:off x="5707440" y="2016000"/>
                  <a:ext cx="7920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707440" y="2016000"/>
                  <a:ext cx="7992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0" name=""/>
            <p:cNvSpPr/>
            <p:nvPr/>
          </p:nvSpPr>
          <p:spPr>
            <a:xfrm>
              <a:off x="5699160" y="2130480"/>
              <a:ext cx="101520" cy="6480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331" name=""/>
          <p:cNvSpPr/>
          <p:nvPr/>
        </p:nvSpPr>
        <p:spPr>
          <a:xfrm flipV="1">
            <a:off x="5746680" y="550800"/>
            <a:ext cx="0" cy="14637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316400" y="555480"/>
            <a:ext cx="1430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7269120" y="789120"/>
            <a:ext cx="0" cy="3715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269120" y="789120"/>
            <a:ext cx="105264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7485120" y="642960"/>
            <a:ext cx="101520" cy="177840"/>
            <a:chOff x="7485120" y="642960"/>
            <a:chExt cx="101520" cy="177840"/>
          </a:xfrm>
        </p:grpSpPr>
        <p:sp>
          <p:nvSpPr>
            <p:cNvPr id="1336" name=""/>
            <p:cNvSpPr/>
            <p:nvPr/>
          </p:nvSpPr>
          <p:spPr>
            <a:xfrm flipV="1">
              <a:off x="7535520" y="6915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7493400" y="642960"/>
              <a:ext cx="79920" cy="91080"/>
              <a:chOff x="7493400" y="642960"/>
              <a:chExt cx="79920" cy="91080"/>
            </a:xfrm>
          </p:grpSpPr>
          <p:sp>
            <p:nvSpPr>
              <p:cNvPr id="1338" name=""/>
              <p:cNvSpPr/>
              <p:nvPr/>
            </p:nvSpPr>
            <p:spPr>
              <a:xfrm>
                <a:off x="7493400" y="6868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339" name=""/>
              <p:cNvGrpSpPr/>
              <p:nvPr/>
            </p:nvGrpSpPr>
            <p:grpSpPr>
              <a:xfrm>
                <a:off x="7493400" y="642960"/>
                <a:ext cx="79920" cy="91080"/>
                <a:chOff x="7493400" y="642960"/>
                <a:chExt cx="79920" cy="91080"/>
              </a:xfrm>
            </p:grpSpPr>
            <p:sp>
              <p:nvSpPr>
                <p:cNvPr id="1340" name=""/>
                <p:cNvSpPr/>
                <p:nvPr/>
              </p:nvSpPr>
              <p:spPr>
                <a:xfrm flipH="1">
                  <a:off x="7493400" y="642960"/>
                  <a:ext cx="7920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7493400" y="642960"/>
                  <a:ext cx="7992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2" name=""/>
            <p:cNvSpPr/>
            <p:nvPr/>
          </p:nvSpPr>
          <p:spPr>
            <a:xfrm>
              <a:off x="7485120" y="756360"/>
              <a:ext cx="1015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7178040" y="210960"/>
            <a:ext cx="504720" cy="371520"/>
            <a:chOff x="7178040" y="210960"/>
            <a:chExt cx="504720" cy="371520"/>
          </a:xfrm>
        </p:grpSpPr>
        <p:grpSp>
          <p:nvGrpSpPr>
            <p:cNvPr id="1344" name=""/>
            <p:cNvGrpSpPr/>
            <p:nvPr/>
          </p:nvGrpSpPr>
          <p:grpSpPr>
            <a:xfrm>
              <a:off x="7178040" y="210960"/>
              <a:ext cx="504720" cy="371520"/>
              <a:chOff x="7178040" y="210960"/>
              <a:chExt cx="504720" cy="37152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7368840" y="286920"/>
                <a:ext cx="313920" cy="295560"/>
                <a:chOff x="7368840" y="286920"/>
                <a:chExt cx="313920" cy="29556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7368840" y="28692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7371720" y="28800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7178040" y="2109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349" name=""/>
            <p:cNvSpPr/>
            <p:nvPr/>
          </p:nvSpPr>
          <p:spPr>
            <a:xfrm>
              <a:off x="7378560" y="264960"/>
              <a:ext cx="2750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H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340400" y="3855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5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 flipH="1" flipV="1">
            <a:off x="7534080" y="574560"/>
            <a:ext cx="4680" cy="68400"/>
          </a:xfrm>
          <a:prstGeom prst="line">
            <a:avLst/>
          </a:prstGeom>
          <a:ln w="9360">
            <a:solidFill>
              <a:srgbClr val="d1d1c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5361120" y="1058400"/>
            <a:ext cx="0" cy="17316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5359320" y="1773360"/>
            <a:ext cx="0" cy="13968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129280" y="1857240"/>
            <a:ext cx="48708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Kjølevann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809440" y="4848120"/>
            <a:ext cx="68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900" spc="-1" strike="noStrike">
                <a:solidFill>
                  <a:srgbClr val="002569"/>
                </a:solidFill>
                <a:latin typeface="Times New Roman"/>
              </a:rPr>
              <a:t>24-VE-107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2198880" y="1711440"/>
            <a:ext cx="505440" cy="372240"/>
            <a:chOff x="2198880" y="1711440"/>
            <a:chExt cx="505440" cy="372240"/>
          </a:xfrm>
        </p:grpSpPr>
        <p:grpSp>
          <p:nvGrpSpPr>
            <p:cNvPr id="1357" name=""/>
            <p:cNvGrpSpPr/>
            <p:nvPr/>
          </p:nvGrpSpPr>
          <p:grpSpPr>
            <a:xfrm>
              <a:off x="2198880" y="1711440"/>
              <a:ext cx="505440" cy="372240"/>
              <a:chOff x="2198880" y="1711440"/>
              <a:chExt cx="505440" cy="372240"/>
            </a:xfrm>
          </p:grpSpPr>
          <p:grpSp>
            <p:nvGrpSpPr>
              <p:cNvPr id="1358" name=""/>
              <p:cNvGrpSpPr/>
              <p:nvPr/>
            </p:nvGrpSpPr>
            <p:grpSpPr>
              <a:xfrm>
                <a:off x="2390400" y="1787400"/>
                <a:ext cx="313920" cy="296280"/>
                <a:chOff x="2390400" y="1787400"/>
                <a:chExt cx="313920" cy="29628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2390400" y="1787400"/>
                  <a:ext cx="313920" cy="29628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2393280" y="1788480"/>
                  <a:ext cx="302760" cy="2901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>
                <a:off x="2198880" y="17114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>
              <a:off x="2396160" y="176220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361960" y="18878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 flipH="1">
            <a:off x="2719440" y="1927080"/>
            <a:ext cx="162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2200320" y="2238480"/>
            <a:ext cx="505800" cy="369360"/>
            <a:chOff x="2200320" y="2238480"/>
            <a:chExt cx="505800" cy="369360"/>
          </a:xfrm>
        </p:grpSpPr>
        <p:grpSp>
          <p:nvGrpSpPr>
            <p:cNvPr id="1366" name=""/>
            <p:cNvGrpSpPr/>
            <p:nvPr/>
          </p:nvGrpSpPr>
          <p:grpSpPr>
            <a:xfrm>
              <a:off x="2200320" y="2238480"/>
              <a:ext cx="505800" cy="369360"/>
              <a:chOff x="2200320" y="2238480"/>
              <a:chExt cx="505800" cy="369360"/>
            </a:xfrm>
          </p:grpSpPr>
          <p:grpSp>
            <p:nvGrpSpPr>
              <p:cNvPr id="1367" name=""/>
              <p:cNvGrpSpPr/>
              <p:nvPr/>
            </p:nvGrpSpPr>
            <p:grpSpPr>
              <a:xfrm>
                <a:off x="2391840" y="2313720"/>
                <a:ext cx="314280" cy="294120"/>
                <a:chOff x="2391840" y="2313720"/>
                <a:chExt cx="314280" cy="29412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2391840" y="231372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2394720" y="231480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0" name=""/>
              <p:cNvSpPr/>
              <p:nvPr/>
            </p:nvSpPr>
            <p:spPr>
              <a:xfrm>
                <a:off x="2200320" y="22384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371" name=""/>
            <p:cNvSpPr/>
            <p:nvPr/>
          </p:nvSpPr>
          <p:spPr>
            <a:xfrm>
              <a:off x="2397960" y="229212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364120" y="24134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7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373" name=""/>
          <p:cNvSpPr/>
          <p:nvPr/>
        </p:nvSpPr>
        <p:spPr>
          <a:xfrm flipH="1">
            <a:off x="2714400" y="2468520"/>
            <a:ext cx="1616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2044800" y="3589200"/>
            <a:ext cx="505440" cy="371520"/>
            <a:chOff x="2044800" y="3589200"/>
            <a:chExt cx="505440" cy="371520"/>
          </a:xfrm>
        </p:grpSpPr>
        <p:grpSp>
          <p:nvGrpSpPr>
            <p:cNvPr id="1375" name=""/>
            <p:cNvGrpSpPr/>
            <p:nvPr/>
          </p:nvGrpSpPr>
          <p:grpSpPr>
            <a:xfrm>
              <a:off x="2044800" y="3589200"/>
              <a:ext cx="505440" cy="371520"/>
              <a:chOff x="2044800" y="3589200"/>
              <a:chExt cx="505440" cy="37152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2236320" y="3665160"/>
                <a:ext cx="313920" cy="295560"/>
                <a:chOff x="2236320" y="3665160"/>
                <a:chExt cx="313920" cy="295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2236320" y="366516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2239200" y="366624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9" name=""/>
              <p:cNvSpPr/>
              <p:nvPr/>
            </p:nvSpPr>
            <p:spPr>
              <a:xfrm>
                <a:off x="2044800" y="35892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243160" y="364320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207880" y="37638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2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 flipH="1">
            <a:off x="2567160" y="3807000"/>
            <a:ext cx="225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462400" y="404640"/>
            <a:ext cx="505440" cy="371520"/>
            <a:chOff x="2462400" y="404640"/>
            <a:chExt cx="505440" cy="371520"/>
          </a:xfrm>
        </p:grpSpPr>
        <p:grpSp>
          <p:nvGrpSpPr>
            <p:cNvPr id="1384" name=""/>
            <p:cNvGrpSpPr/>
            <p:nvPr/>
          </p:nvGrpSpPr>
          <p:grpSpPr>
            <a:xfrm>
              <a:off x="2462400" y="404640"/>
              <a:ext cx="505440" cy="371520"/>
              <a:chOff x="2462400" y="404640"/>
              <a:chExt cx="505440" cy="371520"/>
            </a:xfrm>
          </p:grpSpPr>
          <p:grpSp>
            <p:nvGrpSpPr>
              <p:cNvPr id="1385" name=""/>
              <p:cNvGrpSpPr/>
              <p:nvPr/>
            </p:nvGrpSpPr>
            <p:grpSpPr>
              <a:xfrm>
                <a:off x="2653920" y="480600"/>
                <a:ext cx="313920" cy="295560"/>
                <a:chOff x="2653920" y="480600"/>
                <a:chExt cx="313920" cy="295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2653920" y="48060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656800" y="48168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8" name=""/>
              <p:cNvSpPr/>
              <p:nvPr/>
            </p:nvSpPr>
            <p:spPr>
              <a:xfrm>
                <a:off x="2462400" y="404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389" name=""/>
            <p:cNvSpPr/>
            <p:nvPr/>
          </p:nvSpPr>
          <p:spPr>
            <a:xfrm>
              <a:off x="2660400" y="458640"/>
              <a:ext cx="2386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625480" y="5792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4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2968560" y="608040"/>
            <a:ext cx="287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255840" y="608040"/>
            <a:ext cx="0" cy="3110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3981600" y="3438360"/>
            <a:ext cx="314280" cy="295560"/>
            <a:chOff x="3981600" y="3438360"/>
            <a:chExt cx="314280" cy="295560"/>
          </a:xfrm>
        </p:grpSpPr>
        <p:sp>
          <p:nvSpPr>
            <p:cNvPr id="1394" name=""/>
            <p:cNvSpPr/>
            <p:nvPr/>
          </p:nvSpPr>
          <p:spPr>
            <a:xfrm>
              <a:off x="3981600" y="3438360"/>
              <a:ext cx="314280" cy="2955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984480" y="3439440"/>
              <a:ext cx="303120" cy="2894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3791520" y="3362400"/>
            <a:ext cx="246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988080" y="3416400"/>
            <a:ext cx="26748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PD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954240" y="353520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09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145040" y="3732120"/>
            <a:ext cx="0" cy="9493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4127400" y="1203480"/>
            <a:ext cx="0" cy="22348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3190680" y="1203480"/>
            <a:ext cx="936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H="1">
            <a:off x="3605040" y="4672080"/>
            <a:ext cx="540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502080" y="2197080"/>
            <a:ext cx="1017360" cy="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508640" y="2197080"/>
            <a:ext cx="0" cy="157788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510080" y="3782880"/>
            <a:ext cx="3852720" cy="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8362800" y="3456000"/>
            <a:ext cx="0" cy="326880"/>
          </a:xfrm>
          <a:prstGeom prst="line">
            <a:avLst/>
          </a:prstGeom>
          <a:ln w="19080">
            <a:solidFill>
              <a:srgbClr val="0025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4684680" y="3164040"/>
            <a:ext cx="505800" cy="369360"/>
            <a:chOff x="4684680" y="3164040"/>
            <a:chExt cx="505800" cy="369360"/>
          </a:xfrm>
        </p:grpSpPr>
        <p:grpSp>
          <p:nvGrpSpPr>
            <p:cNvPr id="1408" name=""/>
            <p:cNvGrpSpPr/>
            <p:nvPr/>
          </p:nvGrpSpPr>
          <p:grpSpPr>
            <a:xfrm>
              <a:off x="4684680" y="3164040"/>
              <a:ext cx="505800" cy="369360"/>
              <a:chOff x="4684680" y="3164040"/>
              <a:chExt cx="505800" cy="369360"/>
            </a:xfrm>
          </p:grpSpPr>
          <p:grpSp>
            <p:nvGrpSpPr>
              <p:cNvPr id="1409" name=""/>
              <p:cNvGrpSpPr/>
              <p:nvPr/>
            </p:nvGrpSpPr>
            <p:grpSpPr>
              <a:xfrm>
                <a:off x="4876200" y="3239280"/>
                <a:ext cx="314280" cy="294120"/>
                <a:chOff x="4876200" y="3239280"/>
                <a:chExt cx="314280" cy="29412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4876200" y="323928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879080" y="324036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2" name=""/>
              <p:cNvSpPr/>
              <p:nvPr/>
            </p:nvSpPr>
            <p:spPr>
              <a:xfrm>
                <a:off x="4684680" y="31640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4883760" y="3219120"/>
              <a:ext cx="2628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F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848480" y="33390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9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4978440" y="3641760"/>
            <a:ext cx="103320" cy="177840"/>
            <a:chOff x="4978440" y="3641760"/>
            <a:chExt cx="103320" cy="177840"/>
          </a:xfrm>
        </p:grpSpPr>
        <p:sp>
          <p:nvSpPr>
            <p:cNvPr id="1416" name=""/>
            <p:cNvSpPr/>
            <p:nvPr/>
          </p:nvSpPr>
          <p:spPr>
            <a:xfrm flipV="1">
              <a:off x="5029920" y="36903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417" name=""/>
            <p:cNvGrpSpPr/>
            <p:nvPr/>
          </p:nvGrpSpPr>
          <p:grpSpPr>
            <a:xfrm>
              <a:off x="4986720" y="3641760"/>
              <a:ext cx="81360" cy="91080"/>
              <a:chOff x="4986720" y="3641760"/>
              <a:chExt cx="81360" cy="91080"/>
            </a:xfrm>
          </p:grpSpPr>
          <p:sp>
            <p:nvSpPr>
              <p:cNvPr id="1418" name=""/>
              <p:cNvSpPr/>
              <p:nvPr/>
            </p:nvSpPr>
            <p:spPr>
              <a:xfrm>
                <a:off x="4986720" y="368568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419" name=""/>
              <p:cNvGrpSpPr/>
              <p:nvPr/>
            </p:nvGrpSpPr>
            <p:grpSpPr>
              <a:xfrm>
                <a:off x="4986720" y="3641760"/>
                <a:ext cx="81360" cy="91080"/>
                <a:chOff x="4986720" y="3641760"/>
                <a:chExt cx="81360" cy="91080"/>
              </a:xfrm>
            </p:grpSpPr>
            <p:sp>
              <p:nvSpPr>
                <p:cNvPr id="1420" name=""/>
                <p:cNvSpPr/>
                <p:nvPr/>
              </p:nvSpPr>
              <p:spPr>
                <a:xfrm flipH="1">
                  <a:off x="4986720" y="3641760"/>
                  <a:ext cx="8064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4986720" y="3641760"/>
                  <a:ext cx="8136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2" name=""/>
            <p:cNvSpPr/>
            <p:nvPr/>
          </p:nvSpPr>
          <p:spPr>
            <a:xfrm>
              <a:off x="4978440" y="3755160"/>
              <a:ext cx="1033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23" name=""/>
          <p:cNvSpPr/>
          <p:nvPr/>
        </p:nvSpPr>
        <p:spPr>
          <a:xfrm flipV="1">
            <a:off x="5033880" y="3512880"/>
            <a:ext cx="0" cy="1285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4695840" y="3406680"/>
            <a:ext cx="0" cy="379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711680" y="3405240"/>
            <a:ext cx="169920" cy="1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5392800" y="3166920"/>
            <a:ext cx="505800" cy="369720"/>
            <a:chOff x="5392800" y="3166920"/>
            <a:chExt cx="505800" cy="369720"/>
          </a:xfrm>
        </p:grpSpPr>
        <p:grpSp>
          <p:nvGrpSpPr>
            <p:cNvPr id="1427" name=""/>
            <p:cNvGrpSpPr/>
            <p:nvPr/>
          </p:nvGrpSpPr>
          <p:grpSpPr>
            <a:xfrm>
              <a:off x="5392800" y="3166920"/>
              <a:ext cx="505800" cy="369720"/>
              <a:chOff x="5392800" y="3166920"/>
              <a:chExt cx="505800" cy="36972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5584320" y="3242520"/>
                <a:ext cx="314280" cy="294120"/>
                <a:chOff x="5584320" y="3242520"/>
                <a:chExt cx="314280" cy="29412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5584320" y="324252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5587200" y="324360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1" name=""/>
              <p:cNvSpPr/>
              <p:nvPr/>
            </p:nvSpPr>
            <p:spPr>
              <a:xfrm>
                <a:off x="5392800" y="31669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432" name=""/>
            <p:cNvSpPr/>
            <p:nvPr/>
          </p:nvSpPr>
          <p:spPr>
            <a:xfrm>
              <a:off x="5591160" y="322056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556600" y="33408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3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5743440" y="3543480"/>
            <a:ext cx="0" cy="23940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9067320" y="3201840"/>
            <a:ext cx="419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Propan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878960" y="500040"/>
            <a:ext cx="41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Fakkel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91440" y="3319560"/>
            <a:ext cx="835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Bunn ut deetaniser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8448840" y="2887560"/>
            <a:ext cx="505440" cy="372600"/>
            <a:chOff x="8448840" y="2887560"/>
            <a:chExt cx="505440" cy="372600"/>
          </a:xfrm>
        </p:grpSpPr>
        <p:grpSp>
          <p:nvGrpSpPr>
            <p:cNvPr id="1439" name=""/>
            <p:cNvGrpSpPr/>
            <p:nvPr/>
          </p:nvGrpSpPr>
          <p:grpSpPr>
            <a:xfrm>
              <a:off x="8448840" y="2887560"/>
              <a:ext cx="505440" cy="372600"/>
              <a:chOff x="8448840" y="2887560"/>
              <a:chExt cx="505440" cy="372600"/>
            </a:xfrm>
          </p:grpSpPr>
          <p:grpSp>
            <p:nvGrpSpPr>
              <p:cNvPr id="1440" name=""/>
              <p:cNvGrpSpPr/>
              <p:nvPr/>
            </p:nvGrpSpPr>
            <p:grpSpPr>
              <a:xfrm>
                <a:off x="8640360" y="2963520"/>
                <a:ext cx="313920" cy="296640"/>
                <a:chOff x="8640360" y="2963520"/>
                <a:chExt cx="313920" cy="29664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8640360" y="2963520"/>
                  <a:ext cx="313920" cy="29664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8643240" y="2964600"/>
                  <a:ext cx="302760" cy="29052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3" name=""/>
              <p:cNvSpPr/>
              <p:nvPr/>
            </p:nvSpPr>
            <p:spPr>
              <a:xfrm>
                <a:off x="8448840" y="28875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444" name=""/>
            <p:cNvSpPr/>
            <p:nvPr/>
          </p:nvSpPr>
          <p:spPr>
            <a:xfrm>
              <a:off x="8646840" y="2941560"/>
              <a:ext cx="2386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F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611920" y="306432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3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8818560" y="3263760"/>
            <a:ext cx="0" cy="173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6480" y="2503440"/>
            <a:ext cx="2780640" cy="852120"/>
            <a:chOff x="6480" y="2503440"/>
            <a:chExt cx="2780640" cy="852120"/>
          </a:xfrm>
        </p:grpSpPr>
        <p:sp>
          <p:nvSpPr>
            <p:cNvPr id="1448" name=""/>
            <p:cNvSpPr/>
            <p:nvPr/>
          </p:nvSpPr>
          <p:spPr>
            <a:xfrm>
              <a:off x="180000" y="3326400"/>
              <a:ext cx="2607120" cy="0"/>
            </a:xfrm>
            <a:prstGeom prst="line">
              <a:avLst/>
            </a:prstGeom>
            <a:ln w="28440">
              <a:solidFill>
                <a:srgbClr val="00256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449" name=""/>
            <p:cNvGrpSpPr/>
            <p:nvPr/>
          </p:nvGrpSpPr>
          <p:grpSpPr>
            <a:xfrm>
              <a:off x="6480" y="2507400"/>
              <a:ext cx="553320" cy="386280"/>
              <a:chOff x="6480" y="2507400"/>
              <a:chExt cx="553320" cy="386280"/>
            </a:xfrm>
          </p:grpSpPr>
          <p:grpSp>
            <p:nvGrpSpPr>
              <p:cNvPr id="1450" name=""/>
              <p:cNvGrpSpPr/>
              <p:nvPr/>
            </p:nvGrpSpPr>
            <p:grpSpPr>
              <a:xfrm>
                <a:off x="216360" y="2586240"/>
                <a:ext cx="343440" cy="307440"/>
                <a:chOff x="216360" y="2586240"/>
                <a:chExt cx="343440" cy="30744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216360" y="2586240"/>
                  <a:ext cx="343440" cy="30744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219600" y="2587320"/>
                  <a:ext cx="331200" cy="3009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3" name=""/>
              <p:cNvSpPr/>
              <p:nvPr/>
            </p:nvSpPr>
            <p:spPr>
              <a:xfrm>
                <a:off x="6480" y="25074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454" name=""/>
            <p:cNvSpPr/>
            <p:nvPr/>
          </p:nvSpPr>
          <p:spPr>
            <a:xfrm>
              <a:off x="263160" y="26042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6440" y="271008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5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899280" y="3191760"/>
              <a:ext cx="91080" cy="163800"/>
              <a:chOff x="899280" y="3191760"/>
              <a:chExt cx="91080" cy="163800"/>
            </a:xfrm>
          </p:grpSpPr>
          <p:sp>
            <p:nvSpPr>
              <p:cNvPr id="1457" name=""/>
              <p:cNvSpPr/>
              <p:nvPr/>
            </p:nvSpPr>
            <p:spPr>
              <a:xfrm flipV="1">
                <a:off x="944640" y="3236400"/>
                <a:ext cx="0" cy="8424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1458" name=""/>
              <p:cNvGrpSpPr/>
              <p:nvPr/>
            </p:nvGrpSpPr>
            <p:grpSpPr>
              <a:xfrm>
                <a:off x="906480" y="3191760"/>
                <a:ext cx="71640" cy="83880"/>
                <a:chOff x="906480" y="3191760"/>
                <a:chExt cx="71640" cy="838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906480" y="3232440"/>
                  <a:ext cx="70920" cy="0"/>
                </a:xfrm>
                <a:prstGeom prst="line">
                  <a:avLst/>
                </a:prstGeom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0" name=""/>
                <p:cNvGrpSpPr/>
                <p:nvPr/>
              </p:nvGrpSpPr>
              <p:grpSpPr>
                <a:xfrm>
                  <a:off x="906480" y="3191760"/>
                  <a:ext cx="71640" cy="83880"/>
                  <a:chOff x="906480" y="3191760"/>
                  <a:chExt cx="71640" cy="83880"/>
                </a:xfrm>
              </p:grpSpPr>
              <p:sp>
                <p:nvSpPr>
                  <p:cNvPr id="1461" name=""/>
                  <p:cNvSpPr/>
                  <p:nvPr/>
                </p:nvSpPr>
                <p:spPr>
                  <a:xfrm flipH="1">
                    <a:off x="906480" y="3191760"/>
                    <a:ext cx="712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25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25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906840" y="3191760"/>
                    <a:ext cx="712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25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256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63" name=""/>
              <p:cNvSpPr/>
              <p:nvPr/>
            </p:nvSpPr>
            <p:spPr>
              <a:xfrm>
                <a:off x="899280" y="3296160"/>
                <a:ext cx="91080" cy="59400"/>
              </a:xfrm>
              <a:custGeom>
                <a:avLst/>
                <a:gdLst/>
                <a:ahLst/>
                <a:rect l="l" t="t" r="r" b="b"/>
                <a:pathLst>
                  <a:path w="144" h="48">
                    <a:moveTo>
                      <a:pt x="0" y="0"/>
                    </a:moveTo>
                    <a:lnTo>
                      <a:pt x="144" y="48"/>
                    </a:lnTo>
                    <a:lnTo>
                      <a:pt x="144" y="0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2569"/>
              </a:solidFill>
              <a:ln w="9360">
                <a:solidFill>
                  <a:srgbClr val="00256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464" name=""/>
            <p:cNvSpPr/>
            <p:nvPr/>
          </p:nvSpPr>
          <p:spPr>
            <a:xfrm>
              <a:off x="945000" y="2908800"/>
              <a:ext cx="4320" cy="279720"/>
            </a:xfrm>
            <a:prstGeom prst="line">
              <a:avLst/>
            </a:prstGeom>
            <a:ln w="12600">
              <a:solidFill>
                <a:srgbClr val="00256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1465" name=""/>
            <p:cNvGrpSpPr/>
            <p:nvPr/>
          </p:nvGrpSpPr>
          <p:grpSpPr>
            <a:xfrm>
              <a:off x="569160" y="2503440"/>
              <a:ext cx="527040" cy="389160"/>
              <a:chOff x="569160" y="2503440"/>
              <a:chExt cx="527040" cy="389160"/>
            </a:xfrm>
          </p:grpSpPr>
          <p:grpSp>
            <p:nvGrpSpPr>
              <p:cNvPr id="1466" name=""/>
              <p:cNvGrpSpPr/>
              <p:nvPr/>
            </p:nvGrpSpPr>
            <p:grpSpPr>
              <a:xfrm>
                <a:off x="768960" y="2583000"/>
                <a:ext cx="327240" cy="309600"/>
                <a:chOff x="768960" y="2583000"/>
                <a:chExt cx="327240" cy="30960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768960" y="2583000"/>
                  <a:ext cx="327240" cy="30960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771840" y="2584080"/>
                  <a:ext cx="315720" cy="30312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9" name=""/>
              <p:cNvSpPr/>
              <p:nvPr/>
            </p:nvSpPr>
            <p:spPr>
              <a:xfrm>
                <a:off x="569160" y="25034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1470" name=""/>
            <p:cNvSpPr/>
            <p:nvPr/>
          </p:nvSpPr>
          <p:spPr>
            <a:xfrm>
              <a:off x="807120" y="259092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82280" y="26967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96360" y="2879640"/>
              <a:ext cx="0" cy="439200"/>
            </a:xfrm>
            <a:prstGeom prst="line">
              <a:avLst/>
            </a:prstGeom>
            <a:ln w="9360">
              <a:solidFill>
                <a:srgbClr val="00256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920520" y="2894400"/>
              <a:ext cx="95184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1" lang="nb-NO" sz="900" spc="-1" strike="noStrike">
                  <a:solidFill>
                    <a:srgbClr val="d8e533"/>
                  </a:solidFill>
                  <a:latin typeface="Times New Roman"/>
                </a:rPr>
                <a:t>24LC1001.VYA</a:t>
              </a:r>
              <a:endParaRPr b="0" lang="en-US" sz="9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3219480" y="6200640"/>
            <a:ext cx="55627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8780400" y="5121000"/>
            <a:ext cx="390600" cy="1701360"/>
            <a:chOff x="8780400" y="5121000"/>
            <a:chExt cx="390600" cy="1701360"/>
          </a:xfrm>
        </p:grpSpPr>
        <p:sp>
          <p:nvSpPr>
            <p:cNvPr id="1476" name=""/>
            <p:cNvSpPr/>
            <p:nvPr/>
          </p:nvSpPr>
          <p:spPr>
            <a:xfrm rot="16200000">
              <a:off x="8920800" y="4980600"/>
              <a:ext cx="107640" cy="388440"/>
            </a:xfrm>
            <a:prstGeom prst="flowChartDelay">
              <a:avLst/>
            </a:prstGeom>
            <a:noFill/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 rot="5400000">
              <a:off x="8921520" y="6573600"/>
              <a:ext cx="107640" cy="388800"/>
            </a:xfrm>
            <a:prstGeom prst="flowChartDelay">
              <a:avLst/>
            </a:prstGeom>
            <a:noFill/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780400" y="5174280"/>
              <a:ext cx="390600" cy="1599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 flipV="1">
            <a:off x="8980560" y="4654080"/>
            <a:ext cx="0" cy="4669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9032760" y="4529160"/>
            <a:ext cx="335160" cy="333360"/>
            <a:chOff x="9032760" y="4529160"/>
            <a:chExt cx="335160" cy="333360"/>
          </a:xfrm>
        </p:grpSpPr>
        <p:sp>
          <p:nvSpPr>
            <p:cNvPr id="1481" name=""/>
            <p:cNvSpPr/>
            <p:nvPr/>
          </p:nvSpPr>
          <p:spPr>
            <a:xfrm>
              <a:off x="9032760" y="4529160"/>
              <a:ext cx="335160" cy="333360"/>
            </a:xfrm>
            <a:prstGeom prst="rect">
              <a:avLst/>
            </a:prstGeom>
            <a:noFill/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9035640" y="4530240"/>
              <a:ext cx="323280" cy="326520"/>
            </a:xfrm>
            <a:prstGeom prst="ellipse">
              <a:avLst/>
            </a:prstGeom>
            <a:noFill/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83" name=""/>
          <p:cNvSpPr/>
          <p:nvPr/>
        </p:nvSpPr>
        <p:spPr>
          <a:xfrm>
            <a:off x="8839440" y="4476600"/>
            <a:ext cx="258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9052560" y="4543560"/>
            <a:ext cx="293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AR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9010440" y="4657680"/>
            <a:ext cx="346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1005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9356400" y="4500720"/>
            <a:ext cx="4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C = C3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E = nC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F = C5+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436880" y="5611680"/>
            <a:ext cx="13204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900" spc="-1" strike="noStrike">
                <a:solidFill>
                  <a:srgbClr val="002569"/>
                </a:solidFill>
                <a:latin typeface="Times New Roman"/>
              </a:rPr>
              <a:t>Debutaniser 24-VE-108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565520" y="1108080"/>
            <a:ext cx="5526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4230720" y="987480"/>
            <a:ext cx="334800" cy="333360"/>
            <a:chOff x="4230720" y="987480"/>
            <a:chExt cx="334800" cy="333360"/>
          </a:xfrm>
        </p:grpSpPr>
        <p:sp>
          <p:nvSpPr>
            <p:cNvPr id="1490" name=""/>
            <p:cNvSpPr/>
            <p:nvPr/>
          </p:nvSpPr>
          <p:spPr>
            <a:xfrm>
              <a:off x="4230720" y="987480"/>
              <a:ext cx="334800" cy="333360"/>
            </a:xfrm>
            <a:prstGeom prst="rect">
              <a:avLst/>
            </a:prstGeom>
            <a:noFill/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33600" y="988560"/>
              <a:ext cx="322920" cy="326520"/>
            </a:xfrm>
            <a:prstGeom prst="ellipse">
              <a:avLst/>
            </a:prstGeom>
            <a:noFill/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92" name=""/>
          <p:cNvSpPr/>
          <p:nvPr/>
        </p:nvSpPr>
        <p:spPr>
          <a:xfrm>
            <a:off x="4037040" y="934920"/>
            <a:ext cx="258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249800" y="1001880"/>
            <a:ext cx="293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AR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207320" y="1116000"/>
            <a:ext cx="346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1008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554000" y="958680"/>
            <a:ext cx="457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B = C2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C = C3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D = iC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2036880" y="826920"/>
            <a:ext cx="401400" cy="398520"/>
            <a:chOff x="2036880" y="826920"/>
            <a:chExt cx="401400" cy="398520"/>
          </a:xfrm>
        </p:grpSpPr>
        <p:sp>
          <p:nvSpPr>
            <p:cNvPr id="1497" name=""/>
            <p:cNvSpPr/>
            <p:nvPr/>
          </p:nvSpPr>
          <p:spPr>
            <a:xfrm>
              <a:off x="2036880" y="826920"/>
              <a:ext cx="401400" cy="3985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040480" y="828360"/>
              <a:ext cx="387360" cy="390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1843200" y="773280"/>
            <a:ext cx="258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077200" y="86184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AY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36880" y="976320"/>
            <a:ext cx="41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1008D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2224080" y="1940040"/>
            <a:ext cx="162000" cy="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2239920" y="1220760"/>
            <a:ext cx="3240" cy="70632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2437920" y="1125360"/>
            <a:ext cx="1793880" cy="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505" name=""/>
          <p:cNvGrpSpPr/>
          <p:nvPr/>
        </p:nvGrpSpPr>
        <p:grpSpPr>
          <a:xfrm>
            <a:off x="5929200" y="4786200"/>
            <a:ext cx="400320" cy="398520"/>
            <a:chOff x="5929200" y="4786200"/>
            <a:chExt cx="400320" cy="398520"/>
          </a:xfrm>
        </p:grpSpPr>
        <p:sp>
          <p:nvSpPr>
            <p:cNvPr id="1506" name=""/>
            <p:cNvSpPr/>
            <p:nvPr/>
          </p:nvSpPr>
          <p:spPr>
            <a:xfrm>
              <a:off x="5929200" y="4786200"/>
              <a:ext cx="400320" cy="3985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32800" y="4787640"/>
              <a:ext cx="386280" cy="390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5734080" y="4734000"/>
            <a:ext cx="258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24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968080" y="4821120"/>
            <a:ext cx="29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AY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928480" y="4935600"/>
            <a:ext cx="406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1005C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6332040" y="4992840"/>
            <a:ext cx="2838600" cy="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9188280" y="4852800"/>
            <a:ext cx="0" cy="12852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15440" y="4809960"/>
            <a:ext cx="7214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900" spc="-1" strike="noStrike">
                <a:solidFill>
                  <a:srgbClr val="ff9900"/>
                </a:solidFill>
                <a:latin typeface="Times New Roman"/>
              </a:rPr>
              <a:t>slow update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263400" y="949320"/>
            <a:ext cx="7214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900" spc="-1" strike="noStrike">
                <a:solidFill>
                  <a:srgbClr val="ff9900"/>
                </a:solidFill>
                <a:latin typeface="Times New Roman"/>
              </a:rPr>
              <a:t>slow update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3375000" y="6541920"/>
            <a:ext cx="2787840" cy="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6151680" y="5173200"/>
            <a:ext cx="4680" cy="136836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 flipV="1">
            <a:off x="2384280" y="4357800"/>
            <a:ext cx="7920" cy="70632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2385720" y="5064120"/>
            <a:ext cx="3546360" cy="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3709800" y="4952880"/>
            <a:ext cx="2222280" cy="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2548080" y="3868560"/>
            <a:ext cx="1162080" cy="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3710160" y="3868560"/>
            <a:ext cx="0" cy="108432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H="1">
            <a:off x="2709360" y="2038320"/>
            <a:ext cx="1111320" cy="144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821040" y="2039400"/>
            <a:ext cx="0" cy="281340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>
            <a:off x="3819600" y="4848120"/>
            <a:ext cx="2100240" cy="504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605480" y="357120"/>
            <a:ext cx="945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900" spc="-1" strike="noStrike">
                <a:solidFill>
                  <a:srgbClr val="ff0066"/>
                </a:solidFill>
                <a:latin typeface="Times New Roman"/>
              </a:rPr>
              <a:t>24PC1020.VYA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396720" y="1252440"/>
            <a:ext cx="1059120" cy="576360"/>
            <a:chOff x="396720" y="1252440"/>
            <a:chExt cx="1059120" cy="576360"/>
          </a:xfrm>
        </p:grpSpPr>
        <p:sp>
          <p:nvSpPr>
            <p:cNvPr id="1527" name=""/>
            <p:cNvSpPr/>
            <p:nvPr/>
          </p:nvSpPr>
          <p:spPr>
            <a:xfrm>
              <a:off x="396720" y="1252440"/>
              <a:ext cx="1059120" cy="576360"/>
            </a:xfrm>
            <a:prstGeom prst="rect">
              <a:avLst/>
            </a:prstGeom>
            <a:noFill/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62240" y="1275840"/>
              <a:ext cx="94248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1500" spc="-1" strike="noStrike">
                  <a:solidFill>
                    <a:srgbClr val="002569"/>
                  </a:solidFill>
                  <a:latin typeface="Times New Roman"/>
                </a:rPr>
                <a:t>MPCCAP</a:t>
              </a:r>
              <a:endParaRPr b="0" lang="en-US" sz="1500" spc="-1" strike="noStrike">
                <a:solidFill>
                  <a:srgbClr val="00256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1500" spc="-1" strike="noStrike">
                  <a:solidFill>
                    <a:srgbClr val="002569"/>
                  </a:solidFill>
                  <a:latin typeface="Times New Roman"/>
                </a:rPr>
                <a:t>Train 100</a:t>
              </a:r>
              <a:endParaRPr b="0" lang="en-US" sz="15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529" name=""/>
          <p:cNvSpPr/>
          <p:nvPr/>
        </p:nvSpPr>
        <p:spPr>
          <a:xfrm flipH="1">
            <a:off x="1990800" y="3587760"/>
            <a:ext cx="1992240" cy="0"/>
          </a:xfrm>
          <a:prstGeom prst="line">
            <a:avLst/>
          </a:prstGeom>
          <a:ln w="93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2009880" y="1572840"/>
            <a:ext cx="0" cy="2017800"/>
          </a:xfrm>
          <a:prstGeom prst="line">
            <a:avLst/>
          </a:prstGeom>
          <a:ln w="93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H="1">
            <a:off x="1450440" y="1587600"/>
            <a:ext cx="559080" cy="0"/>
          </a:xfrm>
          <a:prstGeom prst="line">
            <a:avLst/>
          </a:prstGeom>
          <a:ln w="9360">
            <a:solidFill>
              <a:srgbClr val="ff0066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25680" y="1905120"/>
            <a:ext cx="141048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900" spc="-1" strike="noStrike">
                <a:solidFill>
                  <a:srgbClr val="002569"/>
                </a:solidFill>
                <a:latin typeface="Times New Roman"/>
              </a:rPr>
              <a:t>One of the constraints that 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900" spc="-1" strike="noStrike">
                <a:solidFill>
                  <a:srgbClr val="002569"/>
                </a:solidFill>
                <a:latin typeface="Times New Roman"/>
              </a:rPr>
              <a:t>MPCCAP must respect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614480" y="3759120"/>
            <a:ext cx="1767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Normally 0 flow, used for start-ups to remove inerts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440240" y="4179960"/>
            <a:ext cx="527040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marL="423720" indent="-423720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GB" sz="1500" spc="-1" strike="noStrike">
                <a:solidFill>
                  <a:srgbClr val="339966"/>
                </a:solidFill>
                <a:latin typeface="Times New Roman"/>
              </a:rPr>
              <a:t>Manipulated variables (MV)</a:t>
            </a:r>
            <a:r>
              <a:rPr b="1" lang="nb-NO" sz="15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=</a:t>
            </a:r>
            <a:r>
              <a:rPr b="1" lang="nb-NO" sz="1500" spc="-1" strike="noStrike">
                <a:solidFill>
                  <a:srgbClr val="ed8000"/>
                </a:solidFill>
                <a:latin typeface="Times New Roman"/>
                <a:ea typeface="Times New Roman"/>
              </a:rPr>
              <a:t> </a:t>
            </a:r>
            <a:r>
              <a:rPr b="0" lang="nb-NO" sz="15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Set points to DCS controllers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435560" y="4481640"/>
            <a:ext cx="41702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marL="423720" indent="-423720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500" spc="-1" strike="noStrike">
                <a:solidFill>
                  <a:srgbClr val="d8e533"/>
                </a:solidFill>
                <a:latin typeface="Times New Roman"/>
              </a:rPr>
              <a:t>Disturbance variables (DV) = Feedforward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427640" y="3897360"/>
            <a:ext cx="527040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marL="423720" indent="-423720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GB" sz="1500" spc="-1" strike="noStrike">
                <a:solidFill>
                  <a:srgbClr val="ff0066"/>
                </a:solidFill>
                <a:latin typeface="Times New Roman"/>
              </a:rPr>
              <a:t>Controlled variables (CV)</a:t>
            </a:r>
            <a:r>
              <a:rPr b="1" lang="nb-NO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= </a:t>
            </a:r>
            <a:r>
              <a:rPr b="0" lang="nb-NO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oduct qualities, column deltaP ++</a:t>
            </a:r>
            <a:endParaRPr b="0" lang="en-US" sz="15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8F39-C48F-4D05-975F-ECF9C9C95C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Verdana"/>
              </a:rPr>
              <a:t>MPC Crude Distillation Unit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9712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20 controlled variables (CV) – 18 with high/low limits, 3 with set points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13 manipulated variables (MV) – all with high/low limits, 10 with ideal values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6 measured disturbance variables (DV)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1 minute sample time, 84 samples control horizon, 120 samples prediction horizon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120 step response models, some with gain scheduling, longest models 200 samples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6 optimization variables per MV (piecewise constant, change at samples 0, 4, 12, 28, 52, 84)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8 - 11 evaluation points per CV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1 relaxation parameter per CV limit (constraint relaxation), 24 relaxation parameters in total, appropriate individual CV evaluation dead-time (constraint window)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8 subsequent calls to QP-solver to resolve hierarchy of priorities in steady state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1 call to QP-solver for dynamic control solution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2.4 seconds computation time (data read, pre-calculations, MPC solution, data write, GUI communication), PC with 2 GHz CPU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-187200">
              <a:lnSpc>
                <a:spcPct val="140000"/>
              </a:lnSpc>
              <a:spcBef>
                <a:spcPts val="349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Verdana"/>
              </a:rPr>
              <a:t>99% service factor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marL="18720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CF36-7BE8-414A-AE74-4E49721505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2569"/>
                </a:solidFill>
                <a:latin typeface="Verdana"/>
              </a:rPr>
              <a:t>MPC in Statoil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26648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 fontScale="95000"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In-house tool Septic, Statoil Estimation and Prediction Tool for Identification and Control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55 MPC applications with Septic within Statoil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Experimental step response models, built-in functionality for model gain scheduling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Flexible control priority hierarchy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Quality control by inferential models built from laboratory data or on-line analysers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DCS/PCDA interfaces currently in Septic: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lvl="1" marL="633240" indent="-27396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Honeywell TDC3000 (CM50 on Vax computer)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lvl="1" marL="633240" indent="-27396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ABB Bailey via InfoPlus (AspenTech)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lvl="1" marL="633240" indent="-27396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ABB Bailey via ABB OPC server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lvl="1" marL="633240" indent="-27396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ABB Bailey via Matrikon OPC server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lvl="1" marL="633240" indent="-27396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ABB Hartmann&amp;Braun via SysLink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lvl="1" marL="633240" indent="-27396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Kongsberg Simrad AIM1000 (integrated)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Runs on Vax/VMS, Unix, PC (NT)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569"/>
                </a:solidFill>
                <a:latin typeface="Verdana"/>
              </a:rPr>
              <a:t>Supports mechanistic type models, generally non-linear models, for applications with wide operating regimes.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778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C0FD3-F4B5-49C8-BBD3-BAF7B9E3E3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110200" y="1284120"/>
          <a:ext cx="479592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0200" y="1284120"/>
                    <a:ext cx="479592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96840" y="257040"/>
          <a:ext cx="9539280" cy="6459840"/>
        </p:xfrm>
        <a:graphic>
          <a:graphicData uri="http://schemas.openxmlformats.org/drawingml/2006/table">
            <a:tbl>
              <a:tblPr/>
              <a:tblGrid>
                <a:gridCol w="803160"/>
                <a:gridCol w="489240"/>
                <a:gridCol w="463320"/>
                <a:gridCol w="538200"/>
                <a:gridCol w="1468440"/>
                <a:gridCol w="927000"/>
                <a:gridCol w="476280"/>
                <a:gridCol w="426960"/>
                <a:gridCol w="439920"/>
                <a:gridCol w="3506760"/>
              </a:tblGrid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Applikasjon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V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V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V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Beskrivelse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Applikasjon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V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V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V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Beskrivelse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TordisA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Slug mottak separato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1C2T2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et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TordisB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Slug mottak separato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4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prop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EC02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but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4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but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EC03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Nafta splitter (Kondensat)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4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Butansplitt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EC05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/C4 splitter (Kondensat) 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PRO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/C4 splitt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VBMAX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Fødekontrol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KRA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Reaktor/regenerator seksjon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PLC04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Nafta splitter  APS.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DES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Fraksjoner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VBC01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Visbreaker fraktionato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ABS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ette ender (C2-)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PSC01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Atmos. destillasjon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BUT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PG/Nafta splitt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FC01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Kondensat fraktionato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T60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layed Coker Fraksjoner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IUC01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Stabilisator, Isomeriser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8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layed Coker Nafta/LGO splitt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IUC52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Raffinat kolonne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FVRM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Råolje forvarm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IUC53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Ekstrakt kolonne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HEXOPT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RTO råolje forvarm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VPC01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Vacuum fraktionato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FVRM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Råolje preflash kolonne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PLC51MPC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isopentanizer.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PASBAL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Råoljeovn passbalanser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GASS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HCDP reguler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SPLT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PG/Nafta splitter (T-108)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deprop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prop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SPLT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ett/Medium Nafta splitter (T-112)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splitt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iC4/nC4 splitt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SPLT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ett/Medium Nafta splitter (T-113)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1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prop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NGL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LPG/Nafta splittere (T-1104/T-1107)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1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but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NAF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edium/Tung Nafta splitter (T-1105)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1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iC4/nC4 splitt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T10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Atmos. destillasjon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2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prop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T1406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Reformat stabiliseringskolonne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2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but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R14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Reformer reaktor seksjon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3C4T2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iC4/nC4 splitt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BBL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Gasoline blend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2T3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et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BBL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Gasoline blend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C1C2T1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Deetaniser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A5200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Krakkernafta svovelfjerning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MPCAIM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Snorre trip, SFA oljenivå/komp sugetrykk</a:t>
                      </a:r>
                      <a:endParaRPr b="0" lang="en-US" sz="8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244</a:t>
                      </a:r>
                      <a:endParaRPr b="0" lang="en-US" sz="10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367</a:t>
                      </a:r>
                      <a:endParaRPr b="0" lang="en-US" sz="10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69"/>
                          </a:solidFill>
                          <a:latin typeface="Arial"/>
                          <a:ea typeface="Arial"/>
                        </a:rPr>
                        <a:t>INKL 1 RTO</a:t>
                      </a:r>
                      <a:endParaRPr b="0" lang="en-US" sz="1000" spc="-1" strike="noStrike">
                        <a:solidFill>
                          <a:srgbClr val="002569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4F04-7067-4955-89ED-00E54C8658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7640" y="-360"/>
            <a:ext cx="6294600" cy="1143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2569"/>
                </a:solidFill>
                <a:latin typeface="Verdana"/>
              </a:rPr>
              <a:t>MPC briefly 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245120" y="3516120"/>
            <a:ext cx="4929120" cy="2716560"/>
            <a:chOff x="4245120" y="3516120"/>
            <a:chExt cx="4929120" cy="2716560"/>
          </a:xfrm>
        </p:grpSpPr>
        <p:sp>
          <p:nvSpPr>
            <p:cNvPr id="97" name=""/>
            <p:cNvSpPr/>
            <p:nvPr/>
          </p:nvSpPr>
          <p:spPr>
            <a:xfrm>
              <a:off x="4245120" y="5855760"/>
              <a:ext cx="49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866120" y="3516120"/>
              <a:ext cx="0" cy="270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878160" y="4854960"/>
              <a:ext cx="0" cy="144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87680" y="41288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00040" y="4118760"/>
              <a:ext cx="0" cy="1799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36840" y="4600080"/>
              <a:ext cx="0" cy="4050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42960" y="4999680"/>
              <a:ext cx="41616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59120" y="4999680"/>
              <a:ext cx="41868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4280" y="4855320"/>
              <a:ext cx="85932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43960" y="4855320"/>
              <a:ext cx="8582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51520" y="4908960"/>
              <a:ext cx="1616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206680" y="4247280"/>
              <a:ext cx="0" cy="6595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06680" y="4247280"/>
              <a:ext cx="4172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18160" y="4252680"/>
              <a:ext cx="0" cy="34704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24280" y="4598640"/>
              <a:ext cx="41868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051520" y="4903560"/>
              <a:ext cx="0" cy="3571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66120" y="5260680"/>
              <a:ext cx="1850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861440" y="5259600"/>
              <a:ext cx="0" cy="729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66120" y="4082760"/>
              <a:ext cx="3758400" cy="1770840"/>
            </a:xfrm>
            <a:custGeom>
              <a:avLst/>
              <a:gdLst/>
              <a:ahLst/>
              <a:rect l="l" t="t" r="r" b="b"/>
              <a:pathLst>
                <a:path w="4564" h="2392">
                  <a:moveTo>
                    <a:pt x="0" y="2392"/>
                  </a:moveTo>
                  <a:cubicBezTo>
                    <a:pt x="0" y="2392"/>
                    <a:pt x="68" y="2102"/>
                    <a:pt x="102" y="2010"/>
                  </a:cubicBezTo>
                  <a:cubicBezTo>
                    <a:pt x="113" y="1980"/>
                    <a:pt x="149" y="1923"/>
                    <a:pt x="160" y="1894"/>
                  </a:cubicBezTo>
                  <a:cubicBezTo>
                    <a:pt x="209" y="1767"/>
                    <a:pt x="267" y="1496"/>
                    <a:pt x="312" y="1368"/>
                  </a:cubicBezTo>
                  <a:cubicBezTo>
                    <a:pt x="331" y="1311"/>
                    <a:pt x="381" y="1198"/>
                    <a:pt x="406" y="1144"/>
                  </a:cubicBezTo>
                  <a:cubicBezTo>
                    <a:pt x="518" y="913"/>
                    <a:pt x="712" y="413"/>
                    <a:pt x="906" y="243"/>
                  </a:cubicBezTo>
                  <a:cubicBezTo>
                    <a:pt x="1007" y="156"/>
                    <a:pt x="1274" y="72"/>
                    <a:pt x="1406" y="48"/>
                  </a:cubicBezTo>
                  <a:cubicBezTo>
                    <a:pt x="1662" y="0"/>
                    <a:pt x="2189" y="48"/>
                    <a:pt x="2449" y="48"/>
                  </a:cubicBezTo>
                  <a:cubicBezTo>
                    <a:pt x="2978" y="48"/>
                    <a:pt x="4036" y="48"/>
                    <a:pt x="4564" y="48"/>
                  </a:cubicBezTo>
                  <a:cubicBezTo>
                    <a:pt x="4563" y="48"/>
                    <a:pt x="4557" y="48"/>
                    <a:pt x="4557" y="48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32800" y="5330880"/>
              <a:ext cx="48240" cy="42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30360" y="4128840"/>
              <a:ext cx="0" cy="1779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16720" y="4588920"/>
              <a:ext cx="0" cy="1322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06680" y="489384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45040" y="527184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94080" y="4893840"/>
              <a:ext cx="47160" cy="41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60000" y="4114440"/>
              <a:ext cx="3823200" cy="0"/>
            </a:xfrm>
            <a:prstGeom prst="line">
              <a:avLst/>
            </a:prstGeom>
            <a:ln w="50760">
              <a:solidFill>
                <a:srgbClr val="000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99440" y="4241520"/>
              <a:ext cx="49320" cy="43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2000" y="4103640"/>
              <a:ext cx="48240" cy="41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65200" y="4103640"/>
              <a:ext cx="47160" cy="41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83840" y="4097880"/>
              <a:ext cx="48240" cy="43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24560" y="4081680"/>
              <a:ext cx="47160" cy="43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77000" y="4109040"/>
              <a:ext cx="47160" cy="42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73000" y="4540680"/>
              <a:ext cx="48240" cy="42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07800" y="6150600"/>
              <a:ext cx="1112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877640" y="6150600"/>
              <a:ext cx="111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69040" y="6049800"/>
              <a:ext cx="1340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744480"/>
                  <a:tab algn="l" pos="1488960"/>
                  <a:tab algn="l" pos="2233440"/>
                  <a:tab algn="l" pos="2978280"/>
                  <a:tab algn="l" pos="3722760"/>
                  <a:tab algn="l" pos="4467240"/>
                  <a:tab algn="l" pos="5211720"/>
                  <a:tab algn="l" pos="5956200"/>
                  <a:tab algn="l" pos="6700680"/>
                  <a:tab algn="l" pos="7445520"/>
                  <a:tab algn="l" pos="8190000"/>
                  <a:tab algn="l" pos="8934480"/>
                  <a:tab algn="l" pos="9678960"/>
                  <a:tab algn="l" pos="10423440"/>
                </a:tabLst>
              </a:pPr>
              <a:r>
                <a:rPr b="1" lang="en-US" sz="1200" spc="-1" strike="noStrike">
                  <a:solidFill>
                    <a:srgbClr val="00006e"/>
                  </a:solidFill>
                  <a:latin typeface="Arial"/>
                </a:rPr>
                <a:t>Prediction horizon</a:t>
              </a:r>
              <a:endParaRPr b="0" lang="en-US" sz="12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8720" y="58676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744480"/>
                  <a:tab algn="l" pos="1488960"/>
                  <a:tab algn="l" pos="2233440"/>
                  <a:tab algn="l" pos="2978280"/>
                  <a:tab algn="l" pos="3722760"/>
                  <a:tab algn="l" pos="4467240"/>
                  <a:tab algn="l" pos="5211720"/>
                  <a:tab algn="l" pos="5956200"/>
                  <a:tab algn="l" pos="6700680"/>
                  <a:tab algn="l" pos="7445520"/>
                  <a:tab algn="l" pos="8190000"/>
                  <a:tab algn="l" pos="8934480"/>
                  <a:tab algn="l" pos="9678960"/>
                  <a:tab algn="l" pos="10423440"/>
                </a:tabLst>
              </a:pPr>
              <a:r>
                <a:rPr b="1" lang="en-US" sz="1000" spc="-1" strike="noStrike">
                  <a:solidFill>
                    <a:srgbClr val="00006e"/>
                  </a:solidFill>
                  <a:latin typeface="Arial"/>
                </a:rPr>
                <a:t>Current</a:t>
              </a:r>
              <a:endParaRPr b="0" lang="en-US" sz="10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13520" y="5846040"/>
              <a:ext cx="547920" cy="40320"/>
            </a:xfrm>
            <a:custGeom>
              <a:avLst/>
              <a:gdLst/>
              <a:ahLst/>
              <a:rect l="l" t="t" r="r" b="b"/>
              <a:pathLst>
                <a:path w="666" h="53">
                  <a:moveTo>
                    <a:pt x="0" y="41"/>
                  </a:moveTo>
                  <a:lnTo>
                    <a:pt x="69" y="12"/>
                  </a:lnTo>
                  <a:lnTo>
                    <a:pt x="156" y="0"/>
                  </a:lnTo>
                  <a:lnTo>
                    <a:pt x="232" y="18"/>
                  </a:lnTo>
                  <a:lnTo>
                    <a:pt x="272" y="41"/>
                  </a:lnTo>
                  <a:lnTo>
                    <a:pt x="336" y="53"/>
                  </a:lnTo>
                  <a:lnTo>
                    <a:pt x="394" y="47"/>
                  </a:lnTo>
                  <a:lnTo>
                    <a:pt x="458" y="35"/>
                  </a:lnTo>
                  <a:lnTo>
                    <a:pt x="516" y="6"/>
                  </a:lnTo>
                  <a:lnTo>
                    <a:pt x="580" y="47"/>
                  </a:lnTo>
                  <a:lnTo>
                    <a:pt x="632" y="35"/>
                  </a:lnTo>
                  <a:lnTo>
                    <a:pt x="666" y="24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13520" y="5860080"/>
              <a:ext cx="562680" cy="0"/>
            </a:xfrm>
            <a:prstGeom prst="line">
              <a:avLst/>
            </a:prstGeom>
            <a:ln w="50760">
              <a:solidFill>
                <a:srgbClr val="000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61440" y="4116600"/>
              <a:ext cx="1080" cy="1733400"/>
            </a:xfrm>
            <a:prstGeom prst="line">
              <a:avLst/>
            </a:prstGeom>
            <a:ln w="50760">
              <a:solidFill>
                <a:srgbClr val="000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19640" y="5961960"/>
              <a:ext cx="535320" cy="55800"/>
            </a:xfrm>
            <a:custGeom>
              <a:avLst/>
              <a:gdLst/>
              <a:ahLst/>
              <a:rect l="l" t="t" r="r" b="b"/>
              <a:pathLst>
                <a:path w="650" h="75">
                  <a:moveTo>
                    <a:pt x="650" y="30"/>
                  </a:moveTo>
                  <a:lnTo>
                    <a:pt x="574" y="15"/>
                  </a:lnTo>
                  <a:lnTo>
                    <a:pt x="536" y="38"/>
                  </a:lnTo>
                  <a:lnTo>
                    <a:pt x="347" y="45"/>
                  </a:lnTo>
                  <a:lnTo>
                    <a:pt x="98" y="0"/>
                  </a:lnTo>
                  <a:lnTo>
                    <a:pt x="60" y="75"/>
                  </a:lnTo>
                  <a:lnTo>
                    <a:pt x="0" y="75"/>
                  </a:lnTo>
                </a:path>
              </a:pathLst>
            </a:custGeom>
            <a:noFill/>
            <a:ln w="507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45240" y="5837040"/>
              <a:ext cx="48240" cy="43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76720" y="4131000"/>
              <a:ext cx="0" cy="1789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950680" y="5868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744480"/>
                  <a:tab algn="l" pos="1488960"/>
                  <a:tab algn="l" pos="2233440"/>
                  <a:tab algn="l" pos="2978280"/>
                  <a:tab algn="l" pos="3722760"/>
                  <a:tab algn="l" pos="4467240"/>
                  <a:tab algn="l" pos="5211720"/>
                  <a:tab algn="l" pos="5956200"/>
                  <a:tab algn="l" pos="6700680"/>
                  <a:tab algn="l" pos="7445520"/>
                  <a:tab algn="l" pos="8190000"/>
                  <a:tab algn="l" pos="8934480"/>
                  <a:tab algn="l" pos="9678960"/>
                  <a:tab algn="l" pos="104234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44040" y="3853800"/>
              <a:ext cx="2961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744480"/>
                  <a:tab algn="l" pos="1488960"/>
                  <a:tab algn="l" pos="2233440"/>
                  <a:tab algn="l" pos="2978280"/>
                  <a:tab algn="l" pos="3722760"/>
                  <a:tab algn="l" pos="4467240"/>
                  <a:tab algn="l" pos="5211720"/>
                  <a:tab algn="l" pos="5956200"/>
                  <a:tab algn="l" pos="6700680"/>
                  <a:tab algn="l" pos="7445520"/>
                  <a:tab algn="l" pos="8190000"/>
                  <a:tab algn="l" pos="8934480"/>
                  <a:tab algn="l" pos="9678960"/>
                  <a:tab algn="l" pos="1042344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Controlled variable, optimized prediction</a:t>
              </a:r>
              <a:endParaRPr b="0" lang="en-US" sz="12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5120" y="4674600"/>
              <a:ext cx="3089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744480"/>
                  <a:tab algn="l" pos="1488960"/>
                  <a:tab algn="l" pos="2233440"/>
                  <a:tab algn="l" pos="2978280"/>
                  <a:tab algn="l" pos="3722760"/>
                  <a:tab algn="l" pos="4467240"/>
                  <a:tab algn="l" pos="5211720"/>
                  <a:tab algn="l" pos="5956200"/>
                  <a:tab algn="l" pos="6700680"/>
                  <a:tab algn="l" pos="7445520"/>
                  <a:tab algn="l" pos="8190000"/>
                  <a:tab algn="l" pos="8934480"/>
                  <a:tab algn="l" pos="9678960"/>
                  <a:tab algn="l" pos="1042344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Manipulated variable, optimized prediction</a:t>
              </a:r>
              <a:endParaRPr b="0" lang="en-US" sz="12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16160" y="391932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744480"/>
                  <a:tab algn="l" pos="1488960"/>
                  <a:tab algn="l" pos="2233440"/>
                  <a:tab algn="l" pos="2978280"/>
                  <a:tab algn="l" pos="3722760"/>
                  <a:tab algn="l" pos="4467240"/>
                  <a:tab algn="l" pos="5211720"/>
                  <a:tab algn="l" pos="5956200"/>
                  <a:tab algn="l" pos="6700680"/>
                  <a:tab algn="l" pos="7445520"/>
                  <a:tab algn="l" pos="8190000"/>
                  <a:tab algn="l" pos="8934480"/>
                  <a:tab algn="l" pos="9678960"/>
                  <a:tab algn="l" pos="10423440"/>
                </a:tabLst>
              </a:pPr>
              <a:r>
                <a:rPr b="1" lang="en-US" sz="1200" spc="-1" strike="noStrike">
                  <a:solidFill>
                    <a:srgbClr val="0000c0"/>
                  </a:solidFill>
                  <a:latin typeface="Arial"/>
                </a:rPr>
                <a:t>Set point</a:t>
              </a:r>
              <a:endParaRPr b="0" lang="en-US" sz="12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990720" y="1617840"/>
            <a:ext cx="367956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spcBef>
                <a:spcPts val="814"/>
              </a:spcBef>
              <a:buClr>
                <a:srgbClr val="ff9900"/>
              </a:buClr>
              <a:buSzPct val="150000"/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13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nb-NO" sz="1300" spc="-1" strike="noStrike">
                <a:solidFill>
                  <a:srgbClr val="000099"/>
                </a:solidFill>
                <a:latin typeface="Times New Roman"/>
              </a:rPr>
              <a:t>MV blocking </a:t>
            </a:r>
            <a:r>
              <a:rPr b="0" lang="nb-NO" sz="13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nb-NO" sz="1300" spc="-1" strike="noStrike">
                <a:solidFill>
                  <a:srgbClr val="000099"/>
                </a:solidFill>
                <a:latin typeface="Times New Roman"/>
              </a:rPr>
              <a:t> size reduction</a:t>
            </a: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814"/>
              </a:spcBef>
              <a:buClr>
                <a:srgbClr val="ff9900"/>
              </a:buClr>
              <a:buSzPct val="150000"/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CV evaluation points </a:t>
            </a:r>
            <a:r>
              <a:rPr b="0" lang="en-GB" sz="13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 size reduction</a:t>
            </a: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814"/>
              </a:spcBef>
              <a:buClr>
                <a:srgbClr val="ff9900"/>
              </a:buClr>
              <a:buSzPct val="150000"/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CV reference specifications </a:t>
            </a:r>
            <a:r>
              <a:rPr b="0" lang="en-GB" sz="13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 tuning flexibility set point changes / disturbance rejection</a:t>
            </a: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814"/>
              </a:spcBef>
              <a:buClr>
                <a:srgbClr val="ff9900"/>
              </a:buClr>
              <a:buSzPct val="150000"/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Soft constraints and priority levels </a:t>
            </a:r>
            <a:r>
              <a:rPr b="0" lang="en-GB" sz="13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GB" sz="1300" spc="-1" strike="noStrike">
                <a:solidFill>
                  <a:srgbClr val="000099"/>
                </a:solidFill>
                <a:latin typeface="Times New Roman"/>
              </a:rPr>
              <a:t> feasibility and tuning flexibility</a:t>
            </a: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814"/>
              </a:spcBef>
              <a:buClr>
                <a:srgbClr val="ff9900"/>
              </a:buClr>
              <a:buSzPct val="150000"/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  <a:p>
            <a:pPr>
              <a:spcBef>
                <a:spcPts val="814"/>
              </a:spcBef>
              <a:buClr>
                <a:srgbClr val="ff9900"/>
              </a:buClr>
              <a:buSzPct val="150000"/>
              <a:buFont typeface="Times New Roman"/>
              <a:buChar char="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11760" y="633600"/>
            <a:ext cx="3577680" cy="2746800"/>
            <a:chOff x="4811760" y="633600"/>
            <a:chExt cx="3577680" cy="2746800"/>
          </a:xfrm>
        </p:grpSpPr>
        <p:sp>
          <p:nvSpPr>
            <p:cNvPr id="146" name=""/>
            <p:cNvSpPr/>
            <p:nvPr/>
          </p:nvSpPr>
          <p:spPr>
            <a:xfrm>
              <a:off x="5805720" y="1123560"/>
              <a:ext cx="874080" cy="479880"/>
            </a:xfrm>
            <a:prstGeom prst="rect">
              <a:avLst/>
            </a:prstGeom>
            <a:solidFill>
              <a:srgbClr val="bcffbc"/>
            </a:solidFill>
            <a:ln w="25560">
              <a:solidFill>
                <a:srgbClr val="bcf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99200" y="1341360"/>
              <a:ext cx="50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85200" y="1347480"/>
              <a:ext cx="50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1840" y="825480"/>
              <a:ext cx="0" cy="28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59800" y="115344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1100" spc="-1" strike="noStrike">
                  <a:solidFill>
                    <a:srgbClr val="00006e"/>
                  </a:solidFill>
                  <a:latin typeface="Arial"/>
                </a:rPr>
                <a:t>Process</a:t>
              </a:r>
              <a:endParaRPr b="0" lang="en-US" sz="11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43640" y="1401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1100" spc="-1" strike="noStrike">
                  <a:solidFill>
                    <a:srgbClr val="00006e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76240" y="884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1300" spc="-1" strike="noStrike">
                  <a:solidFill>
                    <a:srgbClr val="00006e"/>
                  </a:solidFill>
                  <a:latin typeface="Arial"/>
                </a:rPr>
                <a:t>v</a:t>
              </a:r>
              <a:endParaRPr b="0" lang="en-US" sz="13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65560" y="1401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1100" spc="-1" strike="noStrike">
                  <a:solidFill>
                    <a:srgbClr val="00006e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72720" y="140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1100" spc="-1" strike="noStrike">
                  <a:solidFill>
                    <a:srgbClr val="00006e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06920" y="1030320"/>
              <a:ext cx="17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162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900" spc="-1" strike="noStrike">
                  <a:solidFill>
                    <a:srgbClr val="00006e"/>
                  </a:solidFill>
                  <a:latin typeface="Arial"/>
                </a:rPr>
                <a:t>MV</a:t>
              </a:r>
              <a:endParaRPr b="0" lang="en-US" sz="9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33040" y="633600"/>
              <a:ext cx="20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900" spc="-1" strike="noStrike">
                  <a:solidFill>
                    <a:srgbClr val="00006e"/>
                  </a:solidFill>
                  <a:latin typeface="Arial"/>
                </a:rPr>
                <a:t>DV</a:t>
              </a:r>
              <a:r>
                <a:rPr b="0" lang="en-US" sz="1200" spc="-1" strike="noStrike">
                  <a:solidFill>
                    <a:srgbClr val="00006e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5280" y="1038960"/>
              <a:ext cx="20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900" spc="-1" strike="noStrike">
                  <a:solidFill>
                    <a:srgbClr val="00006e"/>
                  </a:solidFill>
                  <a:latin typeface="Arial"/>
                </a:rPr>
                <a:t>CV</a:t>
              </a:r>
              <a:r>
                <a:rPr b="0" lang="en-US" sz="1200" spc="-1" strike="noStrike">
                  <a:solidFill>
                    <a:srgbClr val="00006e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6440" y="142776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Aft>
                  <a:spcPts val="162"/>
                </a:spcAft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900" spc="-1" strike="noStrike">
                  <a:solidFill>
                    <a:srgbClr val="00006e"/>
                  </a:solidFill>
                  <a:latin typeface="Arial"/>
                </a:rPr>
                <a:t>state</a:t>
              </a:r>
              <a:endParaRPr b="0" lang="en-US" sz="9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4811760" y="1708920"/>
              <a:ext cx="3577680" cy="29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4957200" y="2115000"/>
              <a:ext cx="1249920" cy="1265400"/>
              <a:chOff x="4957200" y="2115000"/>
              <a:chExt cx="1249920" cy="1265400"/>
            </a:xfrm>
          </p:grpSpPr>
          <p:pic>
            <p:nvPicPr>
              <p:cNvPr id="16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69080" y="2355840"/>
                <a:ext cx="649800" cy="20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989600" y="2603160"/>
                <a:ext cx="829440" cy="23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57200" y="2864880"/>
                <a:ext cx="124992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983120" y="3152520"/>
                <a:ext cx="865080" cy="22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67640" y="2115000"/>
                <a:ext cx="769320" cy="20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6" name="" descr=""/>
            <p:cNvPicPr/>
            <p:nvPr/>
          </p:nvPicPr>
          <p:blipFill>
            <a:blip r:embed="rId7"/>
            <a:stretch/>
          </p:blipFill>
          <p:spPr>
            <a:xfrm>
              <a:off x="6700680" y="2058120"/>
              <a:ext cx="1452600" cy="97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D113-CDEC-439C-899D-5E6C5FDCEA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569"/>
                </a:solidFill>
                <a:latin typeface="Verdana"/>
              </a:rPr>
              <a:t>Control priorities</a:t>
            </a:r>
            <a:endParaRPr b="0" lang="en-US" sz="26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6480" y="1279440"/>
            <a:ext cx="9712440" cy="4934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369720" indent="-369720">
              <a:lnSpc>
                <a:spcPct val="150000"/>
              </a:lnSpc>
              <a:spcBef>
                <a:spcPts val="400"/>
              </a:spcBef>
              <a:buClr>
                <a:srgbClr val="ed8000"/>
              </a:buClr>
              <a:buSzPct val="120000"/>
              <a:buFont typeface="Verdana"/>
              <a:buAutoNum type="arabi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MV rate of change limits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-369720">
              <a:lnSpc>
                <a:spcPct val="150000"/>
              </a:lnSpc>
              <a:spcBef>
                <a:spcPts val="400"/>
              </a:spcBef>
              <a:buClr>
                <a:srgbClr val="ed8000"/>
              </a:buClr>
              <a:buSzPct val="120000"/>
              <a:buFont typeface="Verdana"/>
              <a:buAutoNum type="arabi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MV high/low Limits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-369720">
              <a:lnSpc>
                <a:spcPct val="150000"/>
              </a:lnSpc>
              <a:spcBef>
                <a:spcPts val="400"/>
              </a:spcBef>
              <a:buClr>
                <a:srgbClr val="ed8000"/>
              </a:buClr>
              <a:buSzPct val="120000"/>
              <a:buFont typeface="Verdana"/>
              <a:buAutoNum type="arabi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CV hard constraints (”never” used)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-369720">
              <a:lnSpc>
                <a:spcPct val="150000"/>
              </a:lnSpc>
              <a:spcBef>
                <a:spcPts val="400"/>
              </a:spcBef>
              <a:buClr>
                <a:srgbClr val="ed8000"/>
              </a:buClr>
              <a:buSzPct val="120000"/>
              <a:buFont typeface="Verdana"/>
              <a:buAutoNum type="arabi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CV soft constraints, CV set points, MV ideal values: Priority level 1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-369720">
              <a:lnSpc>
                <a:spcPct val="150000"/>
              </a:lnSpc>
              <a:spcBef>
                <a:spcPts val="400"/>
              </a:spcBef>
              <a:buClr>
                <a:srgbClr val="ed8000"/>
              </a:buClr>
              <a:buSzPct val="120000"/>
              <a:buFont typeface="Verdana"/>
              <a:buAutoNum type="arabi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CV soft constraints, CV set points, MV ideal values: Priority level 2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-369720">
              <a:lnSpc>
                <a:spcPct val="150000"/>
              </a:lnSpc>
              <a:spcBef>
                <a:spcPts val="400"/>
              </a:spcBef>
              <a:buClr>
                <a:srgbClr val="ed8000"/>
              </a:buClr>
              <a:buSzPct val="120000"/>
              <a:buFont typeface="Verdana"/>
              <a:buAutoNum type="arabi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CV soft constraints, CV set points, MV ideal values: Priority level n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-369720">
              <a:lnSpc>
                <a:spcPct val="150000"/>
              </a:lnSpc>
              <a:spcBef>
                <a:spcPts val="400"/>
              </a:spcBef>
              <a:buClr>
                <a:srgbClr val="ed8000"/>
              </a:buClr>
              <a:buSzPct val="120000"/>
              <a:buFont typeface="Verdana"/>
              <a:buAutoNum type="arabicPeriod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CV soft constraints, CV set points, MV ideal values: Priority level 99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Sequence of steady-state QP solutions to solve 2 – 7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Verdana"/>
              </a:rPr>
              <a:t>Then a single dynamic QP to meet the adjusted and feasible steady-state goals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3697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4108-1FEE-46C0-AD74-128DE5A76F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e"/>
                </a:solidFill>
                <a:latin typeface="Verdana"/>
              </a:rPr>
              <a:t>MPC – Fundamental models (first principles)</a:t>
            </a:r>
            <a:endParaRPr b="0" lang="en-US" sz="26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133632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 fontScale="97000"/>
          </a:bodyPr>
          <a:p>
            <a:pPr marL="181440" indent="-181440">
              <a:lnSpc>
                <a:spcPct val="150000"/>
              </a:lnSpc>
              <a:spcAft>
                <a:spcPts val="1001"/>
              </a:spcAft>
              <a:buClr>
                <a:srgbClr val="db7d00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e"/>
                </a:solidFill>
                <a:latin typeface="Verdana"/>
              </a:rPr>
              <a:t>Open loop response is predicted by non-linear model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lvl="1" marL="646560" indent="-279720">
              <a:lnSpc>
                <a:spcPct val="150000"/>
              </a:lnSpc>
              <a:spcAft>
                <a:spcPts val="224"/>
              </a:spcAft>
              <a:buClr>
                <a:srgbClr val="db7d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e"/>
                </a:solidFill>
                <a:latin typeface="Verdana"/>
              </a:rPr>
              <a:t>MV assumption : Interpolation of optimal predictions from last sample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81440" indent="-181440">
              <a:lnSpc>
                <a:spcPct val="150000"/>
              </a:lnSpc>
              <a:spcAft>
                <a:spcPts val="1001"/>
              </a:spcAft>
              <a:buClr>
                <a:srgbClr val="db7d00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e"/>
                </a:solidFill>
                <a:latin typeface="Verdana"/>
              </a:rPr>
              <a:t>Linearisation by MV step change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lvl="1" marL="646560" indent="-279720">
              <a:lnSpc>
                <a:spcPct val="150000"/>
              </a:lnSpc>
              <a:spcAft>
                <a:spcPts val="224"/>
              </a:spcAft>
              <a:buClr>
                <a:srgbClr val="db7d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e"/>
                </a:solidFill>
                <a:latin typeface="Verdana"/>
              </a:rPr>
              <a:t>One step for each MV blocking parameter (increased transient accuracy)</a:t>
            </a:r>
            <a:endParaRPr b="0" lang="en-US" sz="1200" spc="-1" strike="noStrike">
              <a:solidFill>
                <a:srgbClr val="002569"/>
              </a:solidFill>
              <a:latin typeface="Verdana"/>
            </a:endParaRPr>
          </a:p>
          <a:p>
            <a:pPr marL="181440" indent="-181440">
              <a:lnSpc>
                <a:spcPct val="150000"/>
              </a:lnSpc>
              <a:spcAft>
                <a:spcPts val="1001"/>
              </a:spcAft>
              <a:buClr>
                <a:srgbClr val="db7d00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e"/>
                </a:solidFill>
                <a:latin typeface="Verdana"/>
              </a:rPr>
              <a:t>QP solver as for experimental models (step response type models)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marL="181440" indent="-181440">
              <a:lnSpc>
                <a:spcPct val="150000"/>
              </a:lnSpc>
              <a:spcAft>
                <a:spcPts val="1001"/>
              </a:spcAft>
              <a:buClr>
                <a:srgbClr val="db7d00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e"/>
                </a:solidFill>
                <a:latin typeface="Verdana"/>
              </a:rPr>
              <a:t>Closed loop response is predicted by non-linear model</a:t>
            </a:r>
            <a:endParaRPr b="0" lang="en-US" sz="1600" spc="-1" strike="noStrike">
              <a:solidFill>
                <a:srgbClr val="002569"/>
              </a:solidFill>
              <a:latin typeface="Verdana"/>
            </a:endParaRPr>
          </a:p>
          <a:p>
            <a:pPr lvl="1" marL="646560" indent="-279720">
              <a:lnSpc>
                <a:spcPct val="150000"/>
              </a:lnSpc>
              <a:spcAft>
                <a:spcPts val="264"/>
              </a:spcAft>
              <a:buClr>
                <a:srgbClr val="db7d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e"/>
                </a:solidFill>
                <a:latin typeface="Verdana"/>
              </a:rPr>
              <a:t>Compute linearisation error (difference open-loop + QP from simulated non-linear closed-loop response)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lvl="2" marL="1017720" indent="-186120">
              <a:lnSpc>
                <a:spcPct val="150000"/>
              </a:lnSpc>
              <a:spcAft>
                <a:spcPts val="264"/>
              </a:spcAft>
              <a:buClr>
                <a:srgbClr val="db7d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e"/>
                </a:solidFill>
                <a:latin typeface="Verdana"/>
              </a:rPr>
              <a:t>Above threshold ---&gt; closed-loop to "open-loop" and iterate solution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lvl="1" marL="646560" indent="-279720">
              <a:lnSpc>
                <a:spcPct val="150000"/>
              </a:lnSpc>
              <a:spcAft>
                <a:spcPts val="264"/>
              </a:spcAft>
              <a:buClr>
                <a:srgbClr val="db7d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e"/>
                </a:solidFill>
                <a:latin typeface="Verdana"/>
              </a:rPr>
              <a:t>QP solution ---&gt; defines line search direction with non-linear model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  <a:p>
            <a:pPr lvl="2" marL="1017720" indent="-186120">
              <a:lnSpc>
                <a:spcPct val="150000"/>
              </a:lnSpc>
              <a:spcAft>
                <a:spcPts val="264"/>
              </a:spcAft>
              <a:buClr>
                <a:srgbClr val="db7d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e"/>
                </a:solidFill>
                <a:latin typeface="Verdana"/>
              </a:rPr>
              <a:t>Possibly closed-loop to "open-loop" and iterate</a:t>
            </a:r>
            <a:endParaRPr b="0" lang="en-US" sz="14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2ED4-53C7-4FC4-A451-BED6BD21C3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6480" y="271440"/>
            <a:ext cx="9712440" cy="1008000"/>
          </a:xfrm>
          <a:prstGeom prst="rect">
            <a:avLst/>
          </a:prstGeom>
          <a:noFill/>
          <a:ln w="0">
            <a:noFill/>
          </a:ln>
        </p:spPr>
        <p:txBody>
          <a:bodyPr lIns="27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2569"/>
                </a:solidFill>
                <a:latin typeface="Verdana"/>
              </a:rPr>
              <a:t>Implementation</a:t>
            </a:r>
            <a:endParaRPr b="0" lang="en-US" sz="32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119520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 fontScale="83000"/>
          </a:bodyPr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Operation knowledge – benefit study? or strategy? </a:t>
            </a:r>
            <a:r>
              <a:rPr b="0" lang="en-GB" sz="15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  MPC project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Site personnel / Statoil R&amp;D joint implementation project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(MPC computer, data interface to DCS, operator interface to MPC)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MPC design </a:t>
            </a:r>
            <a:r>
              <a:rPr b="0" lang="en-GB" sz="15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 MV/CV/DV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DCS preparation (</a:t>
            </a:r>
            <a:r>
              <a:rPr b="0" lang="en-GB" sz="1300" spc="-1" strike="noStrike">
                <a:solidFill>
                  <a:srgbClr val="002569"/>
                </a:solidFill>
                <a:latin typeface="Verdana"/>
              </a:rPr>
              <a:t>controller tuning, instrumentation, MV handles, communication logics etc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Control room operator pre-training and motivation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Product quality control </a:t>
            </a:r>
            <a:r>
              <a:rPr b="0" lang="en-GB" sz="15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 Data collection (process/lab) </a:t>
            </a:r>
            <a:r>
              <a:rPr b="0" lang="en-GB" sz="15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 Inferential model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MV/DV step testing </a:t>
            </a:r>
            <a:r>
              <a:rPr b="0" lang="en-GB" sz="15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 dynamic models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Model judgement/singularity analysis </a:t>
            </a:r>
            <a:r>
              <a:rPr b="0" lang="en-GB" sz="15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 remove models? change models?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MPC pre-tuning by simulation </a:t>
            </a:r>
            <a:r>
              <a:rPr b="0" lang="en-GB" sz="15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 MPC activation – step by step and with care – challenging different constraint combinations – adjust models?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Control room operator training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MPC in normal operation, with at least 99% service factor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Benefit evaluation?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Continuous supervision and maintenance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-155160">
              <a:lnSpc>
                <a:spcPct val="90000"/>
              </a:lnSpc>
              <a:spcBef>
                <a:spcPts val="374"/>
              </a:spcBef>
              <a:buClr>
                <a:srgbClr val="ed80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Each project increases the in-house competence </a:t>
            </a:r>
            <a:r>
              <a:rPr b="0" lang="en-GB" sz="1500" spc="-1" strike="noStrike">
                <a:solidFill>
                  <a:srgbClr val="002569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2569"/>
                </a:solidFill>
                <a:latin typeface="Verdana"/>
              </a:rPr>
              <a:t> increased efficiency in maintenance and new projects</a:t>
            </a: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2569"/>
              </a:solidFill>
              <a:latin typeface="Verdana"/>
            </a:endParaRPr>
          </a:p>
          <a:p>
            <a:pPr marL="155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55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  <a:p>
            <a:pPr marL="155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CE08B-4CF9-454A-A6F3-A2DBEF7076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335240" y="785880"/>
          <a:ext cx="761832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785880"/>
                    <a:ext cx="76183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3513240" y="306360"/>
            <a:ext cx="312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Verdana"/>
              </a:rPr>
              <a:t>GORTO flow sheet</a:t>
            </a:r>
            <a:endParaRPr b="0" lang="en-US" sz="20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EE092-7C7F-4E8D-B2E2-470DC222CF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792520" y="1323720"/>
            <a:ext cx="820080" cy="4642920"/>
            <a:chOff x="2792520" y="1323720"/>
            <a:chExt cx="820080" cy="4642920"/>
          </a:xfrm>
        </p:grpSpPr>
        <p:grpSp>
          <p:nvGrpSpPr>
            <p:cNvPr id="177" name=""/>
            <p:cNvGrpSpPr/>
            <p:nvPr/>
          </p:nvGrpSpPr>
          <p:grpSpPr>
            <a:xfrm>
              <a:off x="2792520" y="1323720"/>
              <a:ext cx="820080" cy="4642920"/>
              <a:chOff x="2792520" y="1323720"/>
              <a:chExt cx="820080" cy="46429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2891520" y="1323720"/>
                <a:ext cx="622080" cy="1625400"/>
                <a:chOff x="2891520" y="1323720"/>
                <a:chExt cx="622080" cy="1625400"/>
              </a:xfrm>
            </p:grpSpPr>
            <p:sp>
              <p:nvSpPr>
                <p:cNvPr id="179" name=""/>
                <p:cNvSpPr/>
                <p:nvPr/>
              </p:nvSpPr>
              <p:spPr>
                <a:xfrm rot="16200000">
                  <a:off x="2982960" y="1232280"/>
                  <a:ext cx="438120" cy="621000"/>
                </a:xfrm>
                <a:prstGeom prst="flowChartDelay">
                  <a:avLst/>
                </a:prstGeom>
                <a:noFill/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891520" y="1531440"/>
                  <a:ext cx="622080" cy="1417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2792520" y="3254040"/>
                <a:ext cx="820080" cy="2712600"/>
                <a:chOff x="2792520" y="3254040"/>
                <a:chExt cx="820080" cy="2712600"/>
              </a:xfrm>
            </p:grpSpPr>
            <p:sp>
              <p:nvSpPr>
                <p:cNvPr id="182" name=""/>
                <p:cNvSpPr/>
                <p:nvPr/>
              </p:nvSpPr>
              <p:spPr>
                <a:xfrm flipV="1" rot="5400000">
                  <a:off x="2984040" y="5338080"/>
                  <a:ext cx="438480" cy="818640"/>
                </a:xfrm>
                <a:prstGeom prst="flowChartDelay">
                  <a:avLst/>
                </a:prstGeom>
                <a:noFill/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792520" y="3254040"/>
                  <a:ext cx="817920" cy="250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 flipH="1">
                <a:off x="2792520" y="2949480"/>
                <a:ext cx="100800" cy="304200"/>
              </a:xfrm>
              <a:prstGeom prst="line">
                <a:avLst/>
              </a:prstGeom>
              <a:ln w="1908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13600" y="2949480"/>
                <a:ext cx="97200" cy="304200"/>
              </a:xfrm>
              <a:prstGeom prst="line">
                <a:avLst/>
              </a:prstGeom>
              <a:ln w="1908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08080" y="2916000"/>
                <a:ext cx="588240" cy="61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817000" y="3251160"/>
                <a:ext cx="763920" cy="77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2961000" y="2628720"/>
              <a:ext cx="551160" cy="176760"/>
              <a:chOff x="2961000" y="2628720"/>
              <a:chExt cx="551160" cy="176760"/>
            </a:xfrm>
          </p:grpSpPr>
          <p:sp>
            <p:nvSpPr>
              <p:cNvPr id="189" name=""/>
              <p:cNvSpPr/>
              <p:nvPr/>
            </p:nvSpPr>
            <p:spPr>
              <a:xfrm>
                <a:off x="2961000" y="280296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65920" y="26287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1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870280" y="4346280"/>
              <a:ext cx="669600" cy="176760"/>
              <a:chOff x="2870280" y="4346280"/>
              <a:chExt cx="669600" cy="17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2870280" y="4520520"/>
                <a:ext cx="6696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97960" y="434628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2870280" y="4101840"/>
              <a:ext cx="669600" cy="176760"/>
              <a:chOff x="2870280" y="4101840"/>
              <a:chExt cx="669600" cy="176760"/>
            </a:xfrm>
          </p:grpSpPr>
          <p:sp>
            <p:nvSpPr>
              <p:cNvPr id="195" name=""/>
              <p:cNvSpPr/>
              <p:nvPr/>
            </p:nvSpPr>
            <p:spPr>
              <a:xfrm>
                <a:off x="2870280" y="4275720"/>
                <a:ext cx="6696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297960" y="410184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2858760" y="3947760"/>
              <a:ext cx="667440" cy="176760"/>
              <a:chOff x="2858760" y="3947760"/>
              <a:chExt cx="667440" cy="176760"/>
            </a:xfrm>
          </p:grpSpPr>
          <p:sp>
            <p:nvSpPr>
              <p:cNvPr id="198" name=""/>
              <p:cNvSpPr/>
              <p:nvPr/>
            </p:nvSpPr>
            <p:spPr>
              <a:xfrm>
                <a:off x="2858760" y="4121640"/>
                <a:ext cx="6674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283560" y="3947760"/>
                <a:ext cx="2278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 </a:t>
                </a: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6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2858760" y="3778200"/>
              <a:ext cx="671760" cy="176760"/>
              <a:chOff x="2858760" y="3778200"/>
              <a:chExt cx="671760" cy="176760"/>
            </a:xfrm>
          </p:grpSpPr>
          <p:sp>
            <p:nvSpPr>
              <p:cNvPr id="201" name=""/>
              <p:cNvSpPr/>
              <p:nvPr/>
            </p:nvSpPr>
            <p:spPr>
              <a:xfrm>
                <a:off x="2858760" y="3952080"/>
                <a:ext cx="6688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84280" y="37782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7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856960" y="3242880"/>
              <a:ext cx="672480" cy="176760"/>
              <a:chOff x="2856960" y="3242880"/>
              <a:chExt cx="672480" cy="176760"/>
            </a:xfrm>
          </p:grpSpPr>
          <p:sp>
            <p:nvSpPr>
              <p:cNvPr id="204" name=""/>
              <p:cNvSpPr/>
              <p:nvPr/>
            </p:nvSpPr>
            <p:spPr>
              <a:xfrm>
                <a:off x="2856960" y="3413880"/>
                <a:ext cx="6692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83200" y="32428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0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963160" y="2376360"/>
              <a:ext cx="550080" cy="176760"/>
              <a:chOff x="2963160" y="2376360"/>
              <a:chExt cx="550080" cy="176760"/>
            </a:xfrm>
          </p:grpSpPr>
          <p:sp>
            <p:nvSpPr>
              <p:cNvPr id="207" name=""/>
              <p:cNvSpPr/>
              <p:nvPr/>
            </p:nvSpPr>
            <p:spPr>
              <a:xfrm>
                <a:off x="2963160" y="255024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267000" y="237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3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964600" y="2234880"/>
              <a:ext cx="550080" cy="176760"/>
              <a:chOff x="2964600" y="2234880"/>
              <a:chExt cx="550080" cy="176760"/>
            </a:xfrm>
          </p:grpSpPr>
          <p:sp>
            <p:nvSpPr>
              <p:cNvPr id="210" name=""/>
              <p:cNvSpPr/>
              <p:nvPr/>
            </p:nvSpPr>
            <p:spPr>
              <a:xfrm>
                <a:off x="2964600" y="240912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68440" y="22348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957760" y="1861920"/>
              <a:ext cx="550440" cy="176760"/>
              <a:chOff x="2957760" y="1861920"/>
              <a:chExt cx="550440" cy="176760"/>
            </a:xfrm>
          </p:grpSpPr>
          <p:sp>
            <p:nvSpPr>
              <p:cNvPr id="213" name=""/>
              <p:cNvSpPr/>
              <p:nvPr/>
            </p:nvSpPr>
            <p:spPr>
              <a:xfrm>
                <a:off x="2957760" y="2037600"/>
                <a:ext cx="476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61960" y="18619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9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959560" y="1515960"/>
              <a:ext cx="552600" cy="176760"/>
              <a:chOff x="2959560" y="1515960"/>
              <a:chExt cx="552600" cy="176760"/>
            </a:xfrm>
          </p:grpSpPr>
          <p:sp>
            <p:nvSpPr>
              <p:cNvPr id="216" name=""/>
              <p:cNvSpPr/>
              <p:nvPr/>
            </p:nvSpPr>
            <p:spPr>
              <a:xfrm>
                <a:off x="2959560" y="1689840"/>
                <a:ext cx="47592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65920" y="15159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48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959560" y="2097000"/>
              <a:ext cx="552600" cy="176760"/>
              <a:chOff x="2959560" y="2097000"/>
              <a:chExt cx="552600" cy="176760"/>
            </a:xfrm>
          </p:grpSpPr>
          <p:sp>
            <p:nvSpPr>
              <p:cNvPr id="219" name=""/>
              <p:cNvSpPr/>
              <p:nvPr/>
            </p:nvSpPr>
            <p:spPr>
              <a:xfrm>
                <a:off x="2959560" y="2269440"/>
                <a:ext cx="47592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265920" y="20970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3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952720" y="1661760"/>
              <a:ext cx="550080" cy="176760"/>
              <a:chOff x="2952720" y="1661760"/>
              <a:chExt cx="550080" cy="176760"/>
            </a:xfrm>
          </p:grpSpPr>
          <p:sp>
            <p:nvSpPr>
              <p:cNvPr id="222" name=""/>
              <p:cNvSpPr/>
              <p:nvPr/>
            </p:nvSpPr>
            <p:spPr>
              <a:xfrm>
                <a:off x="2952720" y="1834200"/>
                <a:ext cx="476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56560" y="16617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40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860200" y="3533400"/>
              <a:ext cx="672480" cy="176760"/>
              <a:chOff x="2860200" y="3533400"/>
              <a:chExt cx="672480" cy="176760"/>
            </a:xfrm>
          </p:grpSpPr>
          <p:sp>
            <p:nvSpPr>
              <p:cNvPr id="225" name=""/>
              <p:cNvSpPr/>
              <p:nvPr/>
            </p:nvSpPr>
            <p:spPr>
              <a:xfrm>
                <a:off x="2860200" y="3707640"/>
                <a:ext cx="6692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286440" y="35334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18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2043000" y="3971880"/>
            <a:ext cx="505800" cy="371520"/>
            <a:chOff x="2043000" y="3971880"/>
            <a:chExt cx="505800" cy="371520"/>
          </a:xfrm>
        </p:grpSpPr>
        <p:grpSp>
          <p:nvGrpSpPr>
            <p:cNvPr id="228" name=""/>
            <p:cNvGrpSpPr/>
            <p:nvPr/>
          </p:nvGrpSpPr>
          <p:grpSpPr>
            <a:xfrm>
              <a:off x="2043000" y="3971880"/>
              <a:ext cx="505800" cy="371520"/>
              <a:chOff x="2043000" y="3971880"/>
              <a:chExt cx="505800" cy="37152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2234520" y="4047840"/>
                <a:ext cx="314280" cy="295560"/>
                <a:chOff x="2234520" y="4047840"/>
                <a:chExt cx="314280" cy="2955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2234520" y="404784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237400" y="404892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2043000" y="39718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2243880" y="402588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06800" y="414648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2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H="1">
            <a:off x="2548080" y="4194000"/>
            <a:ext cx="225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73520" y="5880240"/>
            <a:ext cx="0" cy="69840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236320" y="6562800"/>
            <a:ext cx="63684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1648440" y="5558040"/>
            <a:ext cx="1143000" cy="455760"/>
          </a:xfrm>
          <a:prstGeom prst="roundRect">
            <a:avLst>
              <a:gd name="adj" fmla="val 50000"/>
            </a:avLst>
          </a:prstGeom>
          <a:noFill/>
          <a:ln w="2556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233440" y="6338880"/>
            <a:ext cx="0" cy="23976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2217600" y="4584600"/>
            <a:ext cx="6480" cy="63360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27320" y="4587840"/>
            <a:ext cx="5587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555560" y="4189320"/>
            <a:ext cx="680760" cy="180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4480" y="5410080"/>
            <a:ext cx="12463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25040" y="6135840"/>
            <a:ext cx="126540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08200" y="5729400"/>
            <a:ext cx="282600" cy="0"/>
          </a:xfrm>
          <a:prstGeom prst="line">
            <a:avLst/>
          </a:prstGeom>
          <a:ln cap="rnd" w="9360">
            <a:solidFill>
              <a:srgbClr val="0025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498680" y="5989680"/>
            <a:ext cx="102960" cy="175680"/>
            <a:chOff x="1498680" y="5989680"/>
            <a:chExt cx="102960" cy="175680"/>
          </a:xfrm>
        </p:grpSpPr>
        <p:sp>
          <p:nvSpPr>
            <p:cNvPr id="247" name=""/>
            <p:cNvSpPr/>
            <p:nvPr/>
          </p:nvSpPr>
          <p:spPr>
            <a:xfrm flipV="1">
              <a:off x="1549800" y="603756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506960" y="5989680"/>
              <a:ext cx="81000" cy="90360"/>
              <a:chOff x="1506960" y="5989680"/>
              <a:chExt cx="81000" cy="90360"/>
            </a:xfrm>
          </p:grpSpPr>
          <p:sp>
            <p:nvSpPr>
              <p:cNvPr id="249" name=""/>
              <p:cNvSpPr/>
              <p:nvPr/>
            </p:nvSpPr>
            <p:spPr>
              <a:xfrm>
                <a:off x="1506960" y="603324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506960" y="5989680"/>
                <a:ext cx="81000" cy="90360"/>
                <a:chOff x="1506960" y="5989680"/>
                <a:chExt cx="81000" cy="90360"/>
              </a:xfrm>
            </p:grpSpPr>
            <p:sp>
              <p:nvSpPr>
                <p:cNvPr id="251" name=""/>
                <p:cNvSpPr/>
                <p:nvPr/>
              </p:nvSpPr>
              <p:spPr>
                <a:xfrm flipH="1">
                  <a:off x="1506960" y="598968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507320" y="598968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" name=""/>
            <p:cNvSpPr/>
            <p:nvPr/>
          </p:nvSpPr>
          <p:spPr>
            <a:xfrm>
              <a:off x="1498680" y="610164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549440" y="5880240"/>
            <a:ext cx="0" cy="98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85680" y="5268960"/>
            <a:ext cx="103320" cy="177840"/>
            <a:chOff x="985680" y="5268960"/>
            <a:chExt cx="103320" cy="177840"/>
          </a:xfrm>
        </p:grpSpPr>
        <p:sp>
          <p:nvSpPr>
            <p:cNvPr id="256" name=""/>
            <p:cNvSpPr/>
            <p:nvPr/>
          </p:nvSpPr>
          <p:spPr>
            <a:xfrm flipV="1">
              <a:off x="1037160" y="53175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993960" y="5268960"/>
              <a:ext cx="81360" cy="91080"/>
              <a:chOff x="993960" y="5268960"/>
              <a:chExt cx="81360" cy="91080"/>
            </a:xfrm>
          </p:grpSpPr>
          <p:sp>
            <p:nvSpPr>
              <p:cNvPr id="258" name=""/>
              <p:cNvSpPr/>
              <p:nvPr/>
            </p:nvSpPr>
            <p:spPr>
              <a:xfrm>
                <a:off x="993960" y="531288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993960" y="5268960"/>
                <a:ext cx="81360" cy="91080"/>
                <a:chOff x="993960" y="5268960"/>
                <a:chExt cx="81360" cy="91080"/>
              </a:xfrm>
            </p:grpSpPr>
            <p:sp>
              <p:nvSpPr>
                <p:cNvPr id="260" name=""/>
                <p:cNvSpPr/>
                <p:nvPr/>
              </p:nvSpPr>
              <p:spPr>
                <a:xfrm flipH="1">
                  <a:off x="993960" y="5268960"/>
                  <a:ext cx="8064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993960" y="5268960"/>
                  <a:ext cx="8136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2" name=""/>
            <p:cNvSpPr/>
            <p:nvPr/>
          </p:nvSpPr>
          <p:spPr>
            <a:xfrm>
              <a:off x="985680" y="5382360"/>
              <a:ext cx="1033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044720" y="5116680"/>
            <a:ext cx="0" cy="1504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22200" y="4964040"/>
            <a:ext cx="216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4964040"/>
            <a:ext cx="0" cy="449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840" y="6219720"/>
            <a:ext cx="689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700" spc="-1" strike="noStrike">
                <a:solidFill>
                  <a:srgbClr val="002569"/>
                </a:solidFill>
                <a:latin typeface="Times New Roman"/>
              </a:rPr>
              <a:t>LP condensate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1920" y="5442120"/>
            <a:ext cx="50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LP steam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55920" y="4189320"/>
            <a:ext cx="0" cy="1370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204920" y="5494320"/>
            <a:ext cx="505800" cy="371520"/>
            <a:chOff x="1204920" y="5494320"/>
            <a:chExt cx="505800" cy="371520"/>
          </a:xfrm>
        </p:grpSpPr>
        <p:grpSp>
          <p:nvGrpSpPr>
            <p:cNvPr id="270" name=""/>
            <p:cNvGrpSpPr/>
            <p:nvPr/>
          </p:nvGrpSpPr>
          <p:grpSpPr>
            <a:xfrm>
              <a:off x="1204920" y="5494320"/>
              <a:ext cx="505800" cy="371520"/>
              <a:chOff x="1204920" y="5494320"/>
              <a:chExt cx="505800" cy="37152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1396440" y="5570280"/>
                <a:ext cx="314280" cy="295560"/>
                <a:chOff x="1396440" y="5570280"/>
                <a:chExt cx="314280" cy="29556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396440" y="557028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399320" y="557136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1204920" y="54943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403640" y="554832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70520" y="566712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6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85800" y="4743360"/>
            <a:ext cx="505800" cy="371520"/>
            <a:chOff x="685800" y="4743360"/>
            <a:chExt cx="505800" cy="371520"/>
          </a:xfrm>
        </p:grpSpPr>
        <p:grpSp>
          <p:nvGrpSpPr>
            <p:cNvPr id="278" name=""/>
            <p:cNvGrpSpPr/>
            <p:nvPr/>
          </p:nvGrpSpPr>
          <p:grpSpPr>
            <a:xfrm>
              <a:off x="685800" y="4743360"/>
              <a:ext cx="505800" cy="371520"/>
              <a:chOff x="685800" y="4743360"/>
              <a:chExt cx="505800" cy="37152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877320" y="4819320"/>
                <a:ext cx="314280" cy="295560"/>
                <a:chOff x="877320" y="4819320"/>
                <a:chExt cx="314280" cy="2955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877320" y="481932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80200" y="482040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685800" y="4743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886320" y="4797360"/>
              <a:ext cx="2628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51400" y="49194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883240" y="6308640"/>
            <a:ext cx="506880" cy="371520"/>
            <a:chOff x="2883240" y="6308640"/>
            <a:chExt cx="506880" cy="371520"/>
          </a:xfrm>
        </p:grpSpPr>
        <p:grpSp>
          <p:nvGrpSpPr>
            <p:cNvPr id="286" name=""/>
            <p:cNvGrpSpPr/>
            <p:nvPr/>
          </p:nvGrpSpPr>
          <p:grpSpPr>
            <a:xfrm>
              <a:off x="2883240" y="6308640"/>
              <a:ext cx="506880" cy="371520"/>
              <a:chOff x="2883240" y="6308640"/>
              <a:chExt cx="506880" cy="37152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3075120" y="6384600"/>
                <a:ext cx="315000" cy="295560"/>
                <a:chOff x="3075120" y="6384600"/>
                <a:chExt cx="315000" cy="2955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3075120" y="6384600"/>
                  <a:ext cx="31500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078000" y="6385680"/>
                  <a:ext cx="30384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2883240" y="6308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082320" y="63626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47400" y="64814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8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2868480" y="6518160"/>
            <a:ext cx="2080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794400" y="5065560"/>
            <a:ext cx="506880" cy="371520"/>
            <a:chOff x="3794400" y="5065560"/>
            <a:chExt cx="506880" cy="371520"/>
          </a:xfrm>
        </p:grpSpPr>
        <p:grpSp>
          <p:nvGrpSpPr>
            <p:cNvPr id="295" name=""/>
            <p:cNvGrpSpPr/>
            <p:nvPr/>
          </p:nvGrpSpPr>
          <p:grpSpPr>
            <a:xfrm>
              <a:off x="3794400" y="5065560"/>
              <a:ext cx="506880" cy="371520"/>
              <a:chOff x="3794400" y="5065560"/>
              <a:chExt cx="506880" cy="37152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3986280" y="5141520"/>
                <a:ext cx="315000" cy="295560"/>
                <a:chOff x="3986280" y="5141520"/>
                <a:chExt cx="315000" cy="2955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986280" y="5141520"/>
                  <a:ext cx="31500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989160" y="5142600"/>
                  <a:ext cx="30384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794400" y="50655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3994560" y="511956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58560" y="52416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9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>
            <a:off x="3615840" y="5276880"/>
            <a:ext cx="3668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19480" y="5965920"/>
            <a:ext cx="0" cy="2347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19480" y="6200640"/>
            <a:ext cx="55627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984920" y="6048360"/>
            <a:ext cx="102960" cy="176040"/>
            <a:chOff x="4984920" y="6048360"/>
            <a:chExt cx="102960" cy="176040"/>
          </a:xfrm>
        </p:grpSpPr>
        <p:sp>
          <p:nvSpPr>
            <p:cNvPr id="306" name=""/>
            <p:cNvSpPr/>
            <p:nvPr/>
          </p:nvSpPr>
          <p:spPr>
            <a:xfrm flipV="1">
              <a:off x="5036040" y="609624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4993200" y="6048360"/>
              <a:ext cx="81000" cy="90360"/>
              <a:chOff x="4993200" y="6048360"/>
              <a:chExt cx="81000" cy="90360"/>
            </a:xfrm>
          </p:grpSpPr>
          <p:sp>
            <p:nvSpPr>
              <p:cNvPr id="308" name=""/>
              <p:cNvSpPr/>
              <p:nvPr/>
            </p:nvSpPr>
            <p:spPr>
              <a:xfrm>
                <a:off x="4993200" y="609192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4993200" y="6048360"/>
                <a:ext cx="81000" cy="90360"/>
                <a:chOff x="4993200" y="6048360"/>
                <a:chExt cx="81000" cy="90360"/>
              </a:xfrm>
            </p:grpSpPr>
            <p:sp>
              <p:nvSpPr>
                <p:cNvPr id="310" name=""/>
                <p:cNvSpPr/>
                <p:nvPr/>
              </p:nvSpPr>
              <p:spPr>
                <a:xfrm flipH="1">
                  <a:off x="4993200" y="604836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93560" y="604836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2" name=""/>
            <p:cNvSpPr/>
            <p:nvPr/>
          </p:nvSpPr>
          <p:spPr>
            <a:xfrm>
              <a:off x="4984920" y="616068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300560" y="5284800"/>
            <a:ext cx="7272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27760" y="5284800"/>
            <a:ext cx="0" cy="7588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3188880" y="918720"/>
            <a:ext cx="1800" cy="4129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951440" y="1209600"/>
            <a:ext cx="620280" cy="577800"/>
            <a:chOff x="4951440" y="1209600"/>
            <a:chExt cx="620280" cy="577800"/>
          </a:xfrm>
        </p:grpSpPr>
        <p:sp>
          <p:nvSpPr>
            <p:cNvPr id="317" name=""/>
            <p:cNvSpPr/>
            <p:nvPr/>
          </p:nvSpPr>
          <p:spPr>
            <a:xfrm>
              <a:off x="4951440" y="1209600"/>
              <a:ext cx="620280" cy="577800"/>
            </a:xfrm>
            <a:prstGeom prst="ellipse">
              <a:avLst/>
            </a:prstGeom>
            <a:noFill/>
            <a:ln w="1908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81320" y="1350720"/>
              <a:ext cx="5767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 algn="ctr"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24-HA-103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A/B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404040" y="1157400"/>
            <a:ext cx="1261800" cy="533160"/>
            <a:chOff x="6404040" y="1157400"/>
            <a:chExt cx="1261800" cy="533160"/>
          </a:xfrm>
        </p:grpSpPr>
        <p:sp>
          <p:nvSpPr>
            <p:cNvPr id="320" name=""/>
            <p:cNvSpPr/>
            <p:nvPr/>
          </p:nvSpPr>
          <p:spPr>
            <a:xfrm>
              <a:off x="6404040" y="1157400"/>
              <a:ext cx="1261800" cy="533160"/>
            </a:xfrm>
            <a:prstGeom prst="roundRect">
              <a:avLst>
                <a:gd name="adj" fmla="val 50000"/>
              </a:avLst>
            </a:prstGeom>
            <a:noFill/>
            <a:ln w="255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40200" y="1301400"/>
              <a:ext cx="7002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900" spc="-1" strike="noStrike">
                  <a:solidFill>
                    <a:srgbClr val="002569"/>
                  </a:solidFill>
                  <a:latin typeface="Times New Roman"/>
                </a:rPr>
                <a:t>24-VA-102</a:t>
              </a:r>
              <a:endParaRPr b="0" lang="en-US" sz="9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flipV="1">
            <a:off x="6792840" y="3114720"/>
            <a:ext cx="465120" cy="144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319800" y="3024360"/>
            <a:ext cx="636120" cy="370080"/>
            <a:chOff x="6319800" y="3024360"/>
            <a:chExt cx="636120" cy="370080"/>
          </a:xfrm>
        </p:grpSpPr>
        <p:grpSp>
          <p:nvGrpSpPr>
            <p:cNvPr id="324" name=""/>
            <p:cNvGrpSpPr/>
            <p:nvPr/>
          </p:nvGrpSpPr>
          <p:grpSpPr>
            <a:xfrm>
              <a:off x="6492960" y="3024360"/>
              <a:ext cx="297000" cy="226800"/>
              <a:chOff x="6492960" y="3024360"/>
              <a:chExt cx="297000" cy="226800"/>
            </a:xfrm>
          </p:grpSpPr>
          <p:sp>
            <p:nvSpPr>
              <p:cNvPr id="325" name=""/>
              <p:cNvSpPr/>
              <p:nvPr/>
            </p:nvSpPr>
            <p:spPr>
              <a:xfrm flipH="1">
                <a:off x="6492600" y="3024360"/>
                <a:ext cx="178200" cy="5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6552360" y="3024360"/>
                <a:ext cx="237600" cy="22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6319800" y="3217680"/>
              <a:ext cx="63612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24-PA-102A/B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 flipH="1">
            <a:off x="4716360" y="3056040"/>
            <a:ext cx="177480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716360" y="1604880"/>
            <a:ext cx="0" cy="145728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494160" y="1604880"/>
            <a:ext cx="123336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683600" y="2319480"/>
            <a:ext cx="506880" cy="372240"/>
            <a:chOff x="4683600" y="2319480"/>
            <a:chExt cx="506880" cy="372240"/>
          </a:xfrm>
        </p:grpSpPr>
        <p:grpSp>
          <p:nvGrpSpPr>
            <p:cNvPr id="332" name=""/>
            <p:cNvGrpSpPr/>
            <p:nvPr/>
          </p:nvGrpSpPr>
          <p:grpSpPr>
            <a:xfrm>
              <a:off x="4683600" y="2319480"/>
              <a:ext cx="506880" cy="372240"/>
              <a:chOff x="4683600" y="2319480"/>
              <a:chExt cx="506880" cy="37224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4875480" y="2395440"/>
                <a:ext cx="315000" cy="296280"/>
                <a:chOff x="4875480" y="2395440"/>
                <a:chExt cx="315000" cy="2962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875480" y="2395440"/>
                  <a:ext cx="315000" cy="29628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878360" y="2396520"/>
                  <a:ext cx="303840" cy="2901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4683600" y="23194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4883400" y="2373480"/>
              <a:ext cx="2628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F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47760" y="24944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8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976640" y="2908440"/>
            <a:ext cx="103320" cy="178920"/>
            <a:chOff x="4976640" y="2908440"/>
            <a:chExt cx="103320" cy="178920"/>
          </a:xfrm>
        </p:grpSpPr>
        <p:sp>
          <p:nvSpPr>
            <p:cNvPr id="340" name=""/>
            <p:cNvSpPr/>
            <p:nvPr/>
          </p:nvSpPr>
          <p:spPr>
            <a:xfrm flipV="1">
              <a:off x="5028120" y="2957400"/>
              <a:ext cx="0" cy="9216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4984920" y="2908440"/>
              <a:ext cx="81360" cy="91800"/>
              <a:chOff x="4984920" y="2908440"/>
              <a:chExt cx="81360" cy="91800"/>
            </a:xfrm>
          </p:grpSpPr>
          <p:sp>
            <p:nvSpPr>
              <p:cNvPr id="342" name=""/>
              <p:cNvSpPr/>
              <p:nvPr/>
            </p:nvSpPr>
            <p:spPr>
              <a:xfrm>
                <a:off x="4984920" y="295272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4984920" y="2908440"/>
                <a:ext cx="81360" cy="91800"/>
                <a:chOff x="4984920" y="2908440"/>
                <a:chExt cx="81360" cy="91800"/>
              </a:xfrm>
            </p:grpSpPr>
            <p:sp>
              <p:nvSpPr>
                <p:cNvPr id="344" name=""/>
                <p:cNvSpPr/>
                <p:nvPr/>
              </p:nvSpPr>
              <p:spPr>
                <a:xfrm flipH="1">
                  <a:off x="4984920" y="2908440"/>
                  <a:ext cx="8064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984920" y="2908440"/>
                  <a:ext cx="8136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6" name=""/>
            <p:cNvSpPr/>
            <p:nvPr/>
          </p:nvSpPr>
          <p:spPr>
            <a:xfrm>
              <a:off x="4976640" y="3022560"/>
              <a:ext cx="103320" cy="6480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 flipV="1">
            <a:off x="5032440" y="2693880"/>
            <a:ext cx="0" cy="2145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356080" y="2526840"/>
            <a:ext cx="0" cy="5288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769000" y="1185840"/>
            <a:ext cx="505800" cy="371520"/>
            <a:chOff x="5769000" y="1185840"/>
            <a:chExt cx="505800" cy="371520"/>
          </a:xfrm>
        </p:grpSpPr>
        <p:grpSp>
          <p:nvGrpSpPr>
            <p:cNvPr id="350" name=""/>
            <p:cNvGrpSpPr/>
            <p:nvPr/>
          </p:nvGrpSpPr>
          <p:grpSpPr>
            <a:xfrm>
              <a:off x="5769000" y="1185840"/>
              <a:ext cx="505800" cy="371520"/>
              <a:chOff x="5769000" y="1185840"/>
              <a:chExt cx="505800" cy="37152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5960520" y="1261800"/>
                <a:ext cx="314280" cy="295560"/>
                <a:chOff x="5960520" y="1261800"/>
                <a:chExt cx="314280" cy="2955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5960520" y="126180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963400" y="126288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5769000" y="11858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5967360" y="12398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32800" y="13586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6162840" y="3452760"/>
            <a:ext cx="353052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372440" y="3301920"/>
            <a:ext cx="102960" cy="176040"/>
            <a:chOff x="7372440" y="3301920"/>
            <a:chExt cx="102960" cy="176040"/>
          </a:xfrm>
        </p:grpSpPr>
        <p:sp>
          <p:nvSpPr>
            <p:cNvPr id="359" name=""/>
            <p:cNvSpPr/>
            <p:nvPr/>
          </p:nvSpPr>
          <p:spPr>
            <a:xfrm flipV="1">
              <a:off x="7423560" y="3349800"/>
              <a:ext cx="0" cy="907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7380720" y="3301920"/>
              <a:ext cx="81000" cy="90360"/>
              <a:chOff x="7380720" y="3301920"/>
              <a:chExt cx="81000" cy="90360"/>
            </a:xfrm>
          </p:grpSpPr>
          <p:sp>
            <p:nvSpPr>
              <p:cNvPr id="361" name=""/>
              <p:cNvSpPr/>
              <p:nvPr/>
            </p:nvSpPr>
            <p:spPr>
              <a:xfrm>
                <a:off x="7380720" y="3345480"/>
                <a:ext cx="8028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7380720" y="3301920"/>
                <a:ext cx="81000" cy="90360"/>
                <a:chOff x="7380720" y="3301920"/>
                <a:chExt cx="81000" cy="90360"/>
              </a:xfrm>
            </p:grpSpPr>
            <p:sp>
              <p:nvSpPr>
                <p:cNvPr id="363" name=""/>
                <p:cNvSpPr/>
                <p:nvPr/>
              </p:nvSpPr>
              <p:spPr>
                <a:xfrm flipH="1">
                  <a:off x="7380720" y="330192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381080" y="3301920"/>
                  <a:ext cx="80640" cy="9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5" name=""/>
            <p:cNvSpPr/>
            <p:nvPr/>
          </p:nvSpPr>
          <p:spPr>
            <a:xfrm>
              <a:off x="7372440" y="3414240"/>
              <a:ext cx="102960" cy="637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656480" y="1206360"/>
            <a:ext cx="505800" cy="371520"/>
            <a:chOff x="7656480" y="1206360"/>
            <a:chExt cx="505800" cy="371520"/>
          </a:xfrm>
        </p:grpSpPr>
        <p:grpSp>
          <p:nvGrpSpPr>
            <p:cNvPr id="367" name=""/>
            <p:cNvGrpSpPr/>
            <p:nvPr/>
          </p:nvGrpSpPr>
          <p:grpSpPr>
            <a:xfrm>
              <a:off x="7656480" y="1206360"/>
              <a:ext cx="505800" cy="371520"/>
              <a:chOff x="7656480" y="1206360"/>
              <a:chExt cx="505800" cy="37152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7848000" y="1282320"/>
                <a:ext cx="314280" cy="295560"/>
                <a:chOff x="7848000" y="1282320"/>
                <a:chExt cx="314280" cy="2955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7848000" y="128232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850880" y="128340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7656480" y="120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7856640" y="126036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L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20280" y="13809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7677000" y="1424160"/>
            <a:ext cx="171720" cy="1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18640" y="1579680"/>
            <a:ext cx="0" cy="8110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48600" y="1695600"/>
            <a:ext cx="0" cy="142236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0760" y="3076560"/>
            <a:ext cx="0" cy="3967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91200" y="2523960"/>
            <a:ext cx="16992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7382160" y="2906640"/>
            <a:ext cx="506880" cy="372240"/>
            <a:chOff x="7382160" y="2906640"/>
            <a:chExt cx="506880" cy="372240"/>
          </a:xfrm>
        </p:grpSpPr>
        <p:grpSp>
          <p:nvGrpSpPr>
            <p:cNvPr id="380" name=""/>
            <p:cNvGrpSpPr/>
            <p:nvPr/>
          </p:nvGrpSpPr>
          <p:grpSpPr>
            <a:xfrm>
              <a:off x="7382160" y="2906640"/>
              <a:ext cx="506880" cy="372240"/>
              <a:chOff x="7382160" y="2906640"/>
              <a:chExt cx="506880" cy="37224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7574040" y="2982600"/>
                <a:ext cx="315000" cy="296280"/>
                <a:chOff x="7574040" y="2982600"/>
                <a:chExt cx="315000" cy="2962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574040" y="2982600"/>
                  <a:ext cx="315000" cy="29628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576920" y="2983680"/>
                  <a:ext cx="303840" cy="2901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7382160" y="2906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7581240" y="296064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48120" y="30816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38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751880" y="3282840"/>
            <a:ext cx="0" cy="173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76960" y="1401840"/>
            <a:ext cx="125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7960" y="911160"/>
            <a:ext cx="0" cy="24948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7419960" y="2394000"/>
            <a:ext cx="0" cy="9064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29680" y="2394000"/>
            <a:ext cx="58572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18120" y="919080"/>
            <a:ext cx="0" cy="32868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18120" y="1755720"/>
            <a:ext cx="0" cy="40644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18120" y="2162160"/>
            <a:ext cx="157464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692760" y="1704960"/>
            <a:ext cx="0" cy="45720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91040" y="917640"/>
            <a:ext cx="3438360" cy="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460600" y="816120"/>
            <a:ext cx="505800" cy="370800"/>
            <a:chOff x="2460600" y="816120"/>
            <a:chExt cx="505800" cy="370800"/>
          </a:xfrm>
        </p:grpSpPr>
        <p:grpSp>
          <p:nvGrpSpPr>
            <p:cNvPr id="398" name=""/>
            <p:cNvGrpSpPr/>
            <p:nvPr/>
          </p:nvGrpSpPr>
          <p:grpSpPr>
            <a:xfrm>
              <a:off x="2460600" y="816120"/>
              <a:ext cx="505800" cy="370800"/>
              <a:chOff x="2460600" y="816120"/>
              <a:chExt cx="505800" cy="37080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652120" y="891720"/>
                <a:ext cx="314280" cy="295200"/>
                <a:chOff x="2652120" y="891720"/>
                <a:chExt cx="314280" cy="2952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652120" y="891720"/>
                  <a:ext cx="314280" cy="29520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655000" y="892800"/>
                  <a:ext cx="303120" cy="28908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2" name=""/>
              <p:cNvSpPr/>
              <p:nvPr/>
            </p:nvSpPr>
            <p:spPr>
              <a:xfrm>
                <a:off x="2460600" y="8161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2660400" y="86652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24400" y="9903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2967120" y="1039680"/>
            <a:ext cx="2174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440" y="341280"/>
            <a:ext cx="505800" cy="371520"/>
            <a:chOff x="3808440" y="341280"/>
            <a:chExt cx="505800" cy="371520"/>
          </a:xfrm>
        </p:grpSpPr>
        <p:grpSp>
          <p:nvGrpSpPr>
            <p:cNvPr id="407" name=""/>
            <p:cNvGrpSpPr/>
            <p:nvPr/>
          </p:nvGrpSpPr>
          <p:grpSpPr>
            <a:xfrm>
              <a:off x="3808440" y="341280"/>
              <a:ext cx="505800" cy="371520"/>
              <a:chOff x="3808440" y="341280"/>
              <a:chExt cx="505800" cy="37152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3999960" y="417240"/>
                <a:ext cx="314280" cy="295560"/>
                <a:chOff x="3999960" y="417240"/>
                <a:chExt cx="314280" cy="29556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3999960" y="417240"/>
                  <a:ext cx="31428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002840" y="418320"/>
                  <a:ext cx="30312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>
                <a:off x="3808440" y="3412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4007520" y="395280"/>
              <a:ext cx="2628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72240" y="51588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0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4164120" y="711360"/>
            <a:ext cx="0" cy="2077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246720" y="776160"/>
            <a:ext cx="101520" cy="177840"/>
            <a:chOff x="6246720" y="776160"/>
            <a:chExt cx="101520" cy="177840"/>
          </a:xfrm>
        </p:grpSpPr>
        <p:sp>
          <p:nvSpPr>
            <p:cNvPr id="416" name=""/>
            <p:cNvSpPr/>
            <p:nvPr/>
          </p:nvSpPr>
          <p:spPr>
            <a:xfrm flipV="1">
              <a:off x="6297120" y="8247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6255000" y="776160"/>
              <a:ext cx="79920" cy="91080"/>
              <a:chOff x="6255000" y="776160"/>
              <a:chExt cx="79920" cy="91080"/>
            </a:xfrm>
          </p:grpSpPr>
          <p:sp>
            <p:nvSpPr>
              <p:cNvPr id="418" name=""/>
              <p:cNvSpPr/>
              <p:nvPr/>
            </p:nvSpPr>
            <p:spPr>
              <a:xfrm>
                <a:off x="6255000" y="8200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6255000" y="776160"/>
                <a:ext cx="79920" cy="91080"/>
                <a:chOff x="6255000" y="776160"/>
                <a:chExt cx="79920" cy="91080"/>
              </a:xfrm>
            </p:grpSpPr>
            <p:sp>
              <p:nvSpPr>
                <p:cNvPr id="420" name=""/>
                <p:cNvSpPr/>
                <p:nvPr/>
              </p:nvSpPr>
              <p:spPr>
                <a:xfrm flipH="1">
                  <a:off x="6255000" y="776160"/>
                  <a:ext cx="7920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255000" y="776160"/>
                  <a:ext cx="7992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2" name=""/>
            <p:cNvSpPr/>
            <p:nvPr/>
          </p:nvSpPr>
          <p:spPr>
            <a:xfrm>
              <a:off x="6246720" y="889560"/>
              <a:ext cx="1015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941080" y="306360"/>
            <a:ext cx="505080" cy="370800"/>
            <a:chOff x="5941080" y="306360"/>
            <a:chExt cx="505080" cy="370800"/>
          </a:xfrm>
        </p:grpSpPr>
        <p:grpSp>
          <p:nvGrpSpPr>
            <p:cNvPr id="424" name=""/>
            <p:cNvGrpSpPr/>
            <p:nvPr/>
          </p:nvGrpSpPr>
          <p:grpSpPr>
            <a:xfrm>
              <a:off x="5941080" y="306360"/>
              <a:ext cx="505080" cy="370800"/>
              <a:chOff x="5941080" y="306360"/>
              <a:chExt cx="505080" cy="3708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6131880" y="381960"/>
                <a:ext cx="314280" cy="295200"/>
                <a:chOff x="6131880" y="381960"/>
                <a:chExt cx="314280" cy="295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6131880" y="381960"/>
                  <a:ext cx="314280" cy="29520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134760" y="383040"/>
                  <a:ext cx="303120" cy="28908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8" name=""/>
              <p:cNvSpPr/>
              <p:nvPr/>
            </p:nvSpPr>
            <p:spPr>
              <a:xfrm>
                <a:off x="5941080" y="3063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6108480" y="384120"/>
              <a:ext cx="3178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D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12080" y="4824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2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302520" y="668160"/>
            <a:ext cx="0" cy="1209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968800" y="504720"/>
            <a:ext cx="1616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969160" y="504720"/>
            <a:ext cx="0" cy="4222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45080" y="512640"/>
            <a:ext cx="1270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72160" y="512640"/>
            <a:ext cx="0" cy="406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5699160" y="2016000"/>
            <a:ext cx="101520" cy="179280"/>
            <a:chOff x="5699160" y="2016000"/>
            <a:chExt cx="101520" cy="179280"/>
          </a:xfrm>
        </p:grpSpPr>
        <p:sp>
          <p:nvSpPr>
            <p:cNvPr id="437" name=""/>
            <p:cNvSpPr/>
            <p:nvPr/>
          </p:nvSpPr>
          <p:spPr>
            <a:xfrm flipV="1">
              <a:off x="5749560" y="2064600"/>
              <a:ext cx="0" cy="9252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5707440" y="2016000"/>
              <a:ext cx="79920" cy="91800"/>
              <a:chOff x="5707440" y="2016000"/>
              <a:chExt cx="79920" cy="91800"/>
            </a:xfrm>
          </p:grpSpPr>
          <p:sp>
            <p:nvSpPr>
              <p:cNvPr id="439" name=""/>
              <p:cNvSpPr/>
              <p:nvPr/>
            </p:nvSpPr>
            <p:spPr>
              <a:xfrm>
                <a:off x="5707440" y="20602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440" name=""/>
              <p:cNvGrpSpPr/>
              <p:nvPr/>
            </p:nvGrpSpPr>
            <p:grpSpPr>
              <a:xfrm>
                <a:off x="5707440" y="2016000"/>
                <a:ext cx="79920" cy="91800"/>
                <a:chOff x="5707440" y="2016000"/>
                <a:chExt cx="79920" cy="91800"/>
              </a:xfrm>
            </p:grpSpPr>
            <p:sp>
              <p:nvSpPr>
                <p:cNvPr id="441" name=""/>
                <p:cNvSpPr/>
                <p:nvPr/>
              </p:nvSpPr>
              <p:spPr>
                <a:xfrm flipH="1">
                  <a:off x="5707440" y="2016000"/>
                  <a:ext cx="7920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707440" y="2016000"/>
                  <a:ext cx="7992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3" name=""/>
            <p:cNvSpPr/>
            <p:nvPr/>
          </p:nvSpPr>
          <p:spPr>
            <a:xfrm>
              <a:off x="5699160" y="2130480"/>
              <a:ext cx="101520" cy="6480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 flipV="1">
            <a:off x="5746680" y="550800"/>
            <a:ext cx="0" cy="14637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16400" y="555480"/>
            <a:ext cx="1430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7269120" y="789120"/>
            <a:ext cx="0" cy="3715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269120" y="789120"/>
            <a:ext cx="105264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7485120" y="642960"/>
            <a:ext cx="101520" cy="177840"/>
            <a:chOff x="7485120" y="642960"/>
            <a:chExt cx="101520" cy="177840"/>
          </a:xfrm>
        </p:grpSpPr>
        <p:sp>
          <p:nvSpPr>
            <p:cNvPr id="449" name=""/>
            <p:cNvSpPr/>
            <p:nvPr/>
          </p:nvSpPr>
          <p:spPr>
            <a:xfrm flipV="1">
              <a:off x="7535520" y="6915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7493400" y="642960"/>
              <a:ext cx="79920" cy="91080"/>
              <a:chOff x="7493400" y="642960"/>
              <a:chExt cx="79920" cy="91080"/>
            </a:xfrm>
          </p:grpSpPr>
          <p:sp>
            <p:nvSpPr>
              <p:cNvPr id="451" name=""/>
              <p:cNvSpPr/>
              <p:nvPr/>
            </p:nvSpPr>
            <p:spPr>
              <a:xfrm>
                <a:off x="7493400" y="686880"/>
                <a:ext cx="792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7493400" y="642960"/>
                <a:ext cx="79920" cy="91080"/>
                <a:chOff x="7493400" y="642960"/>
                <a:chExt cx="79920" cy="91080"/>
              </a:xfrm>
            </p:grpSpPr>
            <p:sp>
              <p:nvSpPr>
                <p:cNvPr id="453" name=""/>
                <p:cNvSpPr/>
                <p:nvPr/>
              </p:nvSpPr>
              <p:spPr>
                <a:xfrm flipH="1">
                  <a:off x="7493400" y="642960"/>
                  <a:ext cx="7920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493400" y="642960"/>
                  <a:ext cx="7992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5" name=""/>
            <p:cNvSpPr/>
            <p:nvPr/>
          </p:nvSpPr>
          <p:spPr>
            <a:xfrm>
              <a:off x="7485120" y="756360"/>
              <a:ext cx="1015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7178040" y="210960"/>
            <a:ext cx="504720" cy="371520"/>
            <a:chOff x="7178040" y="210960"/>
            <a:chExt cx="504720" cy="371520"/>
          </a:xfrm>
        </p:grpSpPr>
        <p:grpSp>
          <p:nvGrpSpPr>
            <p:cNvPr id="457" name=""/>
            <p:cNvGrpSpPr/>
            <p:nvPr/>
          </p:nvGrpSpPr>
          <p:grpSpPr>
            <a:xfrm>
              <a:off x="7178040" y="210960"/>
              <a:ext cx="504720" cy="371520"/>
              <a:chOff x="7178040" y="210960"/>
              <a:chExt cx="504720" cy="37152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7368840" y="286920"/>
                <a:ext cx="313920" cy="295560"/>
                <a:chOff x="7368840" y="286920"/>
                <a:chExt cx="313920" cy="2955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7368840" y="28692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371720" y="28800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7178040" y="2109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7378560" y="264960"/>
              <a:ext cx="2750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H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40400" y="38556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5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 flipH="1" flipV="1">
            <a:off x="7534080" y="574560"/>
            <a:ext cx="4680" cy="68400"/>
          </a:xfrm>
          <a:prstGeom prst="line">
            <a:avLst/>
          </a:prstGeom>
          <a:ln w="9360">
            <a:solidFill>
              <a:srgbClr val="d1d1c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361120" y="1058400"/>
            <a:ext cx="0" cy="17316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359320" y="1773360"/>
            <a:ext cx="0" cy="13968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3960" y="1857240"/>
            <a:ext cx="6044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Cooling water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65520" y="1108080"/>
            <a:ext cx="5526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09440" y="4848120"/>
            <a:ext cx="68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900" spc="-1" strike="noStrike">
                <a:solidFill>
                  <a:srgbClr val="002569"/>
                </a:solidFill>
                <a:latin typeface="Times New Roman"/>
              </a:rPr>
              <a:t>24-VE-107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198880" y="1711440"/>
            <a:ext cx="505440" cy="372240"/>
            <a:chOff x="2198880" y="1711440"/>
            <a:chExt cx="505440" cy="372240"/>
          </a:xfrm>
        </p:grpSpPr>
        <p:grpSp>
          <p:nvGrpSpPr>
            <p:cNvPr id="471" name=""/>
            <p:cNvGrpSpPr/>
            <p:nvPr/>
          </p:nvGrpSpPr>
          <p:grpSpPr>
            <a:xfrm>
              <a:off x="2198880" y="1711440"/>
              <a:ext cx="505440" cy="372240"/>
              <a:chOff x="2198880" y="1711440"/>
              <a:chExt cx="505440" cy="37224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2390400" y="1787400"/>
                <a:ext cx="313920" cy="296280"/>
                <a:chOff x="2390400" y="1787400"/>
                <a:chExt cx="313920" cy="2962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2390400" y="1787400"/>
                  <a:ext cx="313920" cy="29628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393280" y="1788480"/>
                  <a:ext cx="302760" cy="29016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2198880" y="17114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396160" y="176220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61960" y="18878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1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 flipH="1">
            <a:off x="2719440" y="1927080"/>
            <a:ext cx="162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00320" y="2238480"/>
            <a:ext cx="505800" cy="369360"/>
            <a:chOff x="2200320" y="2238480"/>
            <a:chExt cx="505800" cy="369360"/>
          </a:xfrm>
        </p:grpSpPr>
        <p:grpSp>
          <p:nvGrpSpPr>
            <p:cNvPr id="480" name=""/>
            <p:cNvGrpSpPr/>
            <p:nvPr/>
          </p:nvGrpSpPr>
          <p:grpSpPr>
            <a:xfrm>
              <a:off x="2200320" y="2238480"/>
              <a:ext cx="505800" cy="369360"/>
              <a:chOff x="2200320" y="2238480"/>
              <a:chExt cx="505800" cy="36936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2391840" y="2313720"/>
                <a:ext cx="314280" cy="294120"/>
                <a:chOff x="2391840" y="2313720"/>
                <a:chExt cx="314280" cy="2941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2391840" y="231372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394720" y="231480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2200320" y="223848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2397960" y="229212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64120" y="24134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7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 flipH="1">
            <a:off x="2714400" y="2468520"/>
            <a:ext cx="16164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2044800" y="3589200"/>
            <a:ext cx="505440" cy="371520"/>
            <a:chOff x="2044800" y="3589200"/>
            <a:chExt cx="505440" cy="371520"/>
          </a:xfrm>
        </p:grpSpPr>
        <p:grpSp>
          <p:nvGrpSpPr>
            <p:cNvPr id="489" name=""/>
            <p:cNvGrpSpPr/>
            <p:nvPr/>
          </p:nvGrpSpPr>
          <p:grpSpPr>
            <a:xfrm>
              <a:off x="2044800" y="3589200"/>
              <a:ext cx="505440" cy="371520"/>
              <a:chOff x="2044800" y="3589200"/>
              <a:chExt cx="505440" cy="37152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236320" y="3665160"/>
                <a:ext cx="313920" cy="295560"/>
                <a:chOff x="2236320" y="3665160"/>
                <a:chExt cx="313920" cy="29556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2236320" y="366516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239200" y="366624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2044800" y="35892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2243160" y="364320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07880" y="37638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2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 flipH="1">
            <a:off x="2567160" y="3807000"/>
            <a:ext cx="225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462400" y="404640"/>
            <a:ext cx="505440" cy="371520"/>
            <a:chOff x="2462400" y="404640"/>
            <a:chExt cx="505440" cy="371520"/>
          </a:xfrm>
        </p:grpSpPr>
        <p:grpSp>
          <p:nvGrpSpPr>
            <p:cNvPr id="498" name=""/>
            <p:cNvGrpSpPr/>
            <p:nvPr/>
          </p:nvGrpSpPr>
          <p:grpSpPr>
            <a:xfrm>
              <a:off x="2462400" y="404640"/>
              <a:ext cx="505440" cy="371520"/>
              <a:chOff x="2462400" y="404640"/>
              <a:chExt cx="505440" cy="37152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2653920" y="480600"/>
                <a:ext cx="313920" cy="295560"/>
                <a:chOff x="2653920" y="480600"/>
                <a:chExt cx="313920" cy="29556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2653920" y="480600"/>
                  <a:ext cx="31392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656800" y="481680"/>
                  <a:ext cx="30276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2462400" y="4046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2660400" y="458640"/>
              <a:ext cx="2386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25480" y="57924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4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2968560" y="608040"/>
            <a:ext cx="28728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55840" y="608040"/>
            <a:ext cx="0" cy="3110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791520" y="3362400"/>
            <a:ext cx="503640" cy="371520"/>
            <a:chOff x="3791520" y="3362400"/>
            <a:chExt cx="503640" cy="371520"/>
          </a:xfrm>
        </p:grpSpPr>
        <p:grpSp>
          <p:nvGrpSpPr>
            <p:cNvPr id="508" name=""/>
            <p:cNvGrpSpPr/>
            <p:nvPr/>
          </p:nvGrpSpPr>
          <p:grpSpPr>
            <a:xfrm>
              <a:off x="3791520" y="3362400"/>
              <a:ext cx="503640" cy="371520"/>
              <a:chOff x="3791520" y="3362400"/>
              <a:chExt cx="503640" cy="37152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3981960" y="3438360"/>
                <a:ext cx="313200" cy="295560"/>
                <a:chOff x="3981960" y="3438360"/>
                <a:chExt cx="313200" cy="2955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3981960" y="3438360"/>
                  <a:ext cx="313200" cy="29556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984840" y="3439440"/>
                  <a:ext cx="302040" cy="28944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3791520" y="336240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3988440" y="3416400"/>
              <a:ext cx="2674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PD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53520" y="35370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9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4145040" y="3732120"/>
            <a:ext cx="0" cy="9493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127400" y="1203480"/>
            <a:ext cx="0" cy="223488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3190680" y="1203480"/>
            <a:ext cx="93636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3605040" y="4672080"/>
            <a:ext cx="540000" cy="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2080" y="2197080"/>
            <a:ext cx="1017360" cy="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08640" y="2197080"/>
            <a:ext cx="0" cy="157788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10080" y="3782880"/>
            <a:ext cx="3852720" cy="0"/>
          </a:xfrm>
          <a:prstGeom prst="line">
            <a:avLst/>
          </a:prstGeom>
          <a:ln w="1908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8362800" y="3456000"/>
            <a:ext cx="0" cy="326880"/>
          </a:xfrm>
          <a:prstGeom prst="line">
            <a:avLst/>
          </a:prstGeom>
          <a:ln w="19080">
            <a:solidFill>
              <a:srgbClr val="0025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684680" y="3164040"/>
            <a:ext cx="505800" cy="369360"/>
            <a:chOff x="4684680" y="3164040"/>
            <a:chExt cx="505800" cy="369360"/>
          </a:xfrm>
        </p:grpSpPr>
        <p:grpSp>
          <p:nvGrpSpPr>
            <p:cNvPr id="524" name=""/>
            <p:cNvGrpSpPr/>
            <p:nvPr/>
          </p:nvGrpSpPr>
          <p:grpSpPr>
            <a:xfrm>
              <a:off x="4684680" y="3164040"/>
              <a:ext cx="505800" cy="369360"/>
              <a:chOff x="4684680" y="3164040"/>
              <a:chExt cx="505800" cy="36936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4876200" y="3239280"/>
                <a:ext cx="314280" cy="294120"/>
                <a:chOff x="4876200" y="3239280"/>
                <a:chExt cx="314280" cy="2941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4876200" y="323928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879080" y="324036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>
                <a:off x="4684680" y="316404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4883760" y="3219120"/>
              <a:ext cx="2628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FC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848480" y="33390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9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978440" y="3641760"/>
            <a:ext cx="103320" cy="177840"/>
            <a:chOff x="4978440" y="3641760"/>
            <a:chExt cx="103320" cy="177840"/>
          </a:xfrm>
        </p:grpSpPr>
        <p:sp>
          <p:nvSpPr>
            <p:cNvPr id="532" name=""/>
            <p:cNvSpPr/>
            <p:nvPr/>
          </p:nvSpPr>
          <p:spPr>
            <a:xfrm flipV="1">
              <a:off x="5029920" y="3690360"/>
              <a:ext cx="0" cy="9144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4986720" y="3641760"/>
              <a:ext cx="81360" cy="91080"/>
              <a:chOff x="4986720" y="3641760"/>
              <a:chExt cx="81360" cy="91080"/>
            </a:xfrm>
          </p:grpSpPr>
          <p:sp>
            <p:nvSpPr>
              <p:cNvPr id="534" name=""/>
              <p:cNvSpPr/>
              <p:nvPr/>
            </p:nvSpPr>
            <p:spPr>
              <a:xfrm>
                <a:off x="4986720" y="3685680"/>
                <a:ext cx="8064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4986720" y="3641760"/>
                <a:ext cx="81360" cy="91080"/>
                <a:chOff x="4986720" y="3641760"/>
                <a:chExt cx="81360" cy="91080"/>
              </a:xfrm>
            </p:grpSpPr>
            <p:sp>
              <p:nvSpPr>
                <p:cNvPr id="536" name=""/>
                <p:cNvSpPr/>
                <p:nvPr/>
              </p:nvSpPr>
              <p:spPr>
                <a:xfrm flipH="1">
                  <a:off x="4986720" y="3641760"/>
                  <a:ext cx="8064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986720" y="3641760"/>
                  <a:ext cx="81360" cy="9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8" name=""/>
            <p:cNvSpPr/>
            <p:nvPr/>
          </p:nvSpPr>
          <p:spPr>
            <a:xfrm>
              <a:off x="4978440" y="3755160"/>
              <a:ext cx="103320" cy="6444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 flipV="1">
            <a:off x="5033880" y="3512880"/>
            <a:ext cx="0" cy="1285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695840" y="3406680"/>
            <a:ext cx="0" cy="379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711680" y="3405240"/>
            <a:ext cx="169920" cy="144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392800" y="3166920"/>
            <a:ext cx="505800" cy="369720"/>
            <a:chOff x="5392800" y="3166920"/>
            <a:chExt cx="505800" cy="369720"/>
          </a:xfrm>
        </p:grpSpPr>
        <p:grpSp>
          <p:nvGrpSpPr>
            <p:cNvPr id="543" name=""/>
            <p:cNvGrpSpPr/>
            <p:nvPr/>
          </p:nvGrpSpPr>
          <p:grpSpPr>
            <a:xfrm>
              <a:off x="5392800" y="3166920"/>
              <a:ext cx="505800" cy="369720"/>
              <a:chOff x="5392800" y="3166920"/>
              <a:chExt cx="505800" cy="36972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5584320" y="3242520"/>
                <a:ext cx="314280" cy="294120"/>
                <a:chOff x="5584320" y="3242520"/>
                <a:chExt cx="314280" cy="2941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584320" y="3242520"/>
                  <a:ext cx="314280" cy="29412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587200" y="3243600"/>
                  <a:ext cx="303120" cy="28800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7" name=""/>
              <p:cNvSpPr/>
              <p:nvPr/>
            </p:nvSpPr>
            <p:spPr>
              <a:xfrm>
                <a:off x="5392800" y="316692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4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5591160" y="3220560"/>
              <a:ext cx="2430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T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56600" y="334080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13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5743440" y="3543480"/>
            <a:ext cx="0" cy="23940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614480" y="3759120"/>
            <a:ext cx="176724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Normally 0 flow, used for start-ups to remove inerts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9068400" y="3201840"/>
            <a:ext cx="459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Propane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876800" y="500040"/>
            <a:ext cx="351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Flare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8448840" y="2887560"/>
            <a:ext cx="505440" cy="372600"/>
            <a:chOff x="8448840" y="2887560"/>
            <a:chExt cx="505440" cy="372600"/>
          </a:xfrm>
        </p:grpSpPr>
        <p:grpSp>
          <p:nvGrpSpPr>
            <p:cNvPr id="555" name=""/>
            <p:cNvGrpSpPr/>
            <p:nvPr/>
          </p:nvGrpSpPr>
          <p:grpSpPr>
            <a:xfrm>
              <a:off x="8448840" y="2887560"/>
              <a:ext cx="505440" cy="372600"/>
              <a:chOff x="8448840" y="2887560"/>
              <a:chExt cx="505440" cy="37260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8640360" y="2963520"/>
                <a:ext cx="313920" cy="296640"/>
                <a:chOff x="8640360" y="2963520"/>
                <a:chExt cx="313920" cy="2966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8640360" y="2963520"/>
                  <a:ext cx="313920" cy="296640"/>
                </a:xfrm>
                <a:prstGeom prst="rect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643240" y="2964600"/>
                  <a:ext cx="302760" cy="290520"/>
                </a:xfrm>
                <a:prstGeom prst="ellipse">
                  <a:avLst/>
                </a:pr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8448840" y="2887560"/>
                <a:ext cx="2462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tabLst>
                    <a:tab algn="l" pos="0"/>
                    <a:tab algn="l" pos="847800"/>
                    <a:tab algn="l" pos="1695600"/>
                    <a:tab algn="l" pos="2543040"/>
                    <a:tab algn="l" pos="3390840"/>
                    <a:tab algn="l" pos="4238640"/>
                    <a:tab algn="l" pos="5086440"/>
                    <a:tab algn="l" pos="5934240"/>
                    <a:tab algn="l" pos="6781680"/>
                    <a:tab algn="l" pos="7629480"/>
                    <a:tab algn="l" pos="8477280"/>
                    <a:tab algn="l" pos="9325080"/>
                    <a:tab algn="l" pos="10172880"/>
                  </a:tabLst>
                </a:pPr>
                <a:r>
                  <a:rPr b="0" lang="nb-NO" sz="600" spc="-1" strike="noStrike">
                    <a:solidFill>
                      <a:srgbClr val="002569"/>
                    </a:solidFill>
                    <a:latin typeface="Times New Roman"/>
                  </a:rPr>
                  <a:t>25</a:t>
                </a:r>
                <a:endParaRPr b="0" lang="en-US" sz="6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8646840" y="2941560"/>
              <a:ext cx="23868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FI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11920" y="3064320"/>
              <a:ext cx="32220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1003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8818560" y="3263760"/>
            <a:ext cx="0" cy="17316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79280" y="3325680"/>
            <a:ext cx="2608200" cy="0"/>
          </a:xfrm>
          <a:prstGeom prst="line">
            <a:avLst/>
          </a:prstGeom>
          <a:ln w="28440">
            <a:solidFill>
              <a:srgbClr val="0025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480" y="2506680"/>
            <a:ext cx="553680" cy="386640"/>
            <a:chOff x="6480" y="2506680"/>
            <a:chExt cx="553680" cy="386640"/>
          </a:xfrm>
        </p:grpSpPr>
        <p:grpSp>
          <p:nvGrpSpPr>
            <p:cNvPr id="565" name=""/>
            <p:cNvGrpSpPr/>
            <p:nvPr/>
          </p:nvGrpSpPr>
          <p:grpSpPr>
            <a:xfrm>
              <a:off x="216360" y="2585520"/>
              <a:ext cx="343800" cy="307800"/>
              <a:chOff x="216360" y="2585520"/>
              <a:chExt cx="343800" cy="307800"/>
            </a:xfrm>
          </p:grpSpPr>
          <p:sp>
            <p:nvSpPr>
              <p:cNvPr id="566" name=""/>
              <p:cNvSpPr/>
              <p:nvPr/>
            </p:nvSpPr>
            <p:spPr>
              <a:xfrm>
                <a:off x="216360" y="2585520"/>
                <a:ext cx="343800" cy="307800"/>
              </a:xfrm>
              <a:prstGeom prst="rect">
                <a:avLst/>
              </a:prstGeom>
              <a:noFill/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19600" y="2586600"/>
                <a:ext cx="331560" cy="301320"/>
              </a:xfrm>
              <a:prstGeom prst="ellipse">
                <a:avLst/>
              </a:prstGeom>
              <a:noFill/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6480" y="2506680"/>
              <a:ext cx="2462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24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2440" y="2603520"/>
            <a:ext cx="2430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TI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6080" y="270972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05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898560" y="3191040"/>
            <a:ext cx="92160" cy="164880"/>
            <a:chOff x="898560" y="3191040"/>
            <a:chExt cx="92160" cy="164880"/>
          </a:xfrm>
        </p:grpSpPr>
        <p:sp>
          <p:nvSpPr>
            <p:cNvPr id="572" name=""/>
            <p:cNvSpPr/>
            <p:nvPr/>
          </p:nvSpPr>
          <p:spPr>
            <a:xfrm flipV="1">
              <a:off x="944280" y="3236040"/>
              <a:ext cx="0" cy="84960"/>
            </a:xfrm>
            <a:prstGeom prst="line">
              <a:avLst/>
            </a:prstGeom>
            <a:ln w="936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906120" y="3191040"/>
              <a:ext cx="72720" cy="84600"/>
              <a:chOff x="906120" y="3191040"/>
              <a:chExt cx="72720" cy="84600"/>
            </a:xfrm>
          </p:grpSpPr>
          <p:sp>
            <p:nvSpPr>
              <p:cNvPr id="574" name=""/>
              <p:cNvSpPr/>
              <p:nvPr/>
            </p:nvSpPr>
            <p:spPr>
              <a:xfrm>
                <a:off x="906120" y="3231720"/>
                <a:ext cx="72000" cy="0"/>
              </a:xfrm>
              <a:prstGeom prst="line">
                <a:avLst/>
              </a:prstGeom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906120" y="3191040"/>
                <a:ext cx="72720" cy="84600"/>
                <a:chOff x="906120" y="3191040"/>
                <a:chExt cx="72720" cy="84600"/>
              </a:xfrm>
            </p:grpSpPr>
            <p:sp>
              <p:nvSpPr>
                <p:cNvPr id="576" name=""/>
                <p:cNvSpPr/>
                <p:nvPr/>
              </p:nvSpPr>
              <p:spPr>
                <a:xfrm flipH="1">
                  <a:off x="906120" y="3191040"/>
                  <a:ext cx="72000" cy="84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906120" y="3191040"/>
                  <a:ext cx="72720" cy="84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25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256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8" name=""/>
            <p:cNvSpPr/>
            <p:nvPr/>
          </p:nvSpPr>
          <p:spPr>
            <a:xfrm>
              <a:off x="898560" y="3296160"/>
              <a:ext cx="92160" cy="5976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0"/>
                  </a:moveTo>
                  <a:lnTo>
                    <a:pt x="144" y="48"/>
                  </a:lnTo>
                  <a:lnTo>
                    <a:pt x="144" y="0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569"/>
            </a:solidFill>
            <a:ln w="9360">
              <a:solidFill>
                <a:srgbClr val="0025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944640" y="2908440"/>
            <a:ext cx="4680" cy="280800"/>
          </a:xfrm>
          <a:prstGeom prst="line">
            <a:avLst/>
          </a:prstGeom>
          <a:ln w="1260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69880" y="2503440"/>
            <a:ext cx="526680" cy="388800"/>
            <a:chOff x="569880" y="2503440"/>
            <a:chExt cx="526680" cy="388800"/>
          </a:xfrm>
        </p:grpSpPr>
        <p:grpSp>
          <p:nvGrpSpPr>
            <p:cNvPr id="581" name=""/>
            <p:cNvGrpSpPr/>
            <p:nvPr/>
          </p:nvGrpSpPr>
          <p:grpSpPr>
            <a:xfrm>
              <a:off x="769680" y="2583000"/>
              <a:ext cx="326880" cy="309240"/>
              <a:chOff x="769680" y="2583000"/>
              <a:chExt cx="326880" cy="309240"/>
            </a:xfrm>
          </p:grpSpPr>
          <p:sp>
            <p:nvSpPr>
              <p:cNvPr id="582" name=""/>
              <p:cNvSpPr/>
              <p:nvPr/>
            </p:nvSpPr>
            <p:spPr>
              <a:xfrm>
                <a:off x="769680" y="2583000"/>
                <a:ext cx="326880" cy="309240"/>
              </a:xfrm>
              <a:prstGeom prst="rect">
                <a:avLst/>
              </a:prstGeom>
              <a:noFill/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72560" y="2584080"/>
                <a:ext cx="315360" cy="302760"/>
              </a:xfrm>
              <a:prstGeom prst="ellipse">
                <a:avLst/>
              </a:prstGeom>
              <a:noFill/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569880" y="2503440"/>
              <a:ext cx="246240" cy="1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600" spc="-1" strike="noStrike">
                  <a:solidFill>
                    <a:srgbClr val="002569"/>
                  </a:solidFill>
                  <a:latin typeface="Times New Roman"/>
                </a:rPr>
                <a:t>24</a:t>
              </a:r>
              <a:endParaRPr b="0" lang="en-US" sz="6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807480" y="2590920"/>
            <a:ext cx="26748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LC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81920" y="2695680"/>
            <a:ext cx="32220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600" spc="-1" strike="noStrike">
                <a:solidFill>
                  <a:srgbClr val="002569"/>
                </a:solidFill>
                <a:latin typeface="Times New Roman"/>
              </a:rPr>
              <a:t>1001</a:t>
            </a:r>
            <a:endParaRPr b="0" lang="en-US" sz="6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720" y="2879640"/>
            <a:ext cx="0" cy="439920"/>
          </a:xfrm>
          <a:prstGeom prst="line">
            <a:avLst/>
          </a:prstGeom>
          <a:ln w="9360">
            <a:solidFill>
              <a:srgbClr val="0025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9000" y="3319560"/>
            <a:ext cx="10461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nb-NO" sz="700" spc="-1" strike="noStrike">
                <a:solidFill>
                  <a:srgbClr val="002569"/>
                </a:solidFill>
                <a:latin typeface="Times New Roman"/>
              </a:rPr>
              <a:t>Bottoms from deetaniser</a:t>
            </a:r>
            <a:endParaRPr b="0" lang="en-US" sz="700" spc="-1" strike="noStrike">
              <a:solidFill>
                <a:srgbClr val="00256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87640" y="69840"/>
            <a:ext cx="2775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1300" spc="-1" strike="noStrike">
                <a:solidFill>
                  <a:srgbClr val="002569"/>
                </a:solidFill>
                <a:latin typeface="Times New Roman"/>
              </a:rPr>
              <a:t>Depropaniser Train 100 – 24-VE-107</a:t>
            </a:r>
            <a:endParaRPr b="0" lang="en-US" sz="13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8780400" y="5121000"/>
            <a:ext cx="390600" cy="1701360"/>
            <a:chOff x="8780400" y="5121000"/>
            <a:chExt cx="390600" cy="1701360"/>
          </a:xfrm>
        </p:grpSpPr>
        <p:sp>
          <p:nvSpPr>
            <p:cNvPr id="591" name=""/>
            <p:cNvSpPr/>
            <p:nvPr/>
          </p:nvSpPr>
          <p:spPr>
            <a:xfrm rot="16200000">
              <a:off x="8920800" y="4980600"/>
              <a:ext cx="107640" cy="388440"/>
            </a:xfrm>
            <a:prstGeom prst="flowChartDelay">
              <a:avLst/>
            </a:prstGeom>
            <a:noFill/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 rot="5400000">
              <a:off x="8921520" y="6573600"/>
              <a:ext cx="107640" cy="388800"/>
            </a:xfrm>
            <a:prstGeom prst="flowChartDelay">
              <a:avLst/>
            </a:prstGeom>
            <a:noFill/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780400" y="5174280"/>
              <a:ext cx="390600" cy="1599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25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 flipV="1">
            <a:off x="8980560" y="4654080"/>
            <a:ext cx="0" cy="466920"/>
          </a:xfrm>
          <a:prstGeom prst="line">
            <a:avLst/>
          </a:prstGeom>
          <a:ln w="2844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8839440" y="4476600"/>
            <a:ext cx="985320" cy="428040"/>
            <a:chOff x="8839440" y="4476600"/>
            <a:chExt cx="985320" cy="428040"/>
          </a:xfrm>
        </p:grpSpPr>
        <p:grpSp>
          <p:nvGrpSpPr>
            <p:cNvPr id="596" name=""/>
            <p:cNvGrpSpPr/>
            <p:nvPr/>
          </p:nvGrpSpPr>
          <p:grpSpPr>
            <a:xfrm>
              <a:off x="9033480" y="4529520"/>
              <a:ext cx="334080" cy="333000"/>
              <a:chOff x="9033480" y="4529520"/>
              <a:chExt cx="334080" cy="333000"/>
            </a:xfrm>
          </p:grpSpPr>
          <p:sp>
            <p:nvSpPr>
              <p:cNvPr id="597" name=""/>
              <p:cNvSpPr/>
              <p:nvPr/>
            </p:nvSpPr>
            <p:spPr>
              <a:xfrm>
                <a:off x="9033480" y="4529520"/>
                <a:ext cx="334080" cy="333000"/>
              </a:xfrm>
              <a:prstGeom prst="rect">
                <a:avLst/>
              </a:prstGeom>
              <a:noFill/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9036360" y="4530600"/>
                <a:ext cx="322200" cy="326160"/>
              </a:xfrm>
              <a:prstGeom prst="ellipse">
                <a:avLst/>
              </a:prstGeom>
              <a:noFill/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8839440" y="4476600"/>
              <a:ext cx="25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051840" y="4543920"/>
              <a:ext cx="2934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AR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010080" y="4658400"/>
              <a:ext cx="346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1005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356040" y="4499640"/>
              <a:ext cx="4687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C = C3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E = nC4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F = C5+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7436880" y="5611680"/>
            <a:ext cx="13204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nb-NO" sz="900" spc="-1" strike="noStrike">
                <a:solidFill>
                  <a:srgbClr val="002569"/>
                </a:solidFill>
                <a:latin typeface="Times New Roman"/>
              </a:rPr>
              <a:t>Debutaniser 24-VE-108</a:t>
            </a:r>
            <a:endParaRPr b="0" lang="en-US" sz="900" spc="-1" strike="noStrike">
              <a:solidFill>
                <a:srgbClr val="002569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037040" y="934920"/>
            <a:ext cx="974880" cy="428040"/>
            <a:chOff x="4037040" y="934920"/>
            <a:chExt cx="974880" cy="428040"/>
          </a:xfrm>
        </p:grpSpPr>
        <p:grpSp>
          <p:nvGrpSpPr>
            <p:cNvPr id="605" name=""/>
            <p:cNvGrpSpPr/>
            <p:nvPr/>
          </p:nvGrpSpPr>
          <p:grpSpPr>
            <a:xfrm>
              <a:off x="4231080" y="987480"/>
              <a:ext cx="334440" cy="331920"/>
              <a:chOff x="4231080" y="987480"/>
              <a:chExt cx="334440" cy="331920"/>
            </a:xfrm>
          </p:grpSpPr>
          <p:sp>
            <p:nvSpPr>
              <p:cNvPr id="606" name=""/>
              <p:cNvSpPr/>
              <p:nvPr/>
            </p:nvSpPr>
            <p:spPr>
              <a:xfrm>
                <a:off x="4231080" y="987480"/>
                <a:ext cx="334440" cy="331920"/>
              </a:xfrm>
              <a:prstGeom prst="rect">
                <a:avLst/>
              </a:prstGeom>
              <a:noFill/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233960" y="988560"/>
                <a:ext cx="322560" cy="325080"/>
              </a:xfrm>
              <a:prstGeom prst="ellipse">
                <a:avLst/>
              </a:prstGeom>
              <a:noFill/>
              <a:ln w="9360">
                <a:solidFill>
                  <a:srgbClr val="0025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569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4037040" y="934920"/>
              <a:ext cx="25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50160" y="1002240"/>
              <a:ext cx="2934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AR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08400" y="1116000"/>
              <a:ext cx="346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1008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54000" y="957960"/>
              <a:ext cx="4579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B = C2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C = C3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nb-NO" sz="700" spc="-1" strike="noStrike">
                  <a:solidFill>
                    <a:srgbClr val="002569"/>
                  </a:solidFill>
                  <a:latin typeface="Times New Roman"/>
                </a:rPr>
                <a:t>D = iC4</a:t>
              </a:r>
              <a:endParaRPr b="0" lang="en-US" sz="700" spc="-1" strike="noStrike">
                <a:solidFill>
                  <a:srgbClr val="00256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386CB-FDEA-4AAC-9F95-890F41A71B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07:04:33Z</dcterms:created>
  <dc:creator>Strand, Stig</dc:creator>
  <dc:description/>
  <dc:language>en-US</dc:language>
  <cp:lastModifiedBy>Sigurd Skogestad</cp:lastModifiedBy>
  <cp:lastPrinted>1998-12-03T11:09:54Z</cp:lastPrinted>
  <dcterms:modified xsi:type="dcterms:W3CDTF">2006-10-02T07:51:59Z</dcterms:modified>
  <cp:revision>13</cp:revision>
  <dc:subject/>
  <dc:title>MPC – Crude Distillation Un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">
    <vt:lpwstr>Strand, Stig</vt:lpwstr>
  </property>
  <property fmtid="{D5CDD505-2E9C-101B-9397-08002B2CF9AE}" pid="3" name="Created date">
    <vt:lpwstr>2005-04-27T09:04:33Z</vt:lpwstr>
  </property>
  <property fmtid="{D5CDD505-2E9C-101B-9397-08002B2CF9AE}" pid="4" name="Document type">
    <vt:lpwstr>Presentation</vt:lpwstr>
  </property>
  <property fmtid="{D5CDD505-2E9C-101B-9397-08002B2CF9AE}" pid="5" name="Expiry Date">
    <vt:lpwstr>2006-04-27T00:00:00Z</vt:lpwstr>
  </property>
  <property fmtid="{D5CDD505-2E9C-101B-9397-08002B2CF9AE}" pid="6" name="Status">
    <vt:lpwstr>Draft</vt:lpwstr>
  </property>
</Properties>
</file>